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6C7-EEAA-4BB3-B203-362E2790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316-8C44-4C05-97B0-A500361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ADA-8D74-416D-990B-39B14F3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B8D-5D93-42BB-83A2-6B7FF06A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187-B9A9-4BBD-8AAD-C3B17683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3F6-1C7D-42B8-8692-D06039F7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106-2E62-414F-AB38-2C55484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BF7-6BA6-4420-8D7D-42C929A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AD7-BC64-4E5E-9F60-ED937AA2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664-2787-4800-ABDA-D7B3955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F0D-38C4-42E1-9CBD-176B4BEB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9F6-363C-4F90-A596-CE28731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C304-BF79-4203-8B53-0DC007FEFA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October 5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Warm - up:  Write each number below in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expanded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) 80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) 92,400 =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) 174,925 =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8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9880" y="1687680"/>
            <a:ext cx="1625400" cy="90360"/>
          </a:xfrm>
          <a:custGeom>
            <a:avLst/>
            <a:gdLst/>
            <a:ahLst/>
            <a:rect l="l" t="t" r="r" b="b"/>
            <a:pathLst>
              <a:path w="4515" h="249">
                <a:moveTo>
                  <a:pt x="2332" y="4862"/>
                </a:moveTo>
                <a:cubicBezTo>
                  <a:pt x="2405" y="4872"/>
                  <a:pt x="2452" y="4904"/>
                  <a:pt x="2530" y="4911"/>
                </a:cubicBezTo>
                <a:cubicBezTo>
                  <a:pt x="2677" y="4924"/>
                  <a:pt x="2851" y="4777"/>
                  <a:pt x="2952" y="4787"/>
                </a:cubicBezTo>
                <a:cubicBezTo>
                  <a:pt x="2998" y="4792"/>
                  <a:pt x="3077" y="4892"/>
                  <a:pt x="3150" y="4911"/>
                </a:cubicBezTo>
                <a:cubicBezTo>
                  <a:pt x="3435" y="4985"/>
                  <a:pt x="3600" y="4755"/>
                  <a:pt x="3845" y="4762"/>
                </a:cubicBezTo>
                <a:cubicBezTo>
                  <a:pt x="3906" y="4764"/>
                  <a:pt x="3968" y="4850"/>
                  <a:pt x="4043" y="4862"/>
                </a:cubicBezTo>
                <a:cubicBezTo>
                  <a:pt x="4239" y="4893"/>
                  <a:pt x="4440" y="4852"/>
                  <a:pt x="4638" y="4887"/>
                </a:cubicBezTo>
                <a:cubicBezTo>
                  <a:pt x="4792" y="4914"/>
                  <a:pt x="4955" y="4954"/>
                  <a:pt x="5110" y="4911"/>
                </a:cubicBezTo>
                <a:cubicBezTo>
                  <a:pt x="5214" y="4882"/>
                  <a:pt x="5321" y="4809"/>
                  <a:pt x="5432" y="4812"/>
                </a:cubicBezTo>
                <a:cubicBezTo>
                  <a:pt x="5536" y="4815"/>
                  <a:pt x="5561" y="4861"/>
                  <a:pt x="5680" y="4837"/>
                </a:cubicBezTo>
                <a:cubicBezTo>
                  <a:pt x="5814" y="4810"/>
                  <a:pt x="5914" y="4769"/>
                  <a:pt x="6052" y="4762"/>
                </a:cubicBezTo>
                <a:cubicBezTo>
                  <a:pt x="6129" y="4758"/>
                  <a:pt x="6205" y="4744"/>
                  <a:pt x="6276" y="4738"/>
                </a:cubicBezTo>
                <a:cubicBezTo>
                  <a:pt x="6326" y="4733"/>
                  <a:pt x="6347" y="4712"/>
                  <a:pt x="6375" y="4713"/>
                </a:cubicBezTo>
                <a:cubicBezTo>
                  <a:pt x="6452" y="4715"/>
                  <a:pt x="6518" y="4736"/>
                  <a:pt x="6598" y="4738"/>
                </a:cubicBezTo>
                <a:cubicBezTo>
                  <a:pt x="6695" y="4741"/>
                  <a:pt x="6764" y="4710"/>
                  <a:pt x="6846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1880" y="2357280"/>
            <a:ext cx="635040" cy="231840"/>
          </a:xfrm>
          <a:custGeom>
            <a:avLst/>
            <a:gdLst/>
            <a:ahLst/>
            <a:rect l="l" t="t" r="r" b="b"/>
            <a:pathLst>
              <a:path w="1763" h="646">
                <a:moveTo>
                  <a:pt x="5730" y="6548"/>
                </a:moveTo>
                <a:cubicBezTo>
                  <a:pt x="5585" y="6548"/>
                  <a:pt x="5488" y="6582"/>
                  <a:pt x="5358" y="6648"/>
                </a:cubicBezTo>
                <a:cubicBezTo>
                  <a:pt x="5333" y="6664"/>
                  <a:pt x="5308" y="6681"/>
                  <a:pt x="5283" y="6697"/>
                </a:cubicBezTo>
                <a:cubicBezTo>
                  <a:pt x="5440" y="6828"/>
                  <a:pt x="5616" y="6886"/>
                  <a:pt x="5779" y="6995"/>
                </a:cubicBezTo>
                <a:cubicBezTo>
                  <a:pt x="5733" y="7050"/>
                  <a:pt x="5361" y="7377"/>
                  <a:pt x="5407" y="7069"/>
                </a:cubicBezTo>
                <a:cubicBezTo>
                  <a:pt x="5420" y="6978"/>
                  <a:pt x="5525" y="6793"/>
                  <a:pt x="5581" y="6722"/>
                </a:cubicBezTo>
                <a:cubicBezTo>
                  <a:pt x="5598" y="6705"/>
                  <a:pt x="5614" y="6689"/>
                  <a:pt x="5631" y="6672"/>
                </a:cubicBezTo>
              </a:path>
              <a:path w="1763" h="646">
                <a:moveTo>
                  <a:pt x="6077" y="6548"/>
                </a:moveTo>
                <a:cubicBezTo>
                  <a:pt x="5932" y="6621"/>
                  <a:pt x="5843" y="6804"/>
                  <a:pt x="5829" y="6970"/>
                </a:cubicBezTo>
                <a:cubicBezTo>
                  <a:pt x="5852" y="7110"/>
                  <a:pt x="5853" y="7154"/>
                  <a:pt x="5953" y="7193"/>
                </a:cubicBezTo>
                <a:cubicBezTo>
                  <a:pt x="6141" y="7136"/>
                  <a:pt x="6548" y="6993"/>
                  <a:pt x="6375" y="6697"/>
                </a:cubicBezTo>
                <a:cubicBezTo>
                  <a:pt x="6308" y="6582"/>
                  <a:pt x="6148" y="6609"/>
                  <a:pt x="6052" y="6623"/>
                </a:cubicBezTo>
              </a:path>
              <a:path w="1763" h="646">
                <a:moveTo>
                  <a:pt x="6796" y="6573"/>
                </a:moveTo>
                <a:cubicBezTo>
                  <a:pt x="6645" y="6634"/>
                  <a:pt x="6539" y="6818"/>
                  <a:pt x="6524" y="6995"/>
                </a:cubicBezTo>
                <a:cubicBezTo>
                  <a:pt x="6532" y="7036"/>
                  <a:pt x="6540" y="7078"/>
                  <a:pt x="6548" y="7119"/>
                </a:cubicBezTo>
                <a:cubicBezTo>
                  <a:pt x="6744" y="7181"/>
                  <a:pt x="7009" y="7190"/>
                  <a:pt x="7045" y="6896"/>
                </a:cubicBezTo>
                <a:cubicBezTo>
                  <a:pt x="7068" y="6710"/>
                  <a:pt x="6945" y="6520"/>
                  <a:pt x="6747" y="6548"/>
                </a:cubicBezTo>
                <a:cubicBezTo>
                  <a:pt x="6739" y="6556"/>
                  <a:pt x="6730" y="6565"/>
                  <a:pt x="6722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51120" y="2374920"/>
            <a:ext cx="196920" cy="162000"/>
          </a:xfrm>
          <a:custGeom>
            <a:avLst/>
            <a:gdLst/>
            <a:ahLst/>
            <a:rect l="l" t="t" r="r" b="b"/>
            <a:pathLst>
              <a:path w="547" h="448">
                <a:moveTo>
                  <a:pt x="7863" y="6598"/>
                </a:moveTo>
                <a:cubicBezTo>
                  <a:pt x="7863" y="6747"/>
                  <a:pt x="7863" y="6896"/>
                  <a:pt x="7863" y="7045"/>
                </a:cubicBezTo>
              </a:path>
              <a:path w="547" h="448">
                <a:moveTo>
                  <a:pt x="7640" y="6896"/>
                </a:moveTo>
                <a:cubicBezTo>
                  <a:pt x="7777" y="6871"/>
                  <a:pt x="7972" y="6802"/>
                  <a:pt x="8111" y="6846"/>
                </a:cubicBezTo>
                <a:cubicBezTo>
                  <a:pt x="8139" y="6874"/>
                  <a:pt x="8153" y="6883"/>
                  <a:pt x="8186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3800" y="2330280"/>
            <a:ext cx="171360" cy="241560"/>
          </a:xfrm>
          <a:custGeom>
            <a:avLst/>
            <a:gdLst/>
            <a:ahLst/>
            <a:rect l="l" t="t" r="r" b="b"/>
            <a:pathLst>
              <a:path w="473" h="671">
                <a:moveTo>
                  <a:pt x="8880" y="6474"/>
                </a:moveTo>
                <a:cubicBezTo>
                  <a:pt x="8783" y="6620"/>
                  <a:pt x="8729" y="6769"/>
                  <a:pt x="8706" y="6945"/>
                </a:cubicBezTo>
                <a:cubicBezTo>
                  <a:pt x="8690" y="7071"/>
                  <a:pt x="8816" y="7152"/>
                  <a:pt x="8930" y="7144"/>
                </a:cubicBezTo>
                <a:cubicBezTo>
                  <a:pt x="9058" y="7135"/>
                  <a:pt x="9129" y="7017"/>
                  <a:pt x="9178" y="6921"/>
                </a:cubicBezTo>
                <a:cubicBezTo>
                  <a:pt x="9133" y="6862"/>
                  <a:pt x="9015" y="6823"/>
                  <a:pt x="8930" y="6871"/>
                </a:cubicBezTo>
                <a:cubicBezTo>
                  <a:pt x="8812" y="6937"/>
                  <a:pt x="8861" y="7001"/>
                  <a:pt x="8880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4760" y="2687760"/>
            <a:ext cx="2840040" cy="482400"/>
          </a:xfrm>
          <a:custGeom>
            <a:avLst/>
            <a:gdLst/>
            <a:ahLst/>
            <a:rect l="l" t="t" r="r" b="b"/>
            <a:pathLst>
              <a:path w="7889" h="1341">
                <a:moveTo>
                  <a:pt x="4638" y="7813"/>
                </a:moveTo>
                <a:cubicBezTo>
                  <a:pt x="4445" y="8069"/>
                  <a:pt x="4222" y="8309"/>
                  <a:pt x="4316" y="8657"/>
                </a:cubicBezTo>
                <a:cubicBezTo>
                  <a:pt x="4339" y="8740"/>
                  <a:pt x="4422" y="8783"/>
                  <a:pt x="4490" y="8806"/>
                </a:cubicBezTo>
              </a:path>
              <a:path w="7889" h="1341">
                <a:moveTo>
                  <a:pt x="5680" y="8111"/>
                </a:moveTo>
                <a:cubicBezTo>
                  <a:pt x="5615" y="8236"/>
                  <a:pt x="5548" y="8358"/>
                  <a:pt x="5482" y="8483"/>
                </a:cubicBezTo>
              </a:path>
              <a:path w="7889" h="1341">
                <a:moveTo>
                  <a:pt x="6127" y="8310"/>
                </a:moveTo>
                <a:cubicBezTo>
                  <a:pt x="6111" y="8424"/>
                  <a:pt x="6091" y="8543"/>
                  <a:pt x="6077" y="8657"/>
                </a:cubicBezTo>
              </a:path>
              <a:path w="7889" h="1341">
                <a:moveTo>
                  <a:pt x="7317" y="7565"/>
                </a:moveTo>
                <a:cubicBezTo>
                  <a:pt x="7549" y="7857"/>
                  <a:pt x="7813" y="8137"/>
                  <a:pt x="7615" y="8533"/>
                </a:cubicBezTo>
                <a:cubicBezTo>
                  <a:pt x="7514" y="8734"/>
                  <a:pt x="7382" y="8770"/>
                  <a:pt x="7293" y="8682"/>
                </a:cubicBezTo>
              </a:path>
              <a:path w="7889" h="1341">
                <a:moveTo>
                  <a:pt x="9153" y="7838"/>
                </a:moveTo>
                <a:cubicBezTo>
                  <a:pt x="9026" y="8093"/>
                  <a:pt x="8863" y="8357"/>
                  <a:pt x="9029" y="8632"/>
                </a:cubicBezTo>
                <a:cubicBezTo>
                  <a:pt x="9067" y="8695"/>
                  <a:pt x="9156" y="8696"/>
                  <a:pt x="9178" y="8682"/>
                </a:cubicBezTo>
              </a:path>
              <a:path w="7889" h="1341">
                <a:moveTo>
                  <a:pt x="11782" y="7466"/>
                </a:moveTo>
                <a:cubicBezTo>
                  <a:pt x="12002" y="7631"/>
                  <a:pt x="12141" y="7767"/>
                  <a:pt x="12179" y="8086"/>
                </a:cubicBezTo>
                <a:cubicBezTo>
                  <a:pt x="12221" y="8438"/>
                  <a:pt x="12080" y="8655"/>
                  <a:pt x="11782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24040" y="2884320"/>
            <a:ext cx="1332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5110" y="8012"/>
                </a:moveTo>
                <a:cubicBezTo>
                  <a:pt x="4975" y="8012"/>
                  <a:pt x="4903" y="8046"/>
                  <a:pt x="4787" y="8111"/>
                </a:cubicBezTo>
                <a:cubicBezTo>
                  <a:pt x="4847" y="8170"/>
                  <a:pt x="5190" y="8357"/>
                  <a:pt x="5085" y="8458"/>
                </a:cubicBezTo>
                <a:cubicBezTo>
                  <a:pt x="4972" y="8504"/>
                  <a:pt x="4942" y="8520"/>
                  <a:pt x="4862" y="8508"/>
                </a:cubicBezTo>
                <a:cubicBezTo>
                  <a:pt x="4909" y="8310"/>
                  <a:pt x="5049" y="8236"/>
                  <a:pt x="5159" y="8062"/>
                </a:cubicBezTo>
                <a:cubicBezTo>
                  <a:pt x="5159" y="8054"/>
                  <a:pt x="5159" y="8045"/>
                  <a:pt x="5159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90800" y="2938320"/>
            <a:ext cx="63360" cy="106560"/>
          </a:xfrm>
          <a:custGeom>
            <a:avLst/>
            <a:gdLst/>
            <a:ahLst/>
            <a:rect l="l" t="t" r="r" b="b"/>
            <a:pathLst>
              <a:path w="175" h="298">
                <a:moveTo>
                  <a:pt x="5531" y="8161"/>
                </a:moveTo>
                <a:cubicBezTo>
                  <a:pt x="5599" y="8258"/>
                  <a:pt x="5672" y="8345"/>
                  <a:pt x="5705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2847960"/>
            <a:ext cx="419040" cy="268200"/>
          </a:xfrm>
          <a:custGeom>
            <a:avLst/>
            <a:gdLst/>
            <a:ahLst/>
            <a:rect l="l" t="t" r="r" b="b"/>
            <a:pathLst>
              <a:path w="1167" h="745">
                <a:moveTo>
                  <a:pt x="6474" y="8136"/>
                </a:moveTo>
                <a:cubicBezTo>
                  <a:pt x="6442" y="8341"/>
                  <a:pt x="6404" y="8456"/>
                  <a:pt x="6449" y="8657"/>
                </a:cubicBezTo>
                <a:cubicBezTo>
                  <a:pt x="6659" y="8620"/>
                  <a:pt x="6805" y="8509"/>
                  <a:pt x="6722" y="8260"/>
                </a:cubicBezTo>
                <a:cubicBezTo>
                  <a:pt x="6657" y="8173"/>
                  <a:pt x="6646" y="8145"/>
                  <a:pt x="6573" y="8136"/>
                </a:cubicBezTo>
              </a:path>
              <a:path w="1167" h="745">
                <a:moveTo>
                  <a:pt x="6970" y="7913"/>
                </a:moveTo>
                <a:cubicBezTo>
                  <a:pt x="7049" y="7913"/>
                  <a:pt x="7118" y="7939"/>
                  <a:pt x="7193" y="7962"/>
                </a:cubicBezTo>
                <a:cubicBezTo>
                  <a:pt x="7124" y="8046"/>
                  <a:pt x="7061" y="8098"/>
                  <a:pt x="6970" y="8161"/>
                </a:cubicBezTo>
                <a:cubicBezTo>
                  <a:pt x="7078" y="8161"/>
                  <a:pt x="7166" y="8148"/>
                  <a:pt x="7268" y="8111"/>
                </a:cubicBezTo>
              </a:path>
              <a:path w="1167" h="745">
                <a:moveTo>
                  <a:pt x="6102" y="8186"/>
                </a:moveTo>
                <a:cubicBezTo>
                  <a:pt x="6127" y="8186"/>
                  <a:pt x="6135" y="8186"/>
                  <a:pt x="6152" y="8186"/>
                </a:cubicBezTo>
                <a:cubicBezTo>
                  <a:pt x="6152" y="8267"/>
                  <a:pt x="6146" y="8320"/>
                  <a:pt x="6127" y="8384"/>
                </a:cubicBezTo>
                <a:cubicBezTo>
                  <a:pt x="6127" y="8392"/>
                  <a:pt x="6127" y="8401"/>
                  <a:pt x="6127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2938320"/>
            <a:ext cx="142920" cy="9864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8210" y="8161"/>
                </a:moveTo>
                <a:cubicBezTo>
                  <a:pt x="8219" y="8264"/>
                  <a:pt x="8221" y="8333"/>
                  <a:pt x="8210" y="8434"/>
                </a:cubicBezTo>
              </a:path>
              <a:path w="398" h="274">
                <a:moveTo>
                  <a:pt x="8037" y="8334"/>
                </a:moveTo>
                <a:cubicBezTo>
                  <a:pt x="8162" y="8317"/>
                  <a:pt x="8281" y="8310"/>
                  <a:pt x="8409" y="8310"/>
                </a:cubicBezTo>
                <a:cubicBezTo>
                  <a:pt x="8417" y="8310"/>
                  <a:pt x="8426" y="8310"/>
                  <a:pt x="8434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0080" y="2874960"/>
            <a:ext cx="366840" cy="179280"/>
          </a:xfrm>
          <a:custGeom>
            <a:avLst/>
            <a:gdLst/>
            <a:ahLst/>
            <a:rect l="l" t="t" r="r" b="b"/>
            <a:pathLst>
              <a:path w="1018" h="497">
                <a:moveTo>
                  <a:pt x="9451" y="7987"/>
                </a:moveTo>
                <a:cubicBezTo>
                  <a:pt x="9410" y="8110"/>
                  <a:pt x="9321" y="8235"/>
                  <a:pt x="9277" y="8359"/>
                </a:cubicBezTo>
                <a:cubicBezTo>
                  <a:pt x="9277" y="8376"/>
                  <a:pt x="9277" y="8392"/>
                  <a:pt x="9277" y="8409"/>
                </a:cubicBezTo>
                <a:cubicBezTo>
                  <a:pt x="9401" y="8520"/>
                  <a:pt x="9505" y="8497"/>
                  <a:pt x="9649" y="8384"/>
                </a:cubicBezTo>
                <a:cubicBezTo>
                  <a:pt x="9710" y="8323"/>
                  <a:pt x="9735" y="8316"/>
                  <a:pt x="9723" y="8260"/>
                </a:cubicBezTo>
                <a:cubicBezTo>
                  <a:pt x="9579" y="8224"/>
                  <a:pt x="9470" y="8258"/>
                  <a:pt x="9426" y="8434"/>
                </a:cubicBezTo>
                <a:cubicBezTo>
                  <a:pt x="9434" y="8450"/>
                  <a:pt x="9443" y="8467"/>
                  <a:pt x="9451" y="8483"/>
                </a:cubicBezTo>
              </a:path>
              <a:path w="1018" h="497">
                <a:moveTo>
                  <a:pt x="9947" y="8111"/>
                </a:moveTo>
                <a:cubicBezTo>
                  <a:pt x="10041" y="8211"/>
                  <a:pt x="10141" y="8364"/>
                  <a:pt x="10244" y="8434"/>
                </a:cubicBezTo>
              </a:path>
              <a:path w="1018" h="497">
                <a:moveTo>
                  <a:pt x="10294" y="8111"/>
                </a:moveTo>
                <a:cubicBezTo>
                  <a:pt x="10181" y="8224"/>
                  <a:pt x="10069" y="8332"/>
                  <a:pt x="9947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5040" y="2803680"/>
            <a:ext cx="384120" cy="241200"/>
          </a:xfrm>
          <a:custGeom>
            <a:avLst/>
            <a:gdLst/>
            <a:ahLst/>
            <a:rect l="l" t="t" r="r" b="b"/>
            <a:pathLst>
              <a:path w="1068" h="670">
                <a:moveTo>
                  <a:pt x="10765" y="7987"/>
                </a:moveTo>
                <a:cubicBezTo>
                  <a:pt x="10780" y="8082"/>
                  <a:pt x="10741" y="8387"/>
                  <a:pt x="10765" y="8434"/>
                </a:cubicBezTo>
                <a:cubicBezTo>
                  <a:pt x="10773" y="8426"/>
                  <a:pt x="10782" y="8417"/>
                  <a:pt x="10790" y="8409"/>
                </a:cubicBezTo>
              </a:path>
              <a:path w="1068" h="670">
                <a:moveTo>
                  <a:pt x="11162" y="7962"/>
                </a:moveTo>
                <a:cubicBezTo>
                  <a:pt x="11119" y="8108"/>
                  <a:pt x="11032" y="8250"/>
                  <a:pt x="10988" y="8409"/>
                </a:cubicBezTo>
                <a:cubicBezTo>
                  <a:pt x="11121" y="8450"/>
                  <a:pt x="11321" y="8493"/>
                  <a:pt x="11410" y="8334"/>
                </a:cubicBezTo>
                <a:cubicBezTo>
                  <a:pt x="11470" y="8228"/>
                  <a:pt x="11430" y="8040"/>
                  <a:pt x="11311" y="7987"/>
                </a:cubicBezTo>
                <a:cubicBezTo>
                  <a:pt x="11294" y="7987"/>
                  <a:pt x="11278" y="7987"/>
                  <a:pt x="11261" y="7987"/>
                </a:cubicBezTo>
              </a:path>
              <a:path w="1068" h="670">
                <a:moveTo>
                  <a:pt x="11658" y="7838"/>
                </a:moveTo>
                <a:cubicBezTo>
                  <a:pt x="11658" y="7775"/>
                  <a:pt x="11614" y="7926"/>
                  <a:pt x="11609" y="7938"/>
                </a:cubicBezTo>
                <a:cubicBezTo>
                  <a:pt x="11738" y="8011"/>
                  <a:pt x="11756" y="7977"/>
                  <a:pt x="11832" y="7863"/>
                </a:cubicBezTo>
                <a:cubicBezTo>
                  <a:pt x="11775" y="7827"/>
                  <a:pt x="11745" y="7801"/>
                  <a:pt x="11683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46200" y="3867120"/>
            <a:ext cx="2840040" cy="320760"/>
          </a:xfrm>
          <a:custGeom>
            <a:avLst/>
            <a:gdLst/>
            <a:ahLst/>
            <a:rect l="l" t="t" r="r" b="b"/>
            <a:pathLst>
              <a:path w="7889" h="894">
                <a:moveTo>
                  <a:pt x="6846" y="11361"/>
                </a:moveTo>
                <a:cubicBezTo>
                  <a:pt x="6824" y="11510"/>
                  <a:pt x="6822" y="11544"/>
                  <a:pt x="6796" y="11633"/>
                </a:cubicBezTo>
              </a:path>
              <a:path w="7889" h="894">
                <a:moveTo>
                  <a:pt x="10418" y="11509"/>
                </a:moveTo>
                <a:cubicBezTo>
                  <a:pt x="10441" y="11601"/>
                  <a:pt x="10441" y="11637"/>
                  <a:pt x="10517" y="11584"/>
                </a:cubicBezTo>
              </a:path>
              <a:path w="7889" h="894">
                <a:moveTo>
                  <a:pt x="10517" y="11584"/>
                </a:moveTo>
                <a:lnTo>
                  <a:pt x="10517" y="11584"/>
                </a:lnTo>
              </a:path>
              <a:path w="7889" h="894">
                <a:moveTo>
                  <a:pt x="12824" y="10988"/>
                </a:moveTo>
                <a:cubicBezTo>
                  <a:pt x="12810" y="11113"/>
                  <a:pt x="12803" y="11244"/>
                  <a:pt x="12774" y="11361"/>
                </a:cubicBezTo>
              </a:path>
              <a:path w="7889" h="894">
                <a:moveTo>
                  <a:pt x="12626" y="11013"/>
                </a:moveTo>
                <a:cubicBezTo>
                  <a:pt x="12790" y="11041"/>
                  <a:pt x="12856" y="11049"/>
                  <a:pt x="12973" y="11038"/>
                </a:cubicBezTo>
              </a:path>
              <a:path w="7889" h="894">
                <a:moveTo>
                  <a:pt x="13320" y="10740"/>
                </a:moveTo>
                <a:cubicBezTo>
                  <a:pt x="13299" y="10824"/>
                  <a:pt x="13279" y="10903"/>
                  <a:pt x="13271" y="10988"/>
                </a:cubicBezTo>
                <a:cubicBezTo>
                  <a:pt x="13458" y="11001"/>
                  <a:pt x="13468" y="10961"/>
                  <a:pt x="13618" y="10840"/>
                </a:cubicBezTo>
              </a:path>
              <a:path w="7889" h="894">
                <a:moveTo>
                  <a:pt x="14362" y="10840"/>
                </a:moveTo>
                <a:cubicBezTo>
                  <a:pt x="14158" y="11086"/>
                  <a:pt x="14121" y="11067"/>
                  <a:pt x="14188" y="11361"/>
                </a:cubicBezTo>
                <a:cubicBezTo>
                  <a:pt x="14378" y="11375"/>
                  <a:pt x="14818" y="11302"/>
                  <a:pt x="14684" y="10964"/>
                </a:cubicBezTo>
                <a:cubicBezTo>
                  <a:pt x="14543" y="10850"/>
                  <a:pt x="14480" y="10815"/>
                  <a:pt x="14337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8800" y="3813120"/>
            <a:ext cx="955440" cy="322200"/>
          </a:xfrm>
          <a:custGeom>
            <a:avLst/>
            <a:gdLst/>
            <a:ahLst/>
            <a:rect l="l" t="t" r="r" b="b"/>
            <a:pathLst>
              <a:path w="2655" h="894">
                <a:moveTo>
                  <a:pt x="6152" y="10864"/>
                </a:moveTo>
                <a:cubicBezTo>
                  <a:pt x="6203" y="10795"/>
                  <a:pt x="6181" y="10629"/>
                  <a:pt x="6052" y="10592"/>
                </a:cubicBezTo>
                <a:cubicBezTo>
                  <a:pt x="5874" y="10541"/>
                  <a:pt x="5839" y="10873"/>
                  <a:pt x="5829" y="10964"/>
                </a:cubicBezTo>
                <a:cubicBezTo>
                  <a:pt x="5840" y="10960"/>
                  <a:pt x="5884" y="10894"/>
                  <a:pt x="5904" y="10914"/>
                </a:cubicBezTo>
                <a:cubicBezTo>
                  <a:pt x="5961" y="10971"/>
                  <a:pt x="5931" y="11073"/>
                  <a:pt x="6077" y="10988"/>
                </a:cubicBezTo>
                <a:cubicBezTo>
                  <a:pt x="6129" y="10958"/>
                  <a:pt x="6244" y="10852"/>
                  <a:pt x="6251" y="10790"/>
                </a:cubicBezTo>
                <a:cubicBezTo>
                  <a:pt x="6251" y="10765"/>
                  <a:pt x="6251" y="10757"/>
                  <a:pt x="6251" y="10740"/>
                </a:cubicBezTo>
                <a:cubicBezTo>
                  <a:pt x="6221" y="10830"/>
                  <a:pt x="6158" y="11017"/>
                  <a:pt x="6127" y="11137"/>
                </a:cubicBezTo>
                <a:cubicBezTo>
                  <a:pt x="6096" y="11260"/>
                  <a:pt x="6052" y="11587"/>
                  <a:pt x="6052" y="11460"/>
                </a:cubicBezTo>
              </a:path>
              <a:path w="2655" h="894">
                <a:moveTo>
                  <a:pt x="6672" y="10716"/>
                </a:moveTo>
                <a:cubicBezTo>
                  <a:pt x="6593" y="10715"/>
                  <a:pt x="6380" y="11041"/>
                  <a:pt x="6325" y="11162"/>
                </a:cubicBezTo>
                <a:cubicBezTo>
                  <a:pt x="6317" y="11203"/>
                  <a:pt x="6308" y="11245"/>
                  <a:pt x="6300" y="11286"/>
                </a:cubicBezTo>
                <a:cubicBezTo>
                  <a:pt x="6596" y="11237"/>
                  <a:pt x="6706" y="11086"/>
                  <a:pt x="6697" y="10765"/>
                </a:cubicBezTo>
                <a:cubicBezTo>
                  <a:pt x="6692" y="10591"/>
                  <a:pt x="6623" y="10619"/>
                  <a:pt x="6548" y="10666"/>
                </a:cubicBezTo>
              </a:path>
              <a:path w="2655" h="894">
                <a:moveTo>
                  <a:pt x="7317" y="10815"/>
                </a:moveTo>
                <a:cubicBezTo>
                  <a:pt x="7150" y="10947"/>
                  <a:pt x="6914" y="11185"/>
                  <a:pt x="7045" y="11435"/>
                </a:cubicBezTo>
                <a:cubicBezTo>
                  <a:pt x="7078" y="11452"/>
                  <a:pt x="7111" y="11468"/>
                  <a:pt x="7144" y="11485"/>
                </a:cubicBezTo>
                <a:cubicBezTo>
                  <a:pt x="7322" y="11307"/>
                  <a:pt x="7525" y="11023"/>
                  <a:pt x="7169" y="10864"/>
                </a:cubicBezTo>
                <a:cubicBezTo>
                  <a:pt x="7128" y="10864"/>
                  <a:pt x="7086" y="10864"/>
                  <a:pt x="7045" y="10864"/>
                </a:cubicBezTo>
              </a:path>
              <a:path w="2655" h="894">
                <a:moveTo>
                  <a:pt x="7714" y="10864"/>
                </a:moveTo>
                <a:cubicBezTo>
                  <a:pt x="7491" y="11004"/>
                  <a:pt x="7485" y="11131"/>
                  <a:pt x="7541" y="11385"/>
                </a:cubicBezTo>
                <a:cubicBezTo>
                  <a:pt x="7735" y="11376"/>
                  <a:pt x="8107" y="11236"/>
                  <a:pt x="7938" y="10939"/>
                </a:cubicBezTo>
                <a:cubicBezTo>
                  <a:pt x="7797" y="10845"/>
                  <a:pt x="7756" y="10811"/>
                  <a:pt x="7640" y="10864"/>
                </a:cubicBezTo>
              </a:path>
              <a:path w="2655" h="894">
                <a:moveTo>
                  <a:pt x="8285" y="10840"/>
                </a:moveTo>
                <a:cubicBezTo>
                  <a:pt x="8092" y="10852"/>
                  <a:pt x="7867" y="11033"/>
                  <a:pt x="7962" y="11286"/>
                </a:cubicBezTo>
                <a:cubicBezTo>
                  <a:pt x="8003" y="11327"/>
                  <a:pt x="8045" y="11369"/>
                  <a:pt x="8086" y="11410"/>
                </a:cubicBezTo>
                <a:cubicBezTo>
                  <a:pt x="8277" y="11329"/>
                  <a:pt x="8709" y="11117"/>
                  <a:pt x="8359" y="10889"/>
                </a:cubicBezTo>
                <a:cubicBezTo>
                  <a:pt x="8309" y="10881"/>
                  <a:pt x="8260" y="10872"/>
                  <a:pt x="8210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5080" y="3919680"/>
            <a:ext cx="1100160" cy="233280"/>
          </a:xfrm>
          <a:custGeom>
            <a:avLst/>
            <a:gdLst/>
            <a:ahLst/>
            <a:rect l="l" t="t" r="r" b="b"/>
            <a:pathLst>
              <a:path w="3052" h="646">
                <a:moveTo>
                  <a:pt x="9203" y="10889"/>
                </a:moveTo>
                <a:cubicBezTo>
                  <a:pt x="9203" y="11045"/>
                  <a:pt x="9233" y="11257"/>
                  <a:pt x="9153" y="11336"/>
                </a:cubicBezTo>
              </a:path>
              <a:path w="3052" h="646">
                <a:moveTo>
                  <a:pt x="8905" y="11063"/>
                </a:moveTo>
                <a:cubicBezTo>
                  <a:pt x="9113" y="11089"/>
                  <a:pt x="9313" y="11088"/>
                  <a:pt x="9525" y="11088"/>
                </a:cubicBezTo>
              </a:path>
              <a:path w="3052" h="646">
                <a:moveTo>
                  <a:pt x="9996" y="10889"/>
                </a:moveTo>
                <a:cubicBezTo>
                  <a:pt x="10221" y="10923"/>
                  <a:pt x="10450" y="11080"/>
                  <a:pt x="10269" y="11361"/>
                </a:cubicBezTo>
                <a:cubicBezTo>
                  <a:pt x="10105" y="11616"/>
                  <a:pt x="9838" y="11527"/>
                  <a:pt x="9748" y="11336"/>
                </a:cubicBezTo>
                <a:cubicBezTo>
                  <a:pt x="10014" y="11247"/>
                  <a:pt x="9997" y="11329"/>
                  <a:pt x="10195" y="11509"/>
                </a:cubicBezTo>
                <a:cubicBezTo>
                  <a:pt x="10211" y="11517"/>
                  <a:pt x="10228" y="11526"/>
                  <a:pt x="10244" y="11534"/>
                </a:cubicBezTo>
              </a:path>
              <a:path w="3052" h="646">
                <a:moveTo>
                  <a:pt x="10864" y="10964"/>
                </a:moveTo>
                <a:cubicBezTo>
                  <a:pt x="10722" y="10942"/>
                  <a:pt x="10557" y="11152"/>
                  <a:pt x="10542" y="11311"/>
                </a:cubicBezTo>
                <a:cubicBezTo>
                  <a:pt x="10559" y="11336"/>
                  <a:pt x="10575" y="11360"/>
                  <a:pt x="10592" y="11385"/>
                </a:cubicBezTo>
                <a:cubicBezTo>
                  <a:pt x="10746" y="11330"/>
                  <a:pt x="11192" y="11083"/>
                  <a:pt x="10815" y="10914"/>
                </a:cubicBezTo>
                <a:cubicBezTo>
                  <a:pt x="10757" y="10914"/>
                  <a:pt x="10699" y="10914"/>
                  <a:pt x="10641" y="10914"/>
                </a:cubicBezTo>
              </a:path>
              <a:path w="3052" h="646">
                <a:moveTo>
                  <a:pt x="11212" y="10889"/>
                </a:moveTo>
                <a:cubicBezTo>
                  <a:pt x="10974" y="11108"/>
                  <a:pt x="10961" y="11080"/>
                  <a:pt x="11013" y="11385"/>
                </a:cubicBezTo>
                <a:cubicBezTo>
                  <a:pt x="11220" y="11408"/>
                  <a:pt x="11627" y="11357"/>
                  <a:pt x="11410" y="11013"/>
                </a:cubicBezTo>
                <a:cubicBezTo>
                  <a:pt x="11292" y="10942"/>
                  <a:pt x="11257" y="10918"/>
                  <a:pt x="11162" y="10939"/>
                </a:cubicBezTo>
              </a:path>
              <a:path w="3052" h="646">
                <a:moveTo>
                  <a:pt x="11757" y="10889"/>
                </a:moveTo>
                <a:cubicBezTo>
                  <a:pt x="11448" y="10975"/>
                  <a:pt x="11451" y="11102"/>
                  <a:pt x="11509" y="11385"/>
                </a:cubicBezTo>
                <a:cubicBezTo>
                  <a:pt x="11714" y="11385"/>
                  <a:pt x="12147" y="11295"/>
                  <a:pt x="11906" y="10964"/>
                </a:cubicBezTo>
                <a:cubicBezTo>
                  <a:pt x="11774" y="10897"/>
                  <a:pt x="11741" y="10864"/>
                  <a:pt x="1165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3840120"/>
            <a:ext cx="2160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3593" y="10666"/>
                </a:moveTo>
                <a:cubicBezTo>
                  <a:pt x="13565" y="10749"/>
                  <a:pt x="13389" y="11281"/>
                  <a:pt x="13469" y="11336"/>
                </a:cubicBezTo>
                <a:cubicBezTo>
                  <a:pt x="13494" y="11311"/>
                  <a:pt x="13518" y="11286"/>
                  <a:pt x="13543" y="11261"/>
                </a:cubicBezTo>
              </a:path>
              <a:path w="596" h="696">
                <a:moveTo>
                  <a:pt x="13841" y="10740"/>
                </a:moveTo>
                <a:cubicBezTo>
                  <a:pt x="13690" y="10987"/>
                  <a:pt x="13593" y="11096"/>
                  <a:pt x="13717" y="11361"/>
                </a:cubicBezTo>
                <a:cubicBezTo>
                  <a:pt x="13858" y="11284"/>
                  <a:pt x="14261" y="11041"/>
                  <a:pt x="13965" y="10864"/>
                </a:cubicBezTo>
                <a:cubicBezTo>
                  <a:pt x="13915" y="10856"/>
                  <a:pt x="13866" y="10848"/>
                  <a:pt x="13816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9920" y="4214880"/>
            <a:ext cx="4429080" cy="517320"/>
          </a:xfrm>
          <a:custGeom>
            <a:avLst/>
            <a:gdLst/>
            <a:ahLst/>
            <a:rect l="l" t="t" r="r" b="b"/>
            <a:pathLst>
              <a:path w="12304" h="1439">
                <a:moveTo>
                  <a:pt x="4043" y="12105"/>
                </a:moveTo>
                <a:cubicBezTo>
                  <a:pt x="3923" y="12063"/>
                  <a:pt x="3751" y="12479"/>
                  <a:pt x="3721" y="12601"/>
                </a:cubicBezTo>
                <a:cubicBezTo>
                  <a:pt x="3676" y="12786"/>
                  <a:pt x="3738" y="12830"/>
                  <a:pt x="3870" y="12874"/>
                </a:cubicBezTo>
              </a:path>
              <a:path w="12304" h="1439">
                <a:moveTo>
                  <a:pt x="4589" y="12427"/>
                </a:moveTo>
                <a:cubicBezTo>
                  <a:pt x="4645" y="12555"/>
                  <a:pt x="4689" y="12771"/>
                  <a:pt x="4787" y="12849"/>
                </a:cubicBezTo>
              </a:path>
              <a:path w="12304" h="1439">
                <a:moveTo>
                  <a:pt x="6028" y="12229"/>
                </a:moveTo>
                <a:cubicBezTo>
                  <a:pt x="5999" y="12272"/>
                  <a:pt x="5943" y="12337"/>
                  <a:pt x="6003" y="12378"/>
                </a:cubicBezTo>
                <a:cubicBezTo>
                  <a:pt x="6068" y="12423"/>
                  <a:pt x="6114" y="12381"/>
                  <a:pt x="6176" y="12353"/>
                </a:cubicBezTo>
              </a:path>
              <a:path w="12304" h="1439">
                <a:moveTo>
                  <a:pt x="6375" y="11906"/>
                </a:moveTo>
                <a:cubicBezTo>
                  <a:pt x="6471" y="12127"/>
                  <a:pt x="6676" y="12501"/>
                  <a:pt x="6548" y="12750"/>
                </a:cubicBezTo>
                <a:cubicBezTo>
                  <a:pt x="6405" y="12870"/>
                  <a:pt x="6362" y="12911"/>
                  <a:pt x="6226" y="12874"/>
                </a:cubicBezTo>
              </a:path>
              <a:path w="12304" h="1439">
                <a:moveTo>
                  <a:pt x="8062" y="12179"/>
                </a:moveTo>
                <a:cubicBezTo>
                  <a:pt x="8003" y="12312"/>
                  <a:pt x="7692" y="12856"/>
                  <a:pt x="7987" y="12923"/>
                </a:cubicBezTo>
                <a:cubicBezTo>
                  <a:pt x="8061" y="12915"/>
                  <a:pt x="8136" y="12906"/>
                  <a:pt x="8210" y="12898"/>
                </a:cubicBezTo>
              </a:path>
              <a:path w="12304" h="1439">
                <a:moveTo>
                  <a:pt x="10790" y="11931"/>
                </a:moveTo>
                <a:cubicBezTo>
                  <a:pt x="11010" y="12179"/>
                  <a:pt x="11253" y="12442"/>
                  <a:pt x="11112" y="12799"/>
                </a:cubicBezTo>
                <a:cubicBezTo>
                  <a:pt x="10970" y="12966"/>
                  <a:pt x="10930" y="13023"/>
                  <a:pt x="10765" y="12998"/>
                </a:cubicBezTo>
              </a:path>
              <a:path w="12304" h="1439">
                <a:moveTo>
                  <a:pt x="11832" y="12427"/>
                </a:moveTo>
                <a:cubicBezTo>
                  <a:pt x="11851" y="12539"/>
                  <a:pt x="11900" y="12680"/>
                  <a:pt x="11807" y="12750"/>
                </a:cubicBezTo>
              </a:path>
              <a:path w="12304" h="1439">
                <a:moveTo>
                  <a:pt x="11832" y="12551"/>
                </a:moveTo>
                <a:cubicBezTo>
                  <a:pt x="12080" y="12551"/>
                  <a:pt x="12164" y="12551"/>
                  <a:pt x="12328" y="12526"/>
                </a:cubicBezTo>
              </a:path>
              <a:path w="12304" h="1439">
                <a:moveTo>
                  <a:pt x="12774" y="12105"/>
                </a:moveTo>
                <a:cubicBezTo>
                  <a:pt x="12661" y="12300"/>
                  <a:pt x="12483" y="12609"/>
                  <a:pt x="12551" y="12849"/>
                </a:cubicBezTo>
                <a:cubicBezTo>
                  <a:pt x="12665" y="12963"/>
                  <a:pt x="12719" y="12991"/>
                  <a:pt x="12849" y="12898"/>
                </a:cubicBezTo>
              </a:path>
              <a:path w="12304" h="1439">
                <a:moveTo>
                  <a:pt x="13816" y="12353"/>
                </a:moveTo>
                <a:cubicBezTo>
                  <a:pt x="13924" y="12557"/>
                  <a:pt x="13992" y="12781"/>
                  <a:pt x="14213" y="12849"/>
                </a:cubicBezTo>
              </a:path>
              <a:path w="12304" h="1439">
                <a:moveTo>
                  <a:pt x="15528" y="11708"/>
                </a:moveTo>
                <a:cubicBezTo>
                  <a:pt x="15767" y="11976"/>
                  <a:pt x="16001" y="12299"/>
                  <a:pt x="16024" y="12675"/>
                </a:cubicBezTo>
                <a:cubicBezTo>
                  <a:pt x="16042" y="12972"/>
                  <a:pt x="15783" y="13030"/>
                  <a:pt x="15577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8840" y="4394160"/>
            <a:ext cx="635040" cy="266760"/>
          </a:xfrm>
          <a:custGeom>
            <a:avLst/>
            <a:gdLst/>
            <a:ahLst/>
            <a:rect l="l" t="t" r="r" b="b"/>
            <a:pathLst>
              <a:path w="1762" h="745">
                <a:moveTo>
                  <a:pt x="4390" y="12402"/>
                </a:moveTo>
                <a:cubicBezTo>
                  <a:pt x="4376" y="12274"/>
                  <a:pt x="4301" y="12139"/>
                  <a:pt x="4142" y="12229"/>
                </a:cubicBezTo>
                <a:cubicBezTo>
                  <a:pt x="4028" y="12343"/>
                  <a:pt x="3992" y="12371"/>
                  <a:pt x="3969" y="12477"/>
                </a:cubicBezTo>
                <a:cubicBezTo>
                  <a:pt x="4162" y="12567"/>
                  <a:pt x="4242" y="12500"/>
                  <a:pt x="4341" y="12303"/>
                </a:cubicBezTo>
                <a:cubicBezTo>
                  <a:pt x="4333" y="12320"/>
                  <a:pt x="4324" y="12336"/>
                  <a:pt x="4316" y="12353"/>
                </a:cubicBezTo>
                <a:cubicBezTo>
                  <a:pt x="4301" y="12458"/>
                  <a:pt x="4195" y="12792"/>
                  <a:pt x="4217" y="12874"/>
                </a:cubicBezTo>
                <a:cubicBezTo>
                  <a:pt x="4225" y="12866"/>
                  <a:pt x="4234" y="12857"/>
                  <a:pt x="4242" y="12849"/>
                </a:cubicBezTo>
              </a:path>
              <a:path w="1762" h="745">
                <a:moveTo>
                  <a:pt x="4961" y="12452"/>
                </a:moveTo>
                <a:cubicBezTo>
                  <a:pt x="4790" y="12580"/>
                  <a:pt x="4593" y="12745"/>
                  <a:pt x="4465" y="12923"/>
                </a:cubicBezTo>
                <a:cubicBezTo>
                  <a:pt x="4473" y="12923"/>
                  <a:pt x="4482" y="12923"/>
                  <a:pt x="4490" y="12923"/>
                </a:cubicBezTo>
              </a:path>
              <a:path w="1762" h="745">
                <a:moveTo>
                  <a:pt x="5159" y="12378"/>
                </a:moveTo>
                <a:cubicBezTo>
                  <a:pt x="5159" y="12571"/>
                  <a:pt x="5155" y="12716"/>
                  <a:pt x="5085" y="12898"/>
                </a:cubicBezTo>
              </a:path>
              <a:path w="1762" h="745">
                <a:moveTo>
                  <a:pt x="5507" y="12477"/>
                </a:moveTo>
                <a:cubicBezTo>
                  <a:pt x="5407" y="12669"/>
                  <a:pt x="5373" y="12717"/>
                  <a:pt x="5383" y="12923"/>
                </a:cubicBezTo>
                <a:cubicBezTo>
                  <a:pt x="5599" y="12923"/>
                  <a:pt x="5811" y="12806"/>
                  <a:pt x="5730" y="12526"/>
                </a:cubicBezTo>
                <a:cubicBezTo>
                  <a:pt x="5643" y="12417"/>
                  <a:pt x="5628" y="12380"/>
                  <a:pt x="5531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4720" y="4384800"/>
            <a:ext cx="27000" cy="1332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6226" y="12179"/>
                </a:moveTo>
                <a:cubicBezTo>
                  <a:pt x="6226" y="12277"/>
                  <a:pt x="6197" y="12407"/>
                  <a:pt x="6176" y="12502"/>
                </a:cubicBezTo>
                <a:cubicBezTo>
                  <a:pt x="6149" y="12558"/>
                  <a:pt x="6148" y="12572"/>
                  <a:pt x="6226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4200" y="4473720"/>
            <a:ext cx="204840" cy="125280"/>
          </a:xfrm>
          <a:custGeom>
            <a:avLst/>
            <a:gdLst/>
            <a:ahLst/>
            <a:rect l="l" t="t" r="r" b="b"/>
            <a:pathLst>
              <a:path w="572" h="348">
                <a:moveTo>
                  <a:pt x="7317" y="12427"/>
                </a:moveTo>
                <a:cubicBezTo>
                  <a:pt x="7317" y="12527"/>
                  <a:pt x="7311" y="12730"/>
                  <a:pt x="7293" y="12750"/>
                </a:cubicBezTo>
              </a:path>
              <a:path w="572" h="348">
                <a:moveTo>
                  <a:pt x="7094" y="12526"/>
                </a:moveTo>
                <a:cubicBezTo>
                  <a:pt x="7284" y="12526"/>
                  <a:pt x="7475" y="12526"/>
                  <a:pt x="7665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17880" y="4375080"/>
            <a:ext cx="857160" cy="277920"/>
          </a:xfrm>
          <a:custGeom>
            <a:avLst/>
            <a:gdLst/>
            <a:ahLst/>
            <a:rect l="l" t="t" r="r" b="b"/>
            <a:pathLst>
              <a:path w="2382" h="770">
                <a:moveTo>
                  <a:pt x="8508" y="12378"/>
                </a:moveTo>
                <a:cubicBezTo>
                  <a:pt x="8657" y="12378"/>
                  <a:pt x="8988" y="12484"/>
                  <a:pt x="8830" y="12725"/>
                </a:cubicBezTo>
                <a:cubicBezTo>
                  <a:pt x="8704" y="12916"/>
                  <a:pt x="8524" y="12813"/>
                  <a:pt x="8384" y="12750"/>
                </a:cubicBezTo>
                <a:cubicBezTo>
                  <a:pt x="8527" y="12518"/>
                  <a:pt x="8574" y="12709"/>
                  <a:pt x="8781" y="12774"/>
                </a:cubicBezTo>
                <a:cubicBezTo>
                  <a:pt x="8814" y="12774"/>
                  <a:pt x="8847" y="12774"/>
                  <a:pt x="8880" y="12774"/>
                </a:cubicBezTo>
              </a:path>
              <a:path w="2382" h="770">
                <a:moveTo>
                  <a:pt x="9203" y="12378"/>
                </a:moveTo>
                <a:cubicBezTo>
                  <a:pt x="9296" y="12509"/>
                  <a:pt x="9399" y="12690"/>
                  <a:pt x="9525" y="12774"/>
                </a:cubicBezTo>
              </a:path>
              <a:path w="2382" h="770">
                <a:moveTo>
                  <a:pt x="9525" y="12378"/>
                </a:moveTo>
                <a:cubicBezTo>
                  <a:pt x="9410" y="12535"/>
                  <a:pt x="9285" y="12688"/>
                  <a:pt x="9178" y="12849"/>
                </a:cubicBezTo>
              </a:path>
              <a:path w="2382" h="770">
                <a:moveTo>
                  <a:pt x="9847" y="12402"/>
                </a:moveTo>
                <a:cubicBezTo>
                  <a:pt x="9817" y="12570"/>
                  <a:pt x="9798" y="12727"/>
                  <a:pt x="9798" y="12898"/>
                </a:cubicBezTo>
              </a:path>
              <a:path w="2382" h="770">
                <a:moveTo>
                  <a:pt x="10195" y="12378"/>
                </a:moveTo>
                <a:cubicBezTo>
                  <a:pt x="10097" y="12555"/>
                  <a:pt x="10030" y="12681"/>
                  <a:pt x="9996" y="12874"/>
                </a:cubicBezTo>
                <a:cubicBezTo>
                  <a:pt x="10155" y="12917"/>
                  <a:pt x="10461" y="12922"/>
                  <a:pt x="10443" y="12650"/>
                </a:cubicBezTo>
                <a:cubicBezTo>
                  <a:pt x="10366" y="12522"/>
                  <a:pt x="10337" y="12478"/>
                  <a:pt x="10244" y="12427"/>
                </a:cubicBezTo>
              </a:path>
              <a:path w="2382" h="770">
                <a:moveTo>
                  <a:pt x="10567" y="12154"/>
                </a:moveTo>
                <a:cubicBezTo>
                  <a:pt x="10584" y="12154"/>
                  <a:pt x="10826" y="12152"/>
                  <a:pt x="10740" y="12229"/>
                </a:cubicBezTo>
                <a:cubicBezTo>
                  <a:pt x="10658" y="12270"/>
                  <a:pt x="10641" y="12278"/>
                  <a:pt x="10592" y="12303"/>
                </a:cubicBezTo>
                <a:cubicBezTo>
                  <a:pt x="10667" y="12325"/>
                  <a:pt x="10706" y="12355"/>
                  <a:pt x="10765" y="12402"/>
                </a:cubicBezTo>
                <a:cubicBezTo>
                  <a:pt x="10676" y="12480"/>
                  <a:pt x="10621" y="12470"/>
                  <a:pt x="10492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0000" y="4419720"/>
            <a:ext cx="142920" cy="20628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3097" y="12477"/>
                </a:moveTo>
                <a:cubicBezTo>
                  <a:pt x="13042" y="12549"/>
                  <a:pt x="13051" y="12582"/>
                  <a:pt x="12998" y="12576"/>
                </a:cubicBezTo>
                <a:cubicBezTo>
                  <a:pt x="13133" y="12617"/>
                  <a:pt x="13255" y="12597"/>
                  <a:pt x="13395" y="12576"/>
                </a:cubicBezTo>
              </a:path>
              <a:path w="398" h="572">
                <a:moveTo>
                  <a:pt x="13320" y="12278"/>
                </a:moveTo>
                <a:cubicBezTo>
                  <a:pt x="13291" y="12481"/>
                  <a:pt x="13271" y="12646"/>
                  <a:pt x="13271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83120" y="4367160"/>
            <a:ext cx="633600" cy="28584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14188" y="12353"/>
                </a:moveTo>
                <a:cubicBezTo>
                  <a:pt x="14092" y="12487"/>
                  <a:pt x="13864" y="12759"/>
                  <a:pt x="13891" y="12824"/>
                </a:cubicBezTo>
              </a:path>
              <a:path w="1762" h="795">
                <a:moveTo>
                  <a:pt x="14536" y="12427"/>
                </a:moveTo>
                <a:cubicBezTo>
                  <a:pt x="14498" y="12593"/>
                  <a:pt x="14456" y="12756"/>
                  <a:pt x="14436" y="12923"/>
                </a:cubicBezTo>
              </a:path>
              <a:path w="1762" h="795">
                <a:moveTo>
                  <a:pt x="14883" y="12402"/>
                </a:moveTo>
                <a:cubicBezTo>
                  <a:pt x="14760" y="12579"/>
                  <a:pt x="14712" y="12661"/>
                  <a:pt x="14684" y="12874"/>
                </a:cubicBezTo>
                <a:cubicBezTo>
                  <a:pt x="14832" y="12881"/>
                  <a:pt x="15225" y="12845"/>
                  <a:pt x="15106" y="12576"/>
                </a:cubicBezTo>
                <a:cubicBezTo>
                  <a:pt x="14994" y="12487"/>
                  <a:pt x="14967" y="12461"/>
                  <a:pt x="14883" y="12427"/>
                </a:cubicBezTo>
              </a:path>
              <a:path w="1762" h="795">
                <a:moveTo>
                  <a:pt x="15354" y="12129"/>
                </a:moveTo>
                <a:cubicBezTo>
                  <a:pt x="15380" y="12134"/>
                  <a:pt x="15501" y="12172"/>
                  <a:pt x="15478" y="12229"/>
                </a:cubicBezTo>
                <a:cubicBezTo>
                  <a:pt x="15406" y="12325"/>
                  <a:pt x="15385" y="12356"/>
                  <a:pt x="15304" y="12378"/>
                </a:cubicBezTo>
                <a:cubicBezTo>
                  <a:pt x="15414" y="12378"/>
                  <a:pt x="15498" y="12377"/>
                  <a:pt x="1560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4840" y="5357880"/>
            <a:ext cx="4956120" cy="384120"/>
          </a:xfrm>
          <a:custGeom>
            <a:avLst/>
            <a:gdLst/>
            <a:ahLst/>
            <a:rect l="l" t="t" r="r" b="b"/>
            <a:pathLst>
              <a:path w="13768" h="1067">
                <a:moveTo>
                  <a:pt x="7094" y="15701"/>
                </a:moveTo>
                <a:cubicBezTo>
                  <a:pt x="7091" y="15722"/>
                  <a:pt x="6999" y="16062"/>
                  <a:pt x="7094" y="15875"/>
                </a:cubicBezTo>
              </a:path>
              <a:path w="13768" h="1067">
                <a:moveTo>
                  <a:pt x="7094" y="15875"/>
                </a:moveTo>
                <a:lnTo>
                  <a:pt x="7094" y="15875"/>
                </a:lnTo>
              </a:path>
              <a:path w="13768" h="1067">
                <a:moveTo>
                  <a:pt x="7962" y="15056"/>
                </a:moveTo>
                <a:cubicBezTo>
                  <a:pt x="7790" y="15278"/>
                  <a:pt x="7764" y="15322"/>
                  <a:pt x="7764" y="15602"/>
                </a:cubicBezTo>
                <a:cubicBezTo>
                  <a:pt x="7966" y="15626"/>
                  <a:pt x="8372" y="15545"/>
                  <a:pt x="8186" y="15205"/>
                </a:cubicBezTo>
                <a:cubicBezTo>
                  <a:pt x="8038" y="15107"/>
                  <a:pt x="7989" y="15073"/>
                  <a:pt x="7863" y="15131"/>
                </a:cubicBezTo>
              </a:path>
              <a:path w="13768" h="1067">
                <a:moveTo>
                  <a:pt x="9054" y="15379"/>
                </a:moveTo>
                <a:cubicBezTo>
                  <a:pt x="9076" y="15486"/>
                  <a:pt x="9084" y="15510"/>
                  <a:pt x="9079" y="15577"/>
                </a:cubicBezTo>
              </a:path>
              <a:path w="13768" h="1067">
                <a:moveTo>
                  <a:pt x="8880" y="15329"/>
                </a:moveTo>
                <a:cubicBezTo>
                  <a:pt x="9035" y="15351"/>
                  <a:pt x="9145" y="15349"/>
                  <a:pt x="9302" y="15329"/>
                </a:cubicBezTo>
              </a:path>
              <a:path w="13768" h="1067">
                <a:moveTo>
                  <a:pt x="14486" y="15081"/>
                </a:moveTo>
                <a:cubicBezTo>
                  <a:pt x="14360" y="15319"/>
                  <a:pt x="14304" y="15343"/>
                  <a:pt x="14387" y="15577"/>
                </a:cubicBezTo>
                <a:cubicBezTo>
                  <a:pt x="14623" y="15538"/>
                  <a:pt x="14859" y="15430"/>
                  <a:pt x="14709" y="15131"/>
                </a:cubicBezTo>
                <a:cubicBezTo>
                  <a:pt x="14619" y="15041"/>
                  <a:pt x="14598" y="15005"/>
                  <a:pt x="14511" y="15056"/>
                </a:cubicBezTo>
              </a:path>
              <a:path w="13768" h="1067">
                <a:moveTo>
                  <a:pt x="14932" y="15056"/>
                </a:moveTo>
                <a:cubicBezTo>
                  <a:pt x="14776" y="15273"/>
                  <a:pt x="14709" y="15391"/>
                  <a:pt x="14808" y="15627"/>
                </a:cubicBezTo>
                <a:cubicBezTo>
                  <a:pt x="14989" y="15569"/>
                  <a:pt x="15398" y="15378"/>
                  <a:pt x="15156" y="15106"/>
                </a:cubicBezTo>
                <a:cubicBezTo>
                  <a:pt x="15106" y="15089"/>
                  <a:pt x="15057" y="15073"/>
                  <a:pt x="15007" y="15056"/>
                </a:cubicBezTo>
              </a:path>
              <a:path w="13768" h="1067">
                <a:moveTo>
                  <a:pt x="15701" y="15106"/>
                </a:moveTo>
                <a:cubicBezTo>
                  <a:pt x="15681" y="15257"/>
                  <a:pt x="15694" y="15420"/>
                  <a:pt x="15627" y="15553"/>
                </a:cubicBezTo>
              </a:path>
              <a:path w="13768" h="1067">
                <a:moveTo>
                  <a:pt x="18281" y="15131"/>
                </a:moveTo>
                <a:cubicBezTo>
                  <a:pt x="18273" y="15269"/>
                  <a:pt x="18266" y="15406"/>
                  <a:pt x="18207" y="15528"/>
                </a:cubicBezTo>
              </a:path>
              <a:path w="13768" h="1067">
                <a:moveTo>
                  <a:pt x="19893" y="15304"/>
                </a:moveTo>
                <a:cubicBezTo>
                  <a:pt x="20049" y="15297"/>
                  <a:pt x="20164" y="15274"/>
                  <a:pt x="20315" y="15230"/>
                </a:cubicBezTo>
              </a:path>
              <a:path w="13768" h="1067">
                <a:moveTo>
                  <a:pt x="20489" y="14957"/>
                </a:moveTo>
                <a:cubicBezTo>
                  <a:pt x="20605" y="14931"/>
                  <a:pt x="20720" y="14909"/>
                  <a:pt x="20836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720" y="5419800"/>
            <a:ext cx="598320" cy="223920"/>
          </a:xfrm>
          <a:custGeom>
            <a:avLst/>
            <a:gdLst/>
            <a:ahLst/>
            <a:rect l="l" t="t" r="r" b="b"/>
            <a:pathLst>
              <a:path w="1663" h="622">
                <a:moveTo>
                  <a:pt x="6028" y="15056"/>
                </a:moveTo>
                <a:cubicBezTo>
                  <a:pt x="6040" y="15274"/>
                  <a:pt x="6039" y="15460"/>
                  <a:pt x="6003" y="15677"/>
                </a:cubicBezTo>
              </a:path>
              <a:path w="1663" h="622">
                <a:moveTo>
                  <a:pt x="6201" y="15180"/>
                </a:moveTo>
                <a:cubicBezTo>
                  <a:pt x="6186" y="15438"/>
                  <a:pt x="6163" y="15476"/>
                  <a:pt x="6300" y="15677"/>
                </a:cubicBezTo>
                <a:cubicBezTo>
                  <a:pt x="6506" y="15564"/>
                  <a:pt x="6718" y="15344"/>
                  <a:pt x="6424" y="15131"/>
                </a:cubicBezTo>
                <a:cubicBezTo>
                  <a:pt x="6276" y="15088"/>
                  <a:pt x="6244" y="15065"/>
                  <a:pt x="6152" y="15106"/>
                </a:cubicBezTo>
              </a:path>
              <a:path w="1663" h="622">
                <a:moveTo>
                  <a:pt x="6772" y="15081"/>
                </a:moveTo>
                <a:cubicBezTo>
                  <a:pt x="6588" y="15302"/>
                  <a:pt x="6549" y="15425"/>
                  <a:pt x="6722" y="15652"/>
                </a:cubicBezTo>
                <a:cubicBezTo>
                  <a:pt x="6939" y="15547"/>
                  <a:pt x="7185" y="15299"/>
                  <a:pt x="6821" y="15106"/>
                </a:cubicBezTo>
                <a:cubicBezTo>
                  <a:pt x="6696" y="15106"/>
                  <a:pt x="6653" y="15083"/>
                  <a:pt x="6648" y="15180"/>
                </a:cubicBezTo>
              </a:path>
              <a:path w="1663" h="622">
                <a:moveTo>
                  <a:pt x="7342" y="15056"/>
                </a:moveTo>
                <a:cubicBezTo>
                  <a:pt x="7261" y="15279"/>
                  <a:pt x="7234" y="15375"/>
                  <a:pt x="7268" y="15602"/>
                </a:cubicBezTo>
                <a:cubicBezTo>
                  <a:pt x="7408" y="15574"/>
                  <a:pt x="7877" y="15403"/>
                  <a:pt x="7590" y="15180"/>
                </a:cubicBezTo>
                <a:cubicBezTo>
                  <a:pt x="7442" y="15138"/>
                  <a:pt x="7409" y="15115"/>
                  <a:pt x="7317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63880" y="5419800"/>
            <a:ext cx="171360" cy="216000"/>
          </a:xfrm>
          <a:custGeom>
            <a:avLst/>
            <a:gdLst/>
            <a:ahLst/>
            <a:rect l="l" t="t" r="r" b="b"/>
            <a:pathLst>
              <a:path w="472" h="597">
                <a:moveTo>
                  <a:pt x="8409" y="15056"/>
                </a:moveTo>
                <a:cubicBezTo>
                  <a:pt x="8209" y="15271"/>
                  <a:pt x="8211" y="15388"/>
                  <a:pt x="8310" y="15652"/>
                </a:cubicBezTo>
                <a:cubicBezTo>
                  <a:pt x="8439" y="15610"/>
                  <a:pt x="8996" y="15315"/>
                  <a:pt x="8607" y="15131"/>
                </a:cubicBezTo>
                <a:cubicBezTo>
                  <a:pt x="8432" y="15131"/>
                  <a:pt x="8404" y="15116"/>
                  <a:pt x="8310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73280" y="5402160"/>
            <a:ext cx="928800" cy="277920"/>
          </a:xfrm>
          <a:custGeom>
            <a:avLst/>
            <a:gdLst/>
            <a:ahLst/>
            <a:rect l="l" t="t" r="r" b="b"/>
            <a:pathLst>
              <a:path w="2581" h="770">
                <a:moveTo>
                  <a:pt x="9649" y="15081"/>
                </a:moveTo>
                <a:cubicBezTo>
                  <a:pt x="9758" y="15081"/>
                  <a:pt x="9829" y="15084"/>
                  <a:pt x="9922" y="15032"/>
                </a:cubicBezTo>
                <a:cubicBezTo>
                  <a:pt x="9905" y="15098"/>
                  <a:pt x="9730" y="15537"/>
                  <a:pt x="9773" y="15577"/>
                </a:cubicBezTo>
                <a:cubicBezTo>
                  <a:pt x="9798" y="15569"/>
                  <a:pt x="9822" y="15561"/>
                  <a:pt x="9847" y="15553"/>
                </a:cubicBezTo>
              </a:path>
              <a:path w="2581" h="770">
                <a:moveTo>
                  <a:pt x="10170" y="15007"/>
                </a:moveTo>
                <a:cubicBezTo>
                  <a:pt x="10032" y="15237"/>
                  <a:pt x="9965" y="15345"/>
                  <a:pt x="10120" y="15553"/>
                </a:cubicBezTo>
                <a:cubicBezTo>
                  <a:pt x="10309" y="15495"/>
                  <a:pt x="10642" y="15297"/>
                  <a:pt x="10319" y="15081"/>
                </a:cubicBezTo>
                <a:cubicBezTo>
                  <a:pt x="10269" y="15073"/>
                  <a:pt x="10220" y="15064"/>
                  <a:pt x="10170" y="15056"/>
                </a:cubicBezTo>
              </a:path>
              <a:path w="2581" h="770">
                <a:moveTo>
                  <a:pt x="10616" y="15627"/>
                </a:moveTo>
                <a:cubicBezTo>
                  <a:pt x="10616" y="15677"/>
                  <a:pt x="10616" y="15726"/>
                  <a:pt x="10616" y="15776"/>
                </a:cubicBezTo>
              </a:path>
              <a:path w="2581" h="770">
                <a:moveTo>
                  <a:pt x="10964" y="15056"/>
                </a:moveTo>
                <a:cubicBezTo>
                  <a:pt x="10760" y="15295"/>
                  <a:pt x="10678" y="15385"/>
                  <a:pt x="10840" y="15652"/>
                </a:cubicBezTo>
                <a:cubicBezTo>
                  <a:pt x="11034" y="15576"/>
                  <a:pt x="11305" y="15370"/>
                  <a:pt x="10988" y="15180"/>
                </a:cubicBezTo>
                <a:cubicBezTo>
                  <a:pt x="10939" y="15172"/>
                  <a:pt x="10889" y="15164"/>
                  <a:pt x="10840" y="15156"/>
                </a:cubicBezTo>
              </a:path>
              <a:path w="2581" h="770">
                <a:moveTo>
                  <a:pt x="11336" y="15131"/>
                </a:moveTo>
                <a:cubicBezTo>
                  <a:pt x="11220" y="15293"/>
                  <a:pt x="11178" y="15338"/>
                  <a:pt x="11212" y="15478"/>
                </a:cubicBezTo>
                <a:cubicBezTo>
                  <a:pt x="11373" y="15571"/>
                  <a:pt x="11732" y="15598"/>
                  <a:pt x="11658" y="15255"/>
                </a:cubicBezTo>
                <a:cubicBezTo>
                  <a:pt x="11612" y="15039"/>
                  <a:pt x="11456" y="15126"/>
                  <a:pt x="11361" y="15180"/>
                </a:cubicBezTo>
              </a:path>
              <a:path w="2581" h="770">
                <a:moveTo>
                  <a:pt x="11881" y="15056"/>
                </a:moveTo>
                <a:cubicBezTo>
                  <a:pt x="11715" y="15311"/>
                  <a:pt x="11695" y="15292"/>
                  <a:pt x="11782" y="15577"/>
                </a:cubicBezTo>
                <a:cubicBezTo>
                  <a:pt x="11954" y="15571"/>
                  <a:pt x="12474" y="15453"/>
                  <a:pt x="12154" y="15156"/>
                </a:cubicBezTo>
                <a:cubicBezTo>
                  <a:pt x="11982" y="15106"/>
                  <a:pt x="11926" y="15090"/>
                  <a:pt x="118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27720" y="5357880"/>
            <a:ext cx="615960" cy="401400"/>
          </a:xfrm>
          <a:custGeom>
            <a:avLst/>
            <a:gdLst/>
            <a:ahLst/>
            <a:rect l="l" t="t" r="r" b="b"/>
            <a:pathLst>
              <a:path w="1713" h="1117">
                <a:moveTo>
                  <a:pt x="12700" y="15032"/>
                </a:moveTo>
                <a:cubicBezTo>
                  <a:pt x="12726" y="15187"/>
                  <a:pt x="12725" y="15343"/>
                  <a:pt x="12725" y="15503"/>
                </a:cubicBezTo>
                <a:cubicBezTo>
                  <a:pt x="12725" y="15511"/>
                  <a:pt x="12725" y="15520"/>
                  <a:pt x="12725" y="15528"/>
                </a:cubicBezTo>
              </a:path>
              <a:path w="1713" h="1117">
                <a:moveTo>
                  <a:pt x="12576" y="15230"/>
                </a:moveTo>
                <a:cubicBezTo>
                  <a:pt x="12708" y="15230"/>
                  <a:pt x="12841" y="15230"/>
                  <a:pt x="12973" y="15230"/>
                </a:cubicBezTo>
              </a:path>
              <a:path w="1713" h="1117">
                <a:moveTo>
                  <a:pt x="13320" y="15503"/>
                </a:moveTo>
                <a:cubicBezTo>
                  <a:pt x="13320" y="15607"/>
                  <a:pt x="13329" y="15712"/>
                  <a:pt x="13295" y="15801"/>
                </a:cubicBezTo>
              </a:path>
              <a:path w="1713" h="1117">
                <a:moveTo>
                  <a:pt x="13370" y="15032"/>
                </a:moveTo>
                <a:cubicBezTo>
                  <a:pt x="13357" y="15133"/>
                  <a:pt x="13334" y="15257"/>
                  <a:pt x="13295" y="15354"/>
                </a:cubicBezTo>
                <a:cubicBezTo>
                  <a:pt x="13287" y="15362"/>
                  <a:pt x="13279" y="15371"/>
                  <a:pt x="13271" y="15379"/>
                </a:cubicBezTo>
                <a:cubicBezTo>
                  <a:pt x="13397" y="15379"/>
                  <a:pt x="13499" y="15346"/>
                  <a:pt x="13593" y="15255"/>
                </a:cubicBezTo>
                <a:cubicBezTo>
                  <a:pt x="13618" y="15222"/>
                  <a:pt x="13642" y="15189"/>
                  <a:pt x="13667" y="15156"/>
                </a:cubicBezTo>
              </a:path>
              <a:path w="1713" h="1117">
                <a:moveTo>
                  <a:pt x="13618" y="14883"/>
                </a:moveTo>
                <a:cubicBezTo>
                  <a:pt x="13534" y="15135"/>
                  <a:pt x="13458" y="15397"/>
                  <a:pt x="13370" y="15652"/>
                </a:cubicBezTo>
                <a:cubicBezTo>
                  <a:pt x="13348" y="15717"/>
                  <a:pt x="13320" y="15870"/>
                  <a:pt x="13320" y="15801"/>
                </a:cubicBezTo>
              </a:path>
              <a:path w="1713" h="1117">
                <a:moveTo>
                  <a:pt x="13692" y="15677"/>
                </a:moveTo>
                <a:cubicBezTo>
                  <a:pt x="13684" y="15720"/>
                  <a:pt x="13580" y="16075"/>
                  <a:pt x="13643" y="15949"/>
                </a:cubicBezTo>
              </a:path>
              <a:path w="1713" h="1117">
                <a:moveTo>
                  <a:pt x="14139" y="15032"/>
                </a:moveTo>
                <a:cubicBezTo>
                  <a:pt x="13920" y="15211"/>
                  <a:pt x="13862" y="15320"/>
                  <a:pt x="13965" y="15577"/>
                </a:cubicBezTo>
                <a:cubicBezTo>
                  <a:pt x="14132" y="15542"/>
                  <a:pt x="14516" y="15317"/>
                  <a:pt x="14238" y="15081"/>
                </a:cubicBezTo>
                <a:cubicBezTo>
                  <a:pt x="14104" y="15062"/>
                  <a:pt x="14082" y="15035"/>
                  <a:pt x="14015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9720" y="5483160"/>
            <a:ext cx="144360" cy="27000"/>
          </a:xfrm>
          <a:custGeom>
            <a:avLst/>
            <a:gdLst/>
            <a:ahLst/>
            <a:rect l="l" t="t" r="r" b="b"/>
            <a:pathLst>
              <a:path w="398" h="75">
                <a:moveTo>
                  <a:pt x="15528" y="15304"/>
                </a:moveTo>
                <a:cubicBezTo>
                  <a:pt x="15662" y="15282"/>
                  <a:pt x="15793" y="15259"/>
                  <a:pt x="15925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02200" y="5384880"/>
            <a:ext cx="465120" cy="2761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6793" y="15205"/>
                </a:moveTo>
                <a:cubicBezTo>
                  <a:pt x="16834" y="15286"/>
                  <a:pt x="16804" y="15075"/>
                  <a:pt x="16743" y="15007"/>
                </a:cubicBezTo>
                <a:cubicBezTo>
                  <a:pt x="16710" y="14990"/>
                  <a:pt x="16677" y="14974"/>
                  <a:pt x="16644" y="14957"/>
                </a:cubicBezTo>
                <a:cubicBezTo>
                  <a:pt x="16569" y="15028"/>
                  <a:pt x="16160" y="15524"/>
                  <a:pt x="16545" y="15478"/>
                </a:cubicBezTo>
                <a:cubicBezTo>
                  <a:pt x="16726" y="15456"/>
                  <a:pt x="16751" y="15237"/>
                  <a:pt x="16793" y="15106"/>
                </a:cubicBezTo>
                <a:cubicBezTo>
                  <a:pt x="16747" y="15174"/>
                  <a:pt x="16687" y="15495"/>
                  <a:pt x="16644" y="15652"/>
                </a:cubicBezTo>
                <a:cubicBezTo>
                  <a:pt x="16587" y="15860"/>
                  <a:pt x="16768" y="15514"/>
                  <a:pt x="16793" y="15478"/>
                </a:cubicBezTo>
              </a:path>
              <a:path w="1291" h="770">
                <a:moveTo>
                  <a:pt x="17090" y="15007"/>
                </a:moveTo>
                <a:cubicBezTo>
                  <a:pt x="16928" y="15226"/>
                  <a:pt x="16761" y="15385"/>
                  <a:pt x="16867" y="15627"/>
                </a:cubicBezTo>
                <a:cubicBezTo>
                  <a:pt x="17052" y="15558"/>
                  <a:pt x="17379" y="15378"/>
                  <a:pt x="17140" y="15131"/>
                </a:cubicBezTo>
                <a:cubicBezTo>
                  <a:pt x="17040" y="15091"/>
                  <a:pt x="17022" y="15062"/>
                  <a:pt x="16966" y="15106"/>
                </a:cubicBezTo>
              </a:path>
              <a:path w="1291" h="770">
                <a:moveTo>
                  <a:pt x="17438" y="15007"/>
                </a:moveTo>
                <a:cubicBezTo>
                  <a:pt x="17264" y="15264"/>
                  <a:pt x="17133" y="15399"/>
                  <a:pt x="17338" y="15652"/>
                </a:cubicBezTo>
                <a:cubicBezTo>
                  <a:pt x="17455" y="15593"/>
                  <a:pt x="17903" y="15322"/>
                  <a:pt x="17636" y="15131"/>
                </a:cubicBezTo>
                <a:cubicBezTo>
                  <a:pt x="17578" y="15123"/>
                  <a:pt x="17520" y="15114"/>
                  <a:pt x="17462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27880" y="5367240"/>
            <a:ext cx="517320" cy="223920"/>
          </a:xfrm>
          <a:custGeom>
            <a:avLst/>
            <a:gdLst/>
            <a:ahLst/>
            <a:rect l="l" t="t" r="r" b="b"/>
            <a:pathLst>
              <a:path w="1440" h="621">
                <a:moveTo>
                  <a:pt x="18132" y="15304"/>
                </a:moveTo>
                <a:cubicBezTo>
                  <a:pt x="18289" y="15289"/>
                  <a:pt x="18447" y="15255"/>
                  <a:pt x="18604" y="15230"/>
                </a:cubicBezTo>
              </a:path>
              <a:path w="1440" h="621">
                <a:moveTo>
                  <a:pt x="18827" y="14932"/>
                </a:moveTo>
                <a:cubicBezTo>
                  <a:pt x="18965" y="14865"/>
                  <a:pt x="19108" y="14907"/>
                  <a:pt x="19149" y="15081"/>
                </a:cubicBezTo>
                <a:cubicBezTo>
                  <a:pt x="19197" y="15288"/>
                  <a:pt x="19001" y="15675"/>
                  <a:pt x="18752" y="15453"/>
                </a:cubicBezTo>
                <a:cubicBezTo>
                  <a:pt x="18744" y="15420"/>
                  <a:pt x="18736" y="15387"/>
                  <a:pt x="18728" y="15354"/>
                </a:cubicBezTo>
                <a:cubicBezTo>
                  <a:pt x="18875" y="15279"/>
                  <a:pt x="18914" y="15404"/>
                  <a:pt x="19075" y="15404"/>
                </a:cubicBezTo>
                <a:cubicBezTo>
                  <a:pt x="19116" y="15396"/>
                  <a:pt x="19158" y="15387"/>
                  <a:pt x="19199" y="15379"/>
                </a:cubicBezTo>
              </a:path>
              <a:path w="1440" h="621">
                <a:moveTo>
                  <a:pt x="19397" y="14982"/>
                </a:moveTo>
                <a:cubicBezTo>
                  <a:pt x="19221" y="15169"/>
                  <a:pt x="19158" y="15280"/>
                  <a:pt x="19224" y="15528"/>
                </a:cubicBezTo>
                <a:cubicBezTo>
                  <a:pt x="19393" y="15471"/>
                  <a:pt x="19703" y="15332"/>
                  <a:pt x="19546" y="15081"/>
                </a:cubicBezTo>
                <a:cubicBezTo>
                  <a:pt x="19505" y="15056"/>
                  <a:pt x="19463" y="15032"/>
                  <a:pt x="19422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5473800"/>
            <a:ext cx="172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20042" y="15205"/>
                </a:moveTo>
                <a:cubicBezTo>
                  <a:pt x="20030" y="15291"/>
                  <a:pt x="20024" y="15404"/>
                  <a:pt x="19993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8680" y="5402160"/>
            <a:ext cx="13464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20464" y="15007"/>
                </a:moveTo>
                <a:cubicBezTo>
                  <a:pt x="20435" y="15063"/>
                  <a:pt x="20424" y="15087"/>
                  <a:pt x="20414" y="15131"/>
                </a:cubicBezTo>
                <a:cubicBezTo>
                  <a:pt x="20464" y="15230"/>
                  <a:pt x="20613" y="15154"/>
                  <a:pt x="20712" y="15205"/>
                </a:cubicBezTo>
                <a:cubicBezTo>
                  <a:pt x="20901" y="15303"/>
                  <a:pt x="20642" y="15461"/>
                  <a:pt x="20513" y="15404"/>
                </a:cubicBezTo>
                <a:cubicBezTo>
                  <a:pt x="20488" y="15379"/>
                  <a:pt x="20464" y="15354"/>
                  <a:pt x="20439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5769000"/>
            <a:ext cx="5340240" cy="473040"/>
          </a:xfrm>
          <a:custGeom>
            <a:avLst/>
            <a:gdLst/>
            <a:ahLst/>
            <a:rect l="l" t="t" r="r" b="b"/>
            <a:pathLst>
              <a:path w="14834" h="1315">
                <a:moveTo>
                  <a:pt x="5209" y="16842"/>
                </a:moveTo>
                <a:cubicBezTo>
                  <a:pt x="5334" y="16819"/>
                  <a:pt x="5457" y="16796"/>
                  <a:pt x="5581" y="16768"/>
                </a:cubicBezTo>
              </a:path>
              <a:path w="14834" h="1315">
                <a:moveTo>
                  <a:pt x="8285" y="16197"/>
                </a:moveTo>
                <a:cubicBezTo>
                  <a:pt x="8517" y="16468"/>
                  <a:pt x="8685" y="16667"/>
                  <a:pt x="8558" y="17041"/>
                </a:cubicBezTo>
                <a:cubicBezTo>
                  <a:pt x="8485" y="17162"/>
                  <a:pt x="8464" y="17202"/>
                  <a:pt x="8359" y="17214"/>
                </a:cubicBezTo>
              </a:path>
              <a:path w="14834" h="1315">
                <a:moveTo>
                  <a:pt x="10021" y="16371"/>
                </a:moveTo>
                <a:cubicBezTo>
                  <a:pt x="9841" y="16635"/>
                  <a:pt x="9772" y="16869"/>
                  <a:pt x="9798" y="17190"/>
                </a:cubicBezTo>
                <a:cubicBezTo>
                  <a:pt x="9817" y="17284"/>
                  <a:pt x="9803" y="17303"/>
                  <a:pt x="9847" y="17338"/>
                </a:cubicBezTo>
                <a:cubicBezTo>
                  <a:pt x="9993" y="17327"/>
                  <a:pt x="9948" y="17350"/>
                  <a:pt x="10021" y="17214"/>
                </a:cubicBezTo>
              </a:path>
              <a:path w="14834" h="1315">
                <a:moveTo>
                  <a:pt x="12254" y="16173"/>
                </a:moveTo>
                <a:cubicBezTo>
                  <a:pt x="12486" y="16270"/>
                  <a:pt x="12700" y="16529"/>
                  <a:pt x="12750" y="16793"/>
                </a:cubicBezTo>
                <a:cubicBezTo>
                  <a:pt x="12786" y="16986"/>
                  <a:pt x="12663" y="17141"/>
                  <a:pt x="12502" y="17190"/>
                </a:cubicBezTo>
              </a:path>
              <a:path w="14834" h="1315">
                <a:moveTo>
                  <a:pt x="15131" y="16594"/>
                </a:moveTo>
                <a:cubicBezTo>
                  <a:pt x="15033" y="16722"/>
                  <a:pt x="14836" y="16900"/>
                  <a:pt x="14808" y="17066"/>
                </a:cubicBezTo>
                <a:cubicBezTo>
                  <a:pt x="14816" y="17058"/>
                  <a:pt x="14825" y="17049"/>
                  <a:pt x="14833" y="17041"/>
                </a:cubicBezTo>
              </a:path>
              <a:path w="14834" h="1315">
                <a:moveTo>
                  <a:pt x="16371" y="16024"/>
                </a:moveTo>
                <a:cubicBezTo>
                  <a:pt x="16577" y="16272"/>
                  <a:pt x="16741" y="16499"/>
                  <a:pt x="16669" y="16842"/>
                </a:cubicBezTo>
                <a:cubicBezTo>
                  <a:pt x="16638" y="16991"/>
                  <a:pt x="16588" y="17051"/>
                  <a:pt x="16470" y="17090"/>
                </a:cubicBezTo>
              </a:path>
              <a:path w="14834" h="1315">
                <a:moveTo>
                  <a:pt x="19968" y="16197"/>
                </a:moveTo>
                <a:cubicBezTo>
                  <a:pt x="20002" y="16265"/>
                  <a:pt x="20001" y="16348"/>
                  <a:pt x="20042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040" y="5991120"/>
            <a:ext cx="115920" cy="11772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17289" y="16644"/>
                </a:moveTo>
                <a:cubicBezTo>
                  <a:pt x="17289" y="16749"/>
                  <a:pt x="17300" y="16936"/>
                  <a:pt x="17289" y="16942"/>
                </a:cubicBezTo>
              </a:path>
              <a:path w="323" h="323">
                <a:moveTo>
                  <a:pt x="17190" y="16743"/>
                </a:moveTo>
                <a:cubicBezTo>
                  <a:pt x="17297" y="16743"/>
                  <a:pt x="17405" y="16743"/>
                  <a:pt x="17512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7160" y="5991120"/>
            <a:ext cx="152640" cy="25092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2555" y="16644"/>
                </a:moveTo>
                <a:cubicBezTo>
                  <a:pt x="2463" y="16675"/>
                  <a:pt x="2426" y="16882"/>
                  <a:pt x="2406" y="16966"/>
                </a:cubicBezTo>
                <a:cubicBezTo>
                  <a:pt x="2368" y="17124"/>
                  <a:pt x="2365" y="17277"/>
                  <a:pt x="2530" y="17338"/>
                </a:cubicBezTo>
                <a:cubicBezTo>
                  <a:pt x="2538" y="17338"/>
                  <a:pt x="2547" y="17338"/>
                  <a:pt x="2555" y="17338"/>
                </a:cubicBezTo>
              </a:path>
              <a:path w="423" h="695">
                <a:moveTo>
                  <a:pt x="2803" y="16743"/>
                </a:moveTo>
                <a:cubicBezTo>
                  <a:pt x="2803" y="16904"/>
                  <a:pt x="2790" y="17056"/>
                  <a:pt x="2778" y="17214"/>
                </a:cubicBezTo>
                <a:cubicBezTo>
                  <a:pt x="2778" y="17239"/>
                  <a:pt x="2778" y="17247"/>
                  <a:pt x="2778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33640" y="5823000"/>
            <a:ext cx="625320" cy="392040"/>
          </a:xfrm>
          <a:custGeom>
            <a:avLst/>
            <a:gdLst/>
            <a:ahLst/>
            <a:rect l="l" t="t" r="r" b="b"/>
            <a:pathLst>
              <a:path w="1738" h="1092">
                <a:moveTo>
                  <a:pt x="3150" y="16793"/>
                </a:moveTo>
                <a:cubicBezTo>
                  <a:pt x="3248" y="16818"/>
                  <a:pt x="3295" y="16986"/>
                  <a:pt x="3349" y="17066"/>
                </a:cubicBezTo>
                <a:cubicBezTo>
                  <a:pt x="3357" y="17074"/>
                  <a:pt x="3365" y="17082"/>
                  <a:pt x="3373" y="17090"/>
                </a:cubicBezTo>
              </a:path>
              <a:path w="1738" h="1092">
                <a:moveTo>
                  <a:pt x="3423" y="16694"/>
                </a:moveTo>
                <a:cubicBezTo>
                  <a:pt x="3323" y="16830"/>
                  <a:pt x="3230" y="16984"/>
                  <a:pt x="3150" y="17115"/>
                </a:cubicBezTo>
                <a:cubicBezTo>
                  <a:pt x="3150" y="17107"/>
                  <a:pt x="3150" y="17098"/>
                  <a:pt x="3150" y="17090"/>
                </a:cubicBezTo>
              </a:path>
              <a:path w="1738" h="1092">
                <a:moveTo>
                  <a:pt x="3721" y="16669"/>
                </a:moveTo>
                <a:cubicBezTo>
                  <a:pt x="3709" y="16840"/>
                  <a:pt x="3670" y="16981"/>
                  <a:pt x="3621" y="17140"/>
                </a:cubicBezTo>
                <a:cubicBezTo>
                  <a:pt x="3621" y="17194"/>
                  <a:pt x="3634" y="17176"/>
                  <a:pt x="3671" y="17066"/>
                </a:cubicBezTo>
              </a:path>
              <a:path w="1738" h="1092">
                <a:moveTo>
                  <a:pt x="3994" y="16669"/>
                </a:moveTo>
                <a:cubicBezTo>
                  <a:pt x="3948" y="16843"/>
                  <a:pt x="3896" y="16990"/>
                  <a:pt x="3919" y="17165"/>
                </a:cubicBezTo>
                <a:cubicBezTo>
                  <a:pt x="4118" y="17183"/>
                  <a:pt x="4176" y="17067"/>
                  <a:pt x="4167" y="16867"/>
                </a:cubicBezTo>
                <a:cubicBezTo>
                  <a:pt x="4161" y="16717"/>
                  <a:pt x="4110" y="16717"/>
                  <a:pt x="3994" y="16669"/>
                </a:cubicBezTo>
              </a:path>
              <a:path w="1738" h="1092">
                <a:moveTo>
                  <a:pt x="4366" y="16346"/>
                </a:moveTo>
                <a:cubicBezTo>
                  <a:pt x="4314" y="16378"/>
                  <a:pt x="4267" y="16414"/>
                  <a:pt x="4242" y="16446"/>
                </a:cubicBezTo>
                <a:cubicBezTo>
                  <a:pt x="4215" y="16482"/>
                  <a:pt x="4185" y="16485"/>
                  <a:pt x="4167" y="16520"/>
                </a:cubicBezTo>
                <a:cubicBezTo>
                  <a:pt x="4227" y="16556"/>
                  <a:pt x="4364" y="16547"/>
                  <a:pt x="4415" y="16594"/>
                </a:cubicBezTo>
                <a:cubicBezTo>
                  <a:pt x="4415" y="16611"/>
                  <a:pt x="4415" y="16627"/>
                  <a:pt x="4415" y="16644"/>
                </a:cubicBezTo>
                <a:cubicBezTo>
                  <a:pt x="4379" y="16773"/>
                  <a:pt x="4300" y="16735"/>
                  <a:pt x="4217" y="16669"/>
                </a:cubicBezTo>
              </a:path>
              <a:path w="1738" h="1092">
                <a:moveTo>
                  <a:pt x="4514" y="16173"/>
                </a:moveTo>
                <a:cubicBezTo>
                  <a:pt x="4730" y="16474"/>
                  <a:pt x="4936" y="16699"/>
                  <a:pt x="4862" y="17090"/>
                </a:cubicBezTo>
                <a:cubicBezTo>
                  <a:pt x="4846" y="17175"/>
                  <a:pt x="4663" y="17365"/>
                  <a:pt x="4688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28880" y="6010200"/>
            <a:ext cx="936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5383" y="16718"/>
                </a:moveTo>
                <a:cubicBezTo>
                  <a:pt x="5383" y="16680"/>
                  <a:pt x="5360" y="16912"/>
                  <a:pt x="5358" y="16966"/>
                </a:cubicBezTo>
                <a:cubicBezTo>
                  <a:pt x="5358" y="16991"/>
                  <a:pt x="5358" y="16999"/>
                  <a:pt x="535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08160" y="5911920"/>
            <a:ext cx="241200" cy="366480"/>
          </a:xfrm>
          <a:custGeom>
            <a:avLst/>
            <a:gdLst/>
            <a:ahLst/>
            <a:rect l="l" t="t" r="r" b="b"/>
            <a:pathLst>
              <a:path w="671" h="1018">
                <a:moveTo>
                  <a:pt x="6102" y="16421"/>
                </a:moveTo>
                <a:cubicBezTo>
                  <a:pt x="6026" y="16674"/>
                  <a:pt x="5897" y="16923"/>
                  <a:pt x="5854" y="17190"/>
                </a:cubicBezTo>
                <a:cubicBezTo>
                  <a:pt x="5845" y="17243"/>
                  <a:pt x="5847" y="17452"/>
                  <a:pt x="5928" y="17438"/>
                </a:cubicBezTo>
                <a:cubicBezTo>
                  <a:pt x="5985" y="17410"/>
                  <a:pt x="6004" y="17394"/>
                  <a:pt x="6003" y="17338"/>
                </a:cubicBezTo>
              </a:path>
              <a:path w="671" h="1018">
                <a:moveTo>
                  <a:pt x="6176" y="16619"/>
                </a:moveTo>
                <a:cubicBezTo>
                  <a:pt x="6263" y="16641"/>
                  <a:pt x="6320" y="16688"/>
                  <a:pt x="6424" y="16694"/>
                </a:cubicBezTo>
                <a:cubicBezTo>
                  <a:pt x="6457" y="16694"/>
                  <a:pt x="6491" y="16694"/>
                  <a:pt x="6524" y="16694"/>
                </a:cubicBezTo>
                <a:cubicBezTo>
                  <a:pt x="6505" y="16840"/>
                  <a:pt x="6444" y="16952"/>
                  <a:pt x="6400" y="17090"/>
                </a:cubicBezTo>
                <a:cubicBezTo>
                  <a:pt x="6400" y="17125"/>
                  <a:pt x="6409" y="17129"/>
                  <a:pt x="6449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0840" y="6018120"/>
            <a:ext cx="73080" cy="117720"/>
          </a:xfrm>
          <a:custGeom>
            <a:avLst/>
            <a:gdLst/>
            <a:ahLst/>
            <a:rect l="l" t="t" r="r" b="b"/>
            <a:pathLst>
              <a:path w="199" h="324">
                <a:moveTo>
                  <a:pt x="6970" y="16718"/>
                </a:moveTo>
                <a:cubicBezTo>
                  <a:pt x="6990" y="16818"/>
                  <a:pt x="7072" y="16883"/>
                  <a:pt x="7119" y="16966"/>
                </a:cubicBezTo>
                <a:cubicBezTo>
                  <a:pt x="7119" y="16991"/>
                  <a:pt x="7119" y="16999"/>
                  <a:pt x="7119" y="16966"/>
                </a:cubicBezTo>
              </a:path>
              <a:path w="199" h="324">
                <a:moveTo>
                  <a:pt x="7045" y="16718"/>
                </a:moveTo>
                <a:cubicBezTo>
                  <a:pt x="7002" y="16825"/>
                  <a:pt x="6959" y="16932"/>
                  <a:pt x="6921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8040" y="591192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7466" y="16669"/>
                </a:moveTo>
                <a:cubicBezTo>
                  <a:pt x="7466" y="16797"/>
                  <a:pt x="7457" y="16915"/>
                  <a:pt x="7441" y="17041"/>
                </a:cubicBezTo>
              </a:path>
              <a:path w="894" h="745">
                <a:moveTo>
                  <a:pt x="7739" y="16644"/>
                </a:moveTo>
                <a:cubicBezTo>
                  <a:pt x="7646" y="16856"/>
                  <a:pt x="7565" y="16971"/>
                  <a:pt x="7689" y="17165"/>
                </a:cubicBezTo>
                <a:cubicBezTo>
                  <a:pt x="7905" y="17100"/>
                  <a:pt x="8040" y="17030"/>
                  <a:pt x="7962" y="16768"/>
                </a:cubicBezTo>
                <a:cubicBezTo>
                  <a:pt x="7931" y="16664"/>
                  <a:pt x="7849" y="16678"/>
                  <a:pt x="7764" y="16669"/>
                </a:cubicBezTo>
              </a:path>
              <a:path w="894" h="745">
                <a:moveTo>
                  <a:pt x="8136" y="16470"/>
                </a:moveTo>
                <a:cubicBezTo>
                  <a:pt x="8119" y="16520"/>
                  <a:pt x="8089" y="16570"/>
                  <a:pt x="8062" y="16619"/>
                </a:cubicBezTo>
                <a:cubicBezTo>
                  <a:pt x="8129" y="16660"/>
                  <a:pt x="8242" y="16653"/>
                  <a:pt x="8310" y="16594"/>
                </a:cubicBezTo>
                <a:cubicBezTo>
                  <a:pt x="8318" y="16578"/>
                  <a:pt x="8326" y="16561"/>
                  <a:pt x="8334" y="16545"/>
                </a:cubicBezTo>
              </a:path>
              <a:path w="894" h="745">
                <a:moveTo>
                  <a:pt x="8285" y="16421"/>
                </a:moveTo>
                <a:cubicBezTo>
                  <a:pt x="8272" y="16465"/>
                  <a:pt x="8196" y="16729"/>
                  <a:pt x="8210" y="16743"/>
                </a:cubicBezTo>
                <a:cubicBezTo>
                  <a:pt x="8218" y="16735"/>
                  <a:pt x="8227" y="16726"/>
                  <a:pt x="8235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32080" y="600084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9079" y="16669"/>
                </a:moveTo>
                <a:cubicBezTo>
                  <a:pt x="9135" y="16745"/>
                  <a:pt x="9083" y="16870"/>
                  <a:pt x="9079" y="16966"/>
                </a:cubicBezTo>
                <a:cubicBezTo>
                  <a:pt x="9079" y="16991"/>
                  <a:pt x="9079" y="16999"/>
                  <a:pt x="9079" y="16966"/>
                </a:cubicBezTo>
              </a:path>
              <a:path w="274" h="323">
                <a:moveTo>
                  <a:pt x="8979" y="16793"/>
                </a:moveTo>
                <a:cubicBezTo>
                  <a:pt x="9057" y="16793"/>
                  <a:pt x="9193" y="16757"/>
                  <a:pt x="9252" y="16768"/>
                </a:cubicBezTo>
                <a:cubicBezTo>
                  <a:pt x="9252" y="16776"/>
                  <a:pt x="9252" y="16785"/>
                  <a:pt x="9252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25920" y="5892840"/>
            <a:ext cx="768240" cy="304920"/>
          </a:xfrm>
          <a:custGeom>
            <a:avLst/>
            <a:gdLst/>
            <a:ahLst/>
            <a:rect l="l" t="t" r="r" b="b"/>
            <a:pathLst>
              <a:path w="2134" h="844">
                <a:moveTo>
                  <a:pt x="10145" y="16694"/>
                </a:moveTo>
                <a:cubicBezTo>
                  <a:pt x="10117" y="16764"/>
                  <a:pt x="10118" y="16770"/>
                  <a:pt x="10071" y="16818"/>
                </a:cubicBezTo>
                <a:cubicBezTo>
                  <a:pt x="10187" y="16828"/>
                  <a:pt x="10302" y="16856"/>
                  <a:pt x="10418" y="16867"/>
                </a:cubicBezTo>
              </a:path>
              <a:path w="2134" h="844">
                <a:moveTo>
                  <a:pt x="10368" y="16570"/>
                </a:moveTo>
                <a:cubicBezTo>
                  <a:pt x="10362" y="16626"/>
                  <a:pt x="10288" y="17066"/>
                  <a:pt x="10319" y="17090"/>
                </a:cubicBezTo>
                <a:cubicBezTo>
                  <a:pt x="10327" y="17082"/>
                  <a:pt x="10336" y="17074"/>
                  <a:pt x="10344" y="17066"/>
                </a:cubicBezTo>
              </a:path>
              <a:path w="2134" h="844">
                <a:moveTo>
                  <a:pt x="10691" y="16743"/>
                </a:moveTo>
                <a:cubicBezTo>
                  <a:pt x="10739" y="16780"/>
                  <a:pt x="10940" y="17069"/>
                  <a:pt x="10964" y="17066"/>
                </a:cubicBezTo>
                <a:cubicBezTo>
                  <a:pt x="10964" y="17041"/>
                  <a:pt x="10964" y="17016"/>
                  <a:pt x="10964" y="16991"/>
                </a:cubicBezTo>
              </a:path>
              <a:path w="2134" h="844">
                <a:moveTo>
                  <a:pt x="10964" y="16669"/>
                </a:moveTo>
                <a:cubicBezTo>
                  <a:pt x="10879" y="16802"/>
                  <a:pt x="10728" y="17001"/>
                  <a:pt x="10716" y="17165"/>
                </a:cubicBezTo>
                <a:cubicBezTo>
                  <a:pt x="10708" y="17272"/>
                  <a:pt x="10868" y="17023"/>
                  <a:pt x="10939" y="16942"/>
                </a:cubicBezTo>
              </a:path>
              <a:path w="2134" h="844">
                <a:moveTo>
                  <a:pt x="11336" y="16619"/>
                </a:moveTo>
                <a:cubicBezTo>
                  <a:pt x="11325" y="16780"/>
                  <a:pt x="11275" y="16911"/>
                  <a:pt x="11237" y="17066"/>
                </a:cubicBezTo>
                <a:cubicBezTo>
                  <a:pt x="11237" y="17129"/>
                  <a:pt x="11264" y="17109"/>
                  <a:pt x="11336" y="16991"/>
                </a:cubicBezTo>
              </a:path>
              <a:path w="2134" h="844">
                <a:moveTo>
                  <a:pt x="11658" y="16619"/>
                </a:moveTo>
                <a:cubicBezTo>
                  <a:pt x="11573" y="16753"/>
                  <a:pt x="11418" y="16914"/>
                  <a:pt x="11435" y="17090"/>
                </a:cubicBezTo>
                <a:cubicBezTo>
                  <a:pt x="11452" y="17123"/>
                  <a:pt x="11468" y="17157"/>
                  <a:pt x="11485" y="17190"/>
                </a:cubicBezTo>
                <a:cubicBezTo>
                  <a:pt x="11675" y="17199"/>
                  <a:pt x="11846" y="17141"/>
                  <a:pt x="11832" y="16892"/>
                </a:cubicBezTo>
                <a:cubicBezTo>
                  <a:pt x="11822" y="16716"/>
                  <a:pt x="11739" y="16712"/>
                  <a:pt x="11609" y="16669"/>
                </a:cubicBezTo>
              </a:path>
              <a:path w="2134" h="844">
                <a:moveTo>
                  <a:pt x="11956" y="16421"/>
                </a:moveTo>
                <a:cubicBezTo>
                  <a:pt x="12035" y="16413"/>
                  <a:pt x="12105" y="16386"/>
                  <a:pt x="12179" y="16371"/>
                </a:cubicBezTo>
                <a:cubicBezTo>
                  <a:pt x="12203" y="16501"/>
                  <a:pt x="12173" y="16504"/>
                  <a:pt x="12055" y="16570"/>
                </a:cubicBezTo>
                <a:cubicBezTo>
                  <a:pt x="12106" y="16570"/>
                  <a:pt x="12258" y="16553"/>
                  <a:pt x="12179" y="16644"/>
                </a:cubicBezTo>
                <a:cubicBezTo>
                  <a:pt x="12084" y="16753"/>
                  <a:pt x="12039" y="16711"/>
                  <a:pt x="11981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5200" y="5991120"/>
            <a:ext cx="73080" cy="108000"/>
          </a:xfrm>
          <a:custGeom>
            <a:avLst/>
            <a:gdLst/>
            <a:ahLst/>
            <a:rect l="l" t="t" r="r" b="b"/>
            <a:pathLst>
              <a:path w="200" h="299">
                <a:moveTo>
                  <a:pt x="13246" y="16644"/>
                </a:moveTo>
                <a:cubicBezTo>
                  <a:pt x="13211" y="16749"/>
                  <a:pt x="13196" y="16822"/>
                  <a:pt x="13196" y="16942"/>
                </a:cubicBezTo>
              </a:path>
              <a:path w="200" h="299">
                <a:moveTo>
                  <a:pt x="13072" y="16793"/>
                </a:moveTo>
                <a:cubicBezTo>
                  <a:pt x="13140" y="16785"/>
                  <a:pt x="13201" y="16768"/>
                  <a:pt x="13271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0760" y="5884920"/>
            <a:ext cx="438120" cy="339840"/>
          </a:xfrm>
          <a:custGeom>
            <a:avLst/>
            <a:gdLst/>
            <a:ahLst/>
            <a:rect l="l" t="t" r="r" b="b"/>
            <a:pathLst>
              <a:path w="1216" h="944">
                <a:moveTo>
                  <a:pt x="14064" y="16346"/>
                </a:moveTo>
                <a:cubicBezTo>
                  <a:pt x="13976" y="16603"/>
                  <a:pt x="13811" y="16910"/>
                  <a:pt x="13915" y="17190"/>
                </a:cubicBezTo>
                <a:cubicBezTo>
                  <a:pt x="13974" y="17349"/>
                  <a:pt x="14090" y="17274"/>
                  <a:pt x="14163" y="17214"/>
                </a:cubicBezTo>
              </a:path>
              <a:path w="1216" h="944">
                <a:moveTo>
                  <a:pt x="14511" y="16669"/>
                </a:moveTo>
                <a:cubicBezTo>
                  <a:pt x="14582" y="16645"/>
                  <a:pt x="14487" y="16539"/>
                  <a:pt x="14461" y="16495"/>
                </a:cubicBezTo>
                <a:cubicBezTo>
                  <a:pt x="14273" y="16539"/>
                  <a:pt x="14238" y="16610"/>
                  <a:pt x="14238" y="16793"/>
                </a:cubicBezTo>
                <a:cubicBezTo>
                  <a:pt x="14411" y="16820"/>
                  <a:pt x="14453" y="16773"/>
                  <a:pt x="14536" y="16619"/>
                </a:cubicBezTo>
                <a:cubicBezTo>
                  <a:pt x="14536" y="16756"/>
                  <a:pt x="14510" y="16908"/>
                  <a:pt x="14486" y="17041"/>
                </a:cubicBezTo>
                <a:cubicBezTo>
                  <a:pt x="14477" y="17095"/>
                  <a:pt x="14464" y="17155"/>
                  <a:pt x="14486" y="17090"/>
                </a:cubicBezTo>
              </a:path>
              <a:path w="1216" h="944">
                <a:moveTo>
                  <a:pt x="14833" y="16669"/>
                </a:moveTo>
                <a:cubicBezTo>
                  <a:pt x="14875" y="16780"/>
                  <a:pt x="14946" y="16950"/>
                  <a:pt x="15032" y="17041"/>
                </a:cubicBezTo>
                <a:cubicBezTo>
                  <a:pt x="15088" y="17070"/>
                  <a:pt x="15107" y="17070"/>
                  <a:pt x="15106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2080" y="5892840"/>
            <a:ext cx="357120" cy="26028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15553" y="16570"/>
                </a:moveTo>
                <a:cubicBezTo>
                  <a:pt x="15561" y="16570"/>
                  <a:pt x="15569" y="16570"/>
                  <a:pt x="15577" y="16570"/>
                </a:cubicBezTo>
                <a:cubicBezTo>
                  <a:pt x="15528" y="16553"/>
                  <a:pt x="15552" y="16542"/>
                  <a:pt x="15528" y="16694"/>
                </a:cubicBezTo>
                <a:cubicBezTo>
                  <a:pt x="15520" y="16745"/>
                  <a:pt x="15515" y="17127"/>
                  <a:pt x="15478" y="17016"/>
                </a:cubicBezTo>
              </a:path>
              <a:path w="993" h="720">
                <a:moveTo>
                  <a:pt x="15900" y="16446"/>
                </a:moveTo>
                <a:cubicBezTo>
                  <a:pt x="15864" y="16607"/>
                  <a:pt x="15701" y="16736"/>
                  <a:pt x="15701" y="16917"/>
                </a:cubicBezTo>
                <a:cubicBezTo>
                  <a:pt x="15743" y="17021"/>
                  <a:pt x="15745" y="17048"/>
                  <a:pt x="15801" y="17090"/>
                </a:cubicBezTo>
                <a:cubicBezTo>
                  <a:pt x="15986" y="17022"/>
                  <a:pt x="16124" y="16906"/>
                  <a:pt x="16098" y="16669"/>
                </a:cubicBezTo>
                <a:cubicBezTo>
                  <a:pt x="16085" y="16554"/>
                  <a:pt x="15984" y="16537"/>
                  <a:pt x="15900" y="16495"/>
                </a:cubicBezTo>
              </a:path>
              <a:path w="993" h="720">
                <a:moveTo>
                  <a:pt x="16222" y="16371"/>
                </a:moveTo>
                <a:cubicBezTo>
                  <a:pt x="16276" y="16371"/>
                  <a:pt x="16369" y="16372"/>
                  <a:pt x="16346" y="16470"/>
                </a:cubicBezTo>
                <a:cubicBezTo>
                  <a:pt x="16329" y="16544"/>
                  <a:pt x="16249" y="16576"/>
                  <a:pt x="16197" y="16619"/>
                </a:cubicBezTo>
                <a:cubicBezTo>
                  <a:pt x="16285" y="16619"/>
                  <a:pt x="16361" y="16608"/>
                  <a:pt x="16446" y="16594"/>
                </a:cubicBezTo>
                <a:cubicBezTo>
                  <a:pt x="16454" y="16594"/>
                  <a:pt x="16462" y="16594"/>
                  <a:pt x="16470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65960" y="5724360"/>
            <a:ext cx="2133360" cy="473400"/>
          </a:xfrm>
          <a:custGeom>
            <a:avLst/>
            <a:gdLst/>
            <a:ahLst/>
            <a:rect l="l" t="t" r="r" b="b"/>
            <a:pathLst>
              <a:path w="5929" h="1315">
                <a:moveTo>
                  <a:pt x="18132" y="16148"/>
                </a:moveTo>
                <a:cubicBezTo>
                  <a:pt x="18070" y="16416"/>
                  <a:pt x="17934" y="16737"/>
                  <a:pt x="17959" y="17016"/>
                </a:cubicBezTo>
                <a:cubicBezTo>
                  <a:pt x="17973" y="17174"/>
                  <a:pt x="18083" y="17147"/>
                  <a:pt x="18182" y="17140"/>
                </a:cubicBezTo>
              </a:path>
              <a:path w="5929" h="1315">
                <a:moveTo>
                  <a:pt x="18331" y="16495"/>
                </a:moveTo>
                <a:cubicBezTo>
                  <a:pt x="18455" y="16513"/>
                  <a:pt x="18604" y="16589"/>
                  <a:pt x="18604" y="16743"/>
                </a:cubicBezTo>
                <a:cubicBezTo>
                  <a:pt x="18604" y="16934"/>
                  <a:pt x="18412" y="16962"/>
                  <a:pt x="18281" y="16942"/>
                </a:cubicBezTo>
                <a:cubicBezTo>
                  <a:pt x="18297" y="16827"/>
                  <a:pt x="18405" y="16850"/>
                  <a:pt x="18504" y="16892"/>
                </a:cubicBezTo>
                <a:cubicBezTo>
                  <a:pt x="18569" y="16935"/>
                  <a:pt x="18583" y="16947"/>
                  <a:pt x="18628" y="16966"/>
                </a:cubicBezTo>
              </a:path>
              <a:path w="5929" h="1315">
                <a:moveTo>
                  <a:pt x="18802" y="16495"/>
                </a:moveTo>
                <a:cubicBezTo>
                  <a:pt x="18840" y="16610"/>
                  <a:pt x="18949" y="16743"/>
                  <a:pt x="19025" y="16842"/>
                </a:cubicBezTo>
                <a:cubicBezTo>
                  <a:pt x="19067" y="16884"/>
                  <a:pt x="19075" y="16909"/>
                  <a:pt x="19100" y="16867"/>
                </a:cubicBezTo>
              </a:path>
              <a:path w="5929" h="1315">
                <a:moveTo>
                  <a:pt x="19124" y="16421"/>
                </a:moveTo>
                <a:cubicBezTo>
                  <a:pt x="19000" y="16583"/>
                  <a:pt x="18926" y="16765"/>
                  <a:pt x="18827" y="16942"/>
                </a:cubicBezTo>
                <a:cubicBezTo>
                  <a:pt x="18805" y="16964"/>
                  <a:pt x="18796" y="16975"/>
                  <a:pt x="18802" y="16942"/>
                </a:cubicBezTo>
              </a:path>
              <a:path w="5929" h="1315">
                <a:moveTo>
                  <a:pt x="19273" y="16421"/>
                </a:moveTo>
                <a:cubicBezTo>
                  <a:pt x="19296" y="16611"/>
                  <a:pt x="19292" y="16777"/>
                  <a:pt x="19273" y="16966"/>
                </a:cubicBezTo>
                <a:cubicBezTo>
                  <a:pt x="19273" y="16958"/>
                  <a:pt x="19273" y="16950"/>
                  <a:pt x="19273" y="16942"/>
                </a:cubicBezTo>
              </a:path>
              <a:path w="5929" h="1315">
                <a:moveTo>
                  <a:pt x="19621" y="16446"/>
                </a:moveTo>
                <a:cubicBezTo>
                  <a:pt x="19592" y="16589"/>
                  <a:pt x="19500" y="16718"/>
                  <a:pt x="19472" y="16867"/>
                </a:cubicBezTo>
                <a:cubicBezTo>
                  <a:pt x="19472" y="16900"/>
                  <a:pt x="19472" y="16933"/>
                  <a:pt x="19472" y="16966"/>
                </a:cubicBezTo>
                <a:cubicBezTo>
                  <a:pt x="19618" y="17023"/>
                  <a:pt x="19788" y="16986"/>
                  <a:pt x="19844" y="16793"/>
                </a:cubicBezTo>
                <a:cubicBezTo>
                  <a:pt x="19888" y="16641"/>
                  <a:pt x="19754" y="16452"/>
                  <a:pt x="19596" y="16446"/>
                </a:cubicBezTo>
                <a:cubicBezTo>
                  <a:pt x="19571" y="16454"/>
                  <a:pt x="19546" y="16462"/>
                  <a:pt x="19521" y="16470"/>
                </a:cubicBezTo>
              </a:path>
              <a:path w="5929" h="1315">
                <a:moveTo>
                  <a:pt x="20017" y="15949"/>
                </a:moveTo>
                <a:cubicBezTo>
                  <a:pt x="20201" y="16150"/>
                  <a:pt x="20362" y="16341"/>
                  <a:pt x="20414" y="16619"/>
                </a:cubicBezTo>
                <a:cubicBezTo>
                  <a:pt x="20445" y="16786"/>
                  <a:pt x="20394" y="17021"/>
                  <a:pt x="20265" y="17140"/>
                </a:cubicBezTo>
                <a:cubicBezTo>
                  <a:pt x="20257" y="17140"/>
                  <a:pt x="20249" y="17140"/>
                  <a:pt x="20241" y="17140"/>
                </a:cubicBezTo>
              </a:path>
              <a:path w="5929" h="1315">
                <a:moveTo>
                  <a:pt x="20811" y="16594"/>
                </a:moveTo>
                <a:cubicBezTo>
                  <a:pt x="20811" y="16687"/>
                  <a:pt x="20790" y="16773"/>
                  <a:pt x="20786" y="16867"/>
                </a:cubicBezTo>
                <a:cubicBezTo>
                  <a:pt x="20786" y="16892"/>
                  <a:pt x="20786" y="16900"/>
                  <a:pt x="20786" y="16867"/>
                </a:cubicBezTo>
              </a:path>
              <a:path w="5929" h="1315">
                <a:moveTo>
                  <a:pt x="20687" y="16718"/>
                </a:moveTo>
                <a:cubicBezTo>
                  <a:pt x="20766" y="16703"/>
                  <a:pt x="20830" y="16694"/>
                  <a:pt x="20910" y="16694"/>
                </a:cubicBezTo>
                <a:cubicBezTo>
                  <a:pt x="20943" y="16694"/>
                  <a:pt x="20960" y="16694"/>
                  <a:pt x="20985" y="16694"/>
                </a:cubicBezTo>
              </a:path>
              <a:path w="5929" h="1315">
                <a:moveTo>
                  <a:pt x="21456" y="16173"/>
                </a:moveTo>
                <a:cubicBezTo>
                  <a:pt x="21360" y="16387"/>
                  <a:pt x="21223" y="16597"/>
                  <a:pt x="21183" y="16842"/>
                </a:cubicBezTo>
                <a:cubicBezTo>
                  <a:pt x="21166" y="16944"/>
                  <a:pt x="21160" y="17154"/>
                  <a:pt x="21282" y="17214"/>
                </a:cubicBezTo>
                <a:cubicBezTo>
                  <a:pt x="21333" y="17239"/>
                  <a:pt x="21355" y="17140"/>
                  <a:pt x="21382" y="17090"/>
                </a:cubicBezTo>
              </a:path>
              <a:path w="5929" h="1315">
                <a:moveTo>
                  <a:pt x="21754" y="16396"/>
                </a:moveTo>
                <a:cubicBezTo>
                  <a:pt x="21661" y="16405"/>
                  <a:pt x="21576" y="16421"/>
                  <a:pt x="21481" y="16421"/>
                </a:cubicBezTo>
                <a:cubicBezTo>
                  <a:pt x="21430" y="16421"/>
                  <a:pt x="21415" y="16544"/>
                  <a:pt x="21382" y="16594"/>
                </a:cubicBezTo>
                <a:cubicBezTo>
                  <a:pt x="21374" y="16602"/>
                  <a:pt x="21365" y="16611"/>
                  <a:pt x="21357" y="16619"/>
                </a:cubicBezTo>
                <a:cubicBezTo>
                  <a:pt x="21484" y="16619"/>
                  <a:pt x="21611" y="16611"/>
                  <a:pt x="21704" y="16718"/>
                </a:cubicBezTo>
                <a:cubicBezTo>
                  <a:pt x="21829" y="16861"/>
                  <a:pt x="21595" y="16979"/>
                  <a:pt x="21481" y="16966"/>
                </a:cubicBezTo>
                <a:cubicBezTo>
                  <a:pt x="21364" y="16920"/>
                  <a:pt x="21326" y="16910"/>
                  <a:pt x="21307" y="16818"/>
                </a:cubicBezTo>
              </a:path>
              <a:path w="5929" h="1315">
                <a:moveTo>
                  <a:pt x="21977" y="16545"/>
                </a:moveTo>
                <a:cubicBezTo>
                  <a:pt x="22000" y="16661"/>
                  <a:pt x="22096" y="16741"/>
                  <a:pt x="22151" y="16842"/>
                </a:cubicBezTo>
                <a:cubicBezTo>
                  <a:pt x="22151" y="16870"/>
                  <a:pt x="22153" y="16876"/>
                  <a:pt x="22175" y="16842"/>
                </a:cubicBezTo>
              </a:path>
              <a:path w="5929" h="1315">
                <a:moveTo>
                  <a:pt x="22250" y="16396"/>
                </a:moveTo>
                <a:cubicBezTo>
                  <a:pt x="22137" y="16534"/>
                  <a:pt x="22055" y="16695"/>
                  <a:pt x="21952" y="16842"/>
                </a:cubicBezTo>
                <a:cubicBezTo>
                  <a:pt x="21917" y="16877"/>
                  <a:pt x="21922" y="16881"/>
                  <a:pt x="22002" y="16842"/>
                </a:cubicBezTo>
              </a:path>
              <a:path w="5929" h="1315">
                <a:moveTo>
                  <a:pt x="22498" y="16371"/>
                </a:moveTo>
                <a:cubicBezTo>
                  <a:pt x="22577" y="16424"/>
                  <a:pt x="22505" y="16645"/>
                  <a:pt x="22498" y="16743"/>
                </a:cubicBezTo>
                <a:cubicBezTo>
                  <a:pt x="22498" y="16776"/>
                  <a:pt x="22498" y="16809"/>
                  <a:pt x="22498" y="16842"/>
                </a:cubicBezTo>
              </a:path>
              <a:path w="5929" h="1315">
                <a:moveTo>
                  <a:pt x="22920" y="16321"/>
                </a:moveTo>
                <a:cubicBezTo>
                  <a:pt x="22846" y="16451"/>
                  <a:pt x="22666" y="16660"/>
                  <a:pt x="22746" y="16818"/>
                </a:cubicBezTo>
                <a:cubicBezTo>
                  <a:pt x="22839" y="17001"/>
                  <a:pt x="23051" y="16722"/>
                  <a:pt x="23093" y="16669"/>
                </a:cubicBezTo>
                <a:cubicBezTo>
                  <a:pt x="23207" y="16524"/>
                  <a:pt x="23074" y="16458"/>
                  <a:pt x="22969" y="16371"/>
                </a:cubicBezTo>
                <a:cubicBezTo>
                  <a:pt x="22961" y="16363"/>
                  <a:pt x="22952" y="16354"/>
                  <a:pt x="22944" y="16346"/>
                </a:cubicBezTo>
              </a:path>
              <a:path w="5929" h="1315">
                <a:moveTo>
                  <a:pt x="23366" y="16148"/>
                </a:moveTo>
                <a:cubicBezTo>
                  <a:pt x="23351" y="16220"/>
                  <a:pt x="23304" y="16280"/>
                  <a:pt x="23267" y="16346"/>
                </a:cubicBezTo>
                <a:cubicBezTo>
                  <a:pt x="23387" y="16426"/>
                  <a:pt x="23425" y="16387"/>
                  <a:pt x="23515" y="16297"/>
                </a:cubicBezTo>
                <a:cubicBezTo>
                  <a:pt x="23481" y="16250"/>
                  <a:pt x="23429" y="16226"/>
                  <a:pt x="23416" y="16173"/>
                </a:cubicBezTo>
              </a:path>
              <a:path w="5929" h="1315">
                <a:moveTo>
                  <a:pt x="23391" y="15900"/>
                </a:moveTo>
                <a:cubicBezTo>
                  <a:pt x="23563" y="15980"/>
                  <a:pt x="23755" y="16087"/>
                  <a:pt x="23837" y="16272"/>
                </a:cubicBezTo>
                <a:cubicBezTo>
                  <a:pt x="23933" y="16489"/>
                  <a:pt x="23878" y="16723"/>
                  <a:pt x="23763" y="16917"/>
                </a:cubicBezTo>
                <a:cubicBezTo>
                  <a:pt x="23746" y="16945"/>
                  <a:pt x="23707" y="16960"/>
                  <a:pt x="2368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W 53 -54 Problems 6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1080" y="4483080"/>
            <a:ext cx="5205240" cy="214200"/>
          </a:xfrm>
          <a:custGeom>
            <a:avLst/>
            <a:gdLst/>
            <a:ahLst/>
            <a:rect l="l" t="t" r="r" b="b"/>
            <a:pathLst>
              <a:path w="14462" h="596">
                <a:moveTo>
                  <a:pt x="6251" y="12824"/>
                </a:moveTo>
                <a:cubicBezTo>
                  <a:pt x="6253" y="12824"/>
                  <a:pt x="6362" y="12800"/>
                  <a:pt x="6400" y="12799"/>
                </a:cubicBezTo>
                <a:cubicBezTo>
                  <a:pt x="6600" y="12791"/>
                  <a:pt x="6796" y="12780"/>
                  <a:pt x="6995" y="12774"/>
                </a:cubicBezTo>
                <a:cubicBezTo>
                  <a:pt x="7175" y="12769"/>
                  <a:pt x="7369" y="12755"/>
                  <a:pt x="7541" y="12750"/>
                </a:cubicBezTo>
                <a:cubicBezTo>
                  <a:pt x="7915" y="12739"/>
                  <a:pt x="8285" y="12778"/>
                  <a:pt x="8657" y="12799"/>
                </a:cubicBezTo>
                <a:cubicBezTo>
                  <a:pt x="8913" y="12813"/>
                  <a:pt x="9171" y="12829"/>
                  <a:pt x="9426" y="12849"/>
                </a:cubicBezTo>
                <a:cubicBezTo>
                  <a:pt x="9656" y="12867"/>
                  <a:pt x="9888" y="12892"/>
                  <a:pt x="10120" y="12898"/>
                </a:cubicBezTo>
                <a:cubicBezTo>
                  <a:pt x="10746" y="12915"/>
                  <a:pt x="11381" y="12907"/>
                  <a:pt x="12005" y="12874"/>
                </a:cubicBezTo>
                <a:cubicBezTo>
                  <a:pt x="12269" y="12860"/>
                  <a:pt x="12535" y="12844"/>
                  <a:pt x="12799" y="12824"/>
                </a:cubicBezTo>
                <a:cubicBezTo>
                  <a:pt x="12999" y="12809"/>
                  <a:pt x="13195" y="12772"/>
                  <a:pt x="13395" y="12750"/>
                </a:cubicBezTo>
                <a:cubicBezTo>
                  <a:pt x="13666" y="12720"/>
                  <a:pt x="13941" y="12697"/>
                  <a:pt x="14213" y="12675"/>
                </a:cubicBezTo>
                <a:cubicBezTo>
                  <a:pt x="14428" y="12658"/>
                  <a:pt x="14643" y="12643"/>
                  <a:pt x="14858" y="12626"/>
                </a:cubicBezTo>
                <a:cubicBezTo>
                  <a:pt x="15073" y="12609"/>
                  <a:pt x="15288" y="12593"/>
                  <a:pt x="15503" y="12576"/>
                </a:cubicBezTo>
                <a:cubicBezTo>
                  <a:pt x="15688" y="12561"/>
                  <a:pt x="15865" y="12526"/>
                  <a:pt x="16049" y="12502"/>
                </a:cubicBezTo>
                <a:cubicBezTo>
                  <a:pt x="16203" y="12482"/>
                  <a:pt x="16391" y="12450"/>
                  <a:pt x="16545" y="12452"/>
                </a:cubicBezTo>
                <a:cubicBezTo>
                  <a:pt x="16672" y="12453"/>
                  <a:pt x="16792" y="12474"/>
                  <a:pt x="16917" y="12477"/>
                </a:cubicBezTo>
                <a:cubicBezTo>
                  <a:pt x="17250" y="12484"/>
                  <a:pt x="17579" y="12471"/>
                  <a:pt x="17909" y="12477"/>
                </a:cubicBezTo>
                <a:cubicBezTo>
                  <a:pt x="18386" y="12486"/>
                  <a:pt x="18879" y="12492"/>
                  <a:pt x="19348" y="12477"/>
                </a:cubicBezTo>
                <a:cubicBezTo>
                  <a:pt x="19481" y="12473"/>
                  <a:pt x="19598" y="12458"/>
                  <a:pt x="19720" y="12477"/>
                </a:cubicBezTo>
                <a:cubicBezTo>
                  <a:pt x="19785" y="12487"/>
                  <a:pt x="19855" y="12486"/>
                  <a:pt x="19918" y="12502"/>
                </a:cubicBezTo>
                <a:cubicBezTo>
                  <a:pt x="19918" y="12526"/>
                  <a:pt x="19918" y="12534"/>
                  <a:pt x="19943" y="12526"/>
                </a:cubicBezTo>
              </a:path>
              <a:path w="14462" h="596">
                <a:moveTo>
                  <a:pt x="18926" y="12700"/>
                </a:moveTo>
                <a:cubicBezTo>
                  <a:pt x="19023" y="12675"/>
                  <a:pt x="19074" y="12677"/>
                  <a:pt x="19174" y="12675"/>
                </a:cubicBezTo>
                <a:cubicBezTo>
                  <a:pt x="19358" y="12671"/>
                  <a:pt x="19537" y="12654"/>
                  <a:pt x="19720" y="12650"/>
                </a:cubicBezTo>
                <a:cubicBezTo>
                  <a:pt x="20050" y="12643"/>
                  <a:pt x="20382" y="12650"/>
                  <a:pt x="20712" y="12650"/>
                </a:cubicBezTo>
              </a:path>
              <a:path w="14462" h="596">
                <a:moveTo>
                  <a:pt x="18504" y="13047"/>
                </a:moveTo>
                <a:cubicBezTo>
                  <a:pt x="18613" y="13039"/>
                  <a:pt x="18718" y="13006"/>
                  <a:pt x="18827" y="12998"/>
                </a:cubicBezTo>
                <a:cubicBezTo>
                  <a:pt x="19040" y="12983"/>
                  <a:pt x="19284" y="12959"/>
                  <a:pt x="19496" y="12973"/>
                </a:cubicBezTo>
                <a:cubicBezTo>
                  <a:pt x="19713" y="12987"/>
                  <a:pt x="19922" y="12973"/>
                  <a:pt x="20141" y="12973"/>
                </a:cubicBezTo>
                <a:cubicBezTo>
                  <a:pt x="20227" y="12973"/>
                  <a:pt x="20380" y="12916"/>
                  <a:pt x="20464" y="12948"/>
                </a:cubicBezTo>
                <a:cubicBezTo>
                  <a:pt x="20501" y="12962"/>
                  <a:pt x="20518" y="12968"/>
                  <a:pt x="20563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941640"/>
            <a:ext cx="73152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9120" y="6367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944" y="17686"/>
                </a:moveTo>
                <a:lnTo>
                  <a:pt x="3944" y="1768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erc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ar notatio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n you hear someone say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“five hundredths”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“three tenths”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– which form pops in your head first?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5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553080" y="5562720"/>
          <a:ext cx="5511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5562720"/>
                    <a:ext cx="551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0060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010280" y="1419120"/>
            <a:ext cx="714600" cy="287280"/>
          </a:xfrm>
          <a:custGeom>
            <a:avLst/>
            <a:gdLst/>
            <a:ahLst/>
            <a:rect l="l" t="t" r="r" b="b"/>
            <a:pathLst>
              <a:path w="1985" h="795">
                <a:moveTo>
                  <a:pt x="20265" y="4490"/>
                </a:moveTo>
                <a:cubicBezTo>
                  <a:pt x="20242" y="4538"/>
                  <a:pt x="20234" y="4552"/>
                  <a:pt x="20241" y="4589"/>
                </a:cubicBezTo>
                <a:cubicBezTo>
                  <a:pt x="20282" y="4575"/>
                  <a:pt x="20330" y="4539"/>
                  <a:pt x="20290" y="4539"/>
                </a:cubicBezTo>
                <a:cubicBezTo>
                  <a:pt x="20282" y="4539"/>
                  <a:pt x="20273" y="4539"/>
                  <a:pt x="20265" y="4539"/>
                </a:cubicBezTo>
              </a:path>
              <a:path w="1985" h="795">
                <a:moveTo>
                  <a:pt x="20563" y="4043"/>
                </a:moveTo>
                <a:cubicBezTo>
                  <a:pt x="20657" y="3996"/>
                  <a:pt x="20709" y="3982"/>
                  <a:pt x="20811" y="3969"/>
                </a:cubicBezTo>
                <a:cubicBezTo>
                  <a:pt x="20867" y="4117"/>
                  <a:pt x="20827" y="4193"/>
                  <a:pt x="20687" y="4266"/>
                </a:cubicBezTo>
                <a:cubicBezTo>
                  <a:pt x="20679" y="4266"/>
                  <a:pt x="20670" y="4266"/>
                  <a:pt x="20662" y="4266"/>
                </a:cubicBezTo>
                <a:cubicBezTo>
                  <a:pt x="20760" y="4247"/>
                  <a:pt x="20897" y="4200"/>
                  <a:pt x="20985" y="4291"/>
                </a:cubicBezTo>
                <a:cubicBezTo>
                  <a:pt x="20993" y="4324"/>
                  <a:pt x="21002" y="4357"/>
                  <a:pt x="21010" y="4390"/>
                </a:cubicBezTo>
                <a:cubicBezTo>
                  <a:pt x="20895" y="4474"/>
                  <a:pt x="20700" y="4611"/>
                  <a:pt x="20563" y="4465"/>
                </a:cubicBezTo>
                <a:cubicBezTo>
                  <a:pt x="20563" y="4448"/>
                  <a:pt x="20563" y="4432"/>
                  <a:pt x="20563" y="4415"/>
                </a:cubicBezTo>
              </a:path>
              <a:path w="1985" h="795">
                <a:moveTo>
                  <a:pt x="21059" y="3944"/>
                </a:moveTo>
                <a:cubicBezTo>
                  <a:pt x="21099" y="4023"/>
                  <a:pt x="21124" y="4170"/>
                  <a:pt x="21134" y="4266"/>
                </a:cubicBezTo>
                <a:cubicBezTo>
                  <a:pt x="21148" y="4400"/>
                  <a:pt x="21160" y="4486"/>
                  <a:pt x="21332" y="4465"/>
                </a:cubicBezTo>
                <a:cubicBezTo>
                  <a:pt x="21421" y="4454"/>
                  <a:pt x="21472" y="4375"/>
                  <a:pt x="21456" y="4291"/>
                </a:cubicBezTo>
                <a:cubicBezTo>
                  <a:pt x="21446" y="4241"/>
                  <a:pt x="21371" y="4208"/>
                  <a:pt x="21332" y="4192"/>
                </a:cubicBezTo>
                <a:cubicBezTo>
                  <a:pt x="21284" y="4280"/>
                  <a:pt x="21226" y="4363"/>
                  <a:pt x="21282" y="4465"/>
                </a:cubicBezTo>
                <a:cubicBezTo>
                  <a:pt x="21307" y="4490"/>
                  <a:pt x="21315" y="4498"/>
                  <a:pt x="21332" y="4465"/>
                </a:cubicBezTo>
              </a:path>
              <a:path w="1985" h="795">
                <a:moveTo>
                  <a:pt x="19819" y="4068"/>
                </a:moveTo>
                <a:cubicBezTo>
                  <a:pt x="19722" y="4087"/>
                  <a:pt x="19622" y="4124"/>
                  <a:pt x="19521" y="4142"/>
                </a:cubicBezTo>
                <a:cubicBezTo>
                  <a:pt x="19459" y="4153"/>
                  <a:pt x="19472" y="4140"/>
                  <a:pt x="19472" y="4217"/>
                </a:cubicBezTo>
                <a:cubicBezTo>
                  <a:pt x="19472" y="4258"/>
                  <a:pt x="19472" y="4300"/>
                  <a:pt x="19472" y="4341"/>
                </a:cubicBezTo>
                <a:cubicBezTo>
                  <a:pt x="19520" y="4329"/>
                  <a:pt x="19568" y="4300"/>
                  <a:pt x="19621" y="4291"/>
                </a:cubicBezTo>
                <a:cubicBezTo>
                  <a:pt x="19676" y="4282"/>
                  <a:pt x="19745" y="4255"/>
                  <a:pt x="19794" y="4291"/>
                </a:cubicBezTo>
                <a:cubicBezTo>
                  <a:pt x="19876" y="4351"/>
                  <a:pt x="19934" y="4433"/>
                  <a:pt x="19918" y="4539"/>
                </a:cubicBezTo>
                <a:cubicBezTo>
                  <a:pt x="19907" y="4611"/>
                  <a:pt x="19842" y="4716"/>
                  <a:pt x="19769" y="4738"/>
                </a:cubicBezTo>
                <a:cubicBezTo>
                  <a:pt x="19692" y="4762"/>
                  <a:pt x="19584" y="4732"/>
                  <a:pt x="19521" y="4713"/>
                </a:cubicBezTo>
                <a:cubicBezTo>
                  <a:pt x="19505" y="4708"/>
                  <a:pt x="19457" y="4672"/>
                  <a:pt x="19472" y="4638"/>
                </a:cubicBezTo>
                <a:cubicBezTo>
                  <a:pt x="19480" y="4630"/>
                  <a:pt x="19488" y="4622"/>
                  <a:pt x="19496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7720" y="2089080"/>
            <a:ext cx="2992320" cy="331920"/>
          </a:xfrm>
          <a:custGeom>
            <a:avLst/>
            <a:gdLst/>
            <a:ahLst/>
            <a:rect l="l" t="t" r="r" b="b"/>
            <a:pathLst>
              <a:path w="8310" h="919">
                <a:moveTo>
                  <a:pt x="9327" y="6127"/>
                </a:moveTo>
                <a:cubicBezTo>
                  <a:pt x="9420" y="6323"/>
                  <a:pt x="9502" y="6518"/>
                  <a:pt x="9575" y="6722"/>
                </a:cubicBezTo>
              </a:path>
              <a:path w="8310" h="919">
                <a:moveTo>
                  <a:pt x="13246" y="6102"/>
                </a:moveTo>
                <a:cubicBezTo>
                  <a:pt x="13388" y="6072"/>
                  <a:pt x="13528" y="6038"/>
                  <a:pt x="13667" y="6003"/>
                </a:cubicBezTo>
              </a:path>
              <a:path w="8310" h="919">
                <a:moveTo>
                  <a:pt x="17190" y="5854"/>
                </a:moveTo>
                <a:cubicBezTo>
                  <a:pt x="17341" y="5846"/>
                  <a:pt x="17487" y="5818"/>
                  <a:pt x="17636" y="5804"/>
                </a:cubicBezTo>
              </a:path>
              <a:path w="8310" h="919">
                <a:moveTo>
                  <a:pt x="12650" y="6548"/>
                </a:moveTo>
                <a:lnTo>
                  <a:pt x="12650" y="65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6920" y="2241720"/>
            <a:ext cx="1079280" cy="276120"/>
          </a:xfrm>
          <a:custGeom>
            <a:avLst/>
            <a:gdLst/>
            <a:ahLst/>
            <a:rect l="l" t="t" r="r" b="b"/>
            <a:pathLst>
              <a:path w="3002" h="770">
                <a:moveTo>
                  <a:pt x="7094" y="6573"/>
                </a:moveTo>
                <a:cubicBezTo>
                  <a:pt x="7029" y="6670"/>
                  <a:pt x="7043" y="6812"/>
                  <a:pt x="7094" y="6921"/>
                </a:cubicBezTo>
                <a:cubicBezTo>
                  <a:pt x="7111" y="6937"/>
                  <a:pt x="7127" y="6954"/>
                  <a:pt x="7144" y="6970"/>
                </a:cubicBezTo>
                <a:cubicBezTo>
                  <a:pt x="7368" y="6971"/>
                  <a:pt x="7347" y="6803"/>
                  <a:pt x="7392" y="6598"/>
                </a:cubicBezTo>
                <a:cubicBezTo>
                  <a:pt x="7345" y="6551"/>
                  <a:pt x="7413" y="6774"/>
                  <a:pt x="7417" y="6796"/>
                </a:cubicBezTo>
                <a:cubicBezTo>
                  <a:pt x="7441" y="6915"/>
                  <a:pt x="7427" y="6975"/>
                  <a:pt x="7491" y="6896"/>
                </a:cubicBezTo>
              </a:path>
              <a:path w="3002" h="770">
                <a:moveTo>
                  <a:pt x="7714" y="6499"/>
                </a:moveTo>
                <a:cubicBezTo>
                  <a:pt x="7651" y="6535"/>
                  <a:pt x="7651" y="6535"/>
                  <a:pt x="7615" y="6598"/>
                </a:cubicBezTo>
                <a:cubicBezTo>
                  <a:pt x="7686" y="6633"/>
                  <a:pt x="7903" y="6673"/>
                  <a:pt x="7888" y="6772"/>
                </a:cubicBezTo>
                <a:cubicBezTo>
                  <a:pt x="7871" y="6883"/>
                  <a:pt x="7706" y="6857"/>
                  <a:pt x="7640" y="6846"/>
                </a:cubicBezTo>
              </a:path>
              <a:path w="3002" h="770">
                <a:moveTo>
                  <a:pt x="8062" y="6598"/>
                </a:moveTo>
                <a:cubicBezTo>
                  <a:pt x="8139" y="6591"/>
                  <a:pt x="8208" y="6573"/>
                  <a:pt x="8285" y="6573"/>
                </a:cubicBezTo>
                <a:cubicBezTo>
                  <a:pt x="8199" y="6463"/>
                  <a:pt x="8120" y="6382"/>
                  <a:pt x="8012" y="6524"/>
                </a:cubicBezTo>
                <a:cubicBezTo>
                  <a:pt x="7926" y="6637"/>
                  <a:pt x="7945" y="6875"/>
                  <a:pt x="8136" y="6871"/>
                </a:cubicBezTo>
                <a:cubicBezTo>
                  <a:pt x="8186" y="6854"/>
                  <a:pt x="8235" y="6838"/>
                  <a:pt x="8285" y="6821"/>
                </a:cubicBezTo>
              </a:path>
              <a:path w="3002" h="770">
                <a:moveTo>
                  <a:pt x="8706" y="6524"/>
                </a:moveTo>
                <a:cubicBezTo>
                  <a:pt x="8622" y="6437"/>
                  <a:pt x="8547" y="6464"/>
                  <a:pt x="8458" y="6548"/>
                </a:cubicBezTo>
                <a:cubicBezTo>
                  <a:pt x="8321" y="6677"/>
                  <a:pt x="8389" y="6930"/>
                  <a:pt x="8607" y="6846"/>
                </a:cubicBezTo>
                <a:cubicBezTo>
                  <a:pt x="8751" y="6731"/>
                  <a:pt x="8800" y="6674"/>
                  <a:pt x="8806" y="6524"/>
                </a:cubicBezTo>
              </a:path>
              <a:path w="3002" h="770">
                <a:moveTo>
                  <a:pt x="8706" y="6226"/>
                </a:moveTo>
                <a:cubicBezTo>
                  <a:pt x="8733" y="6389"/>
                  <a:pt x="8726" y="6556"/>
                  <a:pt x="8756" y="6722"/>
                </a:cubicBezTo>
                <a:cubicBezTo>
                  <a:pt x="8784" y="6806"/>
                  <a:pt x="8802" y="6826"/>
                  <a:pt x="8880" y="6747"/>
                </a:cubicBezTo>
              </a:path>
              <a:path w="3002" h="770">
                <a:moveTo>
                  <a:pt x="9227" y="6474"/>
                </a:moveTo>
                <a:cubicBezTo>
                  <a:pt x="9409" y="6438"/>
                  <a:pt x="9598" y="6404"/>
                  <a:pt x="9773" y="6350"/>
                </a:cubicBezTo>
                <a:cubicBezTo>
                  <a:pt x="9760" y="6465"/>
                  <a:pt x="9677" y="6612"/>
                  <a:pt x="9823" y="6672"/>
                </a:cubicBezTo>
                <a:cubicBezTo>
                  <a:pt x="9985" y="6738"/>
                  <a:pt x="10010" y="6566"/>
                  <a:pt x="10046" y="6474"/>
                </a:cubicBezTo>
                <a:cubicBezTo>
                  <a:pt x="9917" y="6431"/>
                  <a:pt x="9860" y="6422"/>
                  <a:pt x="9723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3760" y="2062080"/>
            <a:ext cx="1135080" cy="384120"/>
          </a:xfrm>
          <a:custGeom>
            <a:avLst/>
            <a:gdLst/>
            <a:ahLst/>
            <a:rect l="l" t="t" r="r" b="b"/>
            <a:pathLst>
              <a:path w="3151" h="1067">
                <a:moveTo>
                  <a:pt x="10592" y="6375"/>
                </a:moveTo>
                <a:cubicBezTo>
                  <a:pt x="10592" y="6464"/>
                  <a:pt x="10600" y="6535"/>
                  <a:pt x="10616" y="6623"/>
                </a:cubicBezTo>
                <a:cubicBezTo>
                  <a:pt x="10586" y="6517"/>
                  <a:pt x="10508" y="6399"/>
                  <a:pt x="10616" y="6300"/>
                </a:cubicBezTo>
                <a:cubicBezTo>
                  <a:pt x="10721" y="6204"/>
                  <a:pt x="10812" y="6257"/>
                  <a:pt x="10914" y="6300"/>
                </a:cubicBezTo>
              </a:path>
              <a:path w="3151" h="1067">
                <a:moveTo>
                  <a:pt x="10889" y="6449"/>
                </a:moveTo>
                <a:cubicBezTo>
                  <a:pt x="10983" y="6402"/>
                  <a:pt x="11038" y="6391"/>
                  <a:pt x="11038" y="6276"/>
                </a:cubicBezTo>
                <a:cubicBezTo>
                  <a:pt x="10938" y="6295"/>
                  <a:pt x="10661" y="6401"/>
                  <a:pt x="10815" y="6573"/>
                </a:cubicBezTo>
                <a:cubicBezTo>
                  <a:pt x="11009" y="6790"/>
                  <a:pt x="11167" y="6516"/>
                  <a:pt x="11237" y="6375"/>
                </a:cubicBezTo>
                <a:cubicBezTo>
                  <a:pt x="11275" y="6298"/>
                  <a:pt x="11302" y="6499"/>
                  <a:pt x="11336" y="6598"/>
                </a:cubicBezTo>
                <a:cubicBezTo>
                  <a:pt x="11374" y="6715"/>
                  <a:pt x="11375" y="6734"/>
                  <a:pt x="11410" y="6796"/>
                </a:cubicBezTo>
                <a:cubicBezTo>
                  <a:pt x="11347" y="6645"/>
                  <a:pt x="11214" y="6377"/>
                  <a:pt x="11361" y="6226"/>
                </a:cubicBezTo>
                <a:cubicBezTo>
                  <a:pt x="11402" y="6209"/>
                  <a:pt x="11444" y="6193"/>
                  <a:pt x="11485" y="6176"/>
                </a:cubicBezTo>
                <a:cubicBezTo>
                  <a:pt x="11647" y="6311"/>
                  <a:pt x="11767" y="6511"/>
                  <a:pt x="11435" y="6573"/>
                </a:cubicBezTo>
                <a:cubicBezTo>
                  <a:pt x="11316" y="6549"/>
                  <a:pt x="11277" y="6545"/>
                  <a:pt x="11261" y="6449"/>
                </a:cubicBezTo>
              </a:path>
              <a:path w="3151" h="1067">
                <a:moveTo>
                  <a:pt x="11633" y="6276"/>
                </a:moveTo>
                <a:cubicBezTo>
                  <a:pt x="11681" y="6351"/>
                  <a:pt x="11734" y="6424"/>
                  <a:pt x="11782" y="6499"/>
                </a:cubicBezTo>
                <a:cubicBezTo>
                  <a:pt x="11772" y="6432"/>
                  <a:pt x="11706" y="6302"/>
                  <a:pt x="11757" y="6251"/>
                </a:cubicBezTo>
                <a:cubicBezTo>
                  <a:pt x="11857" y="6176"/>
                  <a:pt x="11891" y="6151"/>
                  <a:pt x="11981" y="6152"/>
                </a:cubicBezTo>
              </a:path>
              <a:path w="3151" h="1067">
                <a:moveTo>
                  <a:pt x="11956" y="6300"/>
                </a:moveTo>
                <a:cubicBezTo>
                  <a:pt x="12027" y="6253"/>
                  <a:pt x="12051" y="6240"/>
                  <a:pt x="12055" y="6176"/>
                </a:cubicBezTo>
                <a:cubicBezTo>
                  <a:pt x="11936" y="6202"/>
                  <a:pt x="11849" y="6282"/>
                  <a:pt x="11881" y="6424"/>
                </a:cubicBezTo>
                <a:cubicBezTo>
                  <a:pt x="11933" y="6528"/>
                  <a:pt x="11954" y="6561"/>
                  <a:pt x="12055" y="6524"/>
                </a:cubicBezTo>
              </a:path>
              <a:path w="3151" h="1067">
                <a:moveTo>
                  <a:pt x="12427" y="6077"/>
                </a:moveTo>
                <a:cubicBezTo>
                  <a:pt x="12376" y="6077"/>
                  <a:pt x="12357" y="6078"/>
                  <a:pt x="12328" y="6102"/>
                </a:cubicBezTo>
                <a:cubicBezTo>
                  <a:pt x="12286" y="6185"/>
                  <a:pt x="12468" y="6222"/>
                  <a:pt x="12526" y="6276"/>
                </a:cubicBezTo>
                <a:cubicBezTo>
                  <a:pt x="12644" y="6385"/>
                  <a:pt x="12442" y="6562"/>
                  <a:pt x="12328" y="6474"/>
                </a:cubicBezTo>
                <a:cubicBezTo>
                  <a:pt x="12311" y="6441"/>
                  <a:pt x="12295" y="6408"/>
                  <a:pt x="12278" y="6375"/>
                </a:cubicBezTo>
              </a:path>
              <a:path w="3151" h="1067">
                <a:moveTo>
                  <a:pt x="12700" y="6201"/>
                </a:moveTo>
                <a:cubicBezTo>
                  <a:pt x="12729" y="6194"/>
                  <a:pt x="12745" y="6184"/>
                  <a:pt x="12774" y="6176"/>
                </a:cubicBezTo>
                <a:cubicBezTo>
                  <a:pt x="12751" y="6107"/>
                  <a:pt x="12633" y="6189"/>
                  <a:pt x="12626" y="6251"/>
                </a:cubicBezTo>
                <a:cubicBezTo>
                  <a:pt x="12597" y="6495"/>
                  <a:pt x="12874" y="6443"/>
                  <a:pt x="12973" y="6325"/>
                </a:cubicBezTo>
                <a:cubicBezTo>
                  <a:pt x="13063" y="6218"/>
                  <a:pt x="13029" y="6218"/>
                  <a:pt x="13047" y="6375"/>
                </a:cubicBezTo>
                <a:cubicBezTo>
                  <a:pt x="13047" y="6279"/>
                  <a:pt x="13055" y="6196"/>
                  <a:pt x="13072" y="6102"/>
                </a:cubicBezTo>
                <a:cubicBezTo>
                  <a:pt x="13170" y="6102"/>
                  <a:pt x="13258" y="6147"/>
                  <a:pt x="13295" y="6251"/>
                </a:cubicBezTo>
                <a:cubicBezTo>
                  <a:pt x="13295" y="6329"/>
                  <a:pt x="13280" y="6347"/>
                  <a:pt x="13320" y="6375"/>
                </a:cubicBezTo>
              </a:path>
              <a:path w="3151" h="1067">
                <a:moveTo>
                  <a:pt x="13444" y="5730"/>
                </a:moveTo>
                <a:cubicBezTo>
                  <a:pt x="13459" y="5909"/>
                  <a:pt x="13498" y="6109"/>
                  <a:pt x="13568" y="6276"/>
                </a:cubicBezTo>
                <a:cubicBezTo>
                  <a:pt x="13589" y="6326"/>
                  <a:pt x="13691" y="6427"/>
                  <a:pt x="13717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6960" y="2062080"/>
            <a:ext cx="723960" cy="366840"/>
          </a:xfrm>
          <a:custGeom>
            <a:avLst/>
            <a:gdLst/>
            <a:ahLst/>
            <a:rect l="l" t="t" r="r" b="b"/>
            <a:pathLst>
              <a:path w="2010" h="1018">
                <a:moveTo>
                  <a:pt x="14288" y="6201"/>
                </a:moveTo>
                <a:cubicBezTo>
                  <a:pt x="14319" y="6383"/>
                  <a:pt x="14370" y="6564"/>
                  <a:pt x="14387" y="6747"/>
                </a:cubicBezTo>
                <a:cubicBezTo>
                  <a:pt x="14276" y="6615"/>
                  <a:pt x="14189" y="6431"/>
                  <a:pt x="14213" y="6251"/>
                </a:cubicBezTo>
                <a:cubicBezTo>
                  <a:pt x="14279" y="6097"/>
                  <a:pt x="14287" y="6052"/>
                  <a:pt x="14387" y="6003"/>
                </a:cubicBezTo>
                <a:cubicBezTo>
                  <a:pt x="14515" y="6102"/>
                  <a:pt x="14712" y="6255"/>
                  <a:pt x="14461" y="6375"/>
                </a:cubicBezTo>
                <a:cubicBezTo>
                  <a:pt x="14326" y="6439"/>
                  <a:pt x="14138" y="6430"/>
                  <a:pt x="14263" y="6276"/>
                </a:cubicBezTo>
              </a:path>
              <a:path w="2010" h="1018">
                <a:moveTo>
                  <a:pt x="14808" y="6152"/>
                </a:moveTo>
                <a:cubicBezTo>
                  <a:pt x="14768" y="6071"/>
                  <a:pt x="14737" y="6066"/>
                  <a:pt x="14660" y="6028"/>
                </a:cubicBezTo>
                <a:cubicBezTo>
                  <a:pt x="14560" y="6099"/>
                  <a:pt x="14446" y="6287"/>
                  <a:pt x="14610" y="6400"/>
                </a:cubicBezTo>
                <a:cubicBezTo>
                  <a:pt x="14734" y="6485"/>
                  <a:pt x="14770" y="6244"/>
                  <a:pt x="14784" y="6201"/>
                </a:cubicBezTo>
                <a:cubicBezTo>
                  <a:pt x="14784" y="6185"/>
                  <a:pt x="14784" y="6168"/>
                  <a:pt x="14784" y="6152"/>
                </a:cubicBezTo>
                <a:cubicBezTo>
                  <a:pt x="14802" y="6244"/>
                  <a:pt x="14862" y="6304"/>
                  <a:pt x="14957" y="6325"/>
                </a:cubicBezTo>
                <a:cubicBezTo>
                  <a:pt x="15054" y="6346"/>
                  <a:pt x="15106" y="6193"/>
                  <a:pt x="15106" y="6300"/>
                </a:cubicBezTo>
                <a:cubicBezTo>
                  <a:pt x="15106" y="6317"/>
                  <a:pt x="15106" y="6333"/>
                  <a:pt x="15106" y="6350"/>
                </a:cubicBezTo>
                <a:cubicBezTo>
                  <a:pt x="15106" y="6266"/>
                  <a:pt x="15081" y="6151"/>
                  <a:pt x="15131" y="6077"/>
                </a:cubicBezTo>
                <a:cubicBezTo>
                  <a:pt x="15209" y="6026"/>
                  <a:pt x="15238" y="6008"/>
                  <a:pt x="15304" y="6003"/>
                </a:cubicBezTo>
              </a:path>
              <a:path w="2010" h="1018">
                <a:moveTo>
                  <a:pt x="15528" y="5730"/>
                </a:moveTo>
                <a:cubicBezTo>
                  <a:pt x="15578" y="5901"/>
                  <a:pt x="15621" y="6075"/>
                  <a:pt x="15652" y="6251"/>
                </a:cubicBezTo>
                <a:cubicBezTo>
                  <a:pt x="15652" y="6276"/>
                  <a:pt x="15652" y="6284"/>
                  <a:pt x="15627" y="6276"/>
                </a:cubicBezTo>
              </a:path>
              <a:path w="2010" h="1018">
                <a:moveTo>
                  <a:pt x="15354" y="6028"/>
                </a:moveTo>
                <a:cubicBezTo>
                  <a:pt x="15496" y="6015"/>
                  <a:pt x="15636" y="5996"/>
                  <a:pt x="15776" y="5978"/>
                </a:cubicBezTo>
                <a:cubicBezTo>
                  <a:pt x="15801" y="5978"/>
                  <a:pt x="15809" y="5978"/>
                  <a:pt x="15825" y="5978"/>
                </a:cubicBezTo>
              </a:path>
              <a:path w="2010" h="1018">
                <a:moveTo>
                  <a:pt x="16049" y="5854"/>
                </a:moveTo>
                <a:cubicBezTo>
                  <a:pt x="15987" y="5854"/>
                  <a:pt x="15972" y="5845"/>
                  <a:pt x="15949" y="5879"/>
                </a:cubicBezTo>
                <a:cubicBezTo>
                  <a:pt x="15999" y="5935"/>
                  <a:pt x="16193" y="6016"/>
                  <a:pt x="16197" y="6102"/>
                </a:cubicBezTo>
                <a:cubicBezTo>
                  <a:pt x="16205" y="6276"/>
                  <a:pt x="15967" y="6221"/>
                  <a:pt x="15875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1990800"/>
            <a:ext cx="223920" cy="260280"/>
          </a:xfrm>
          <a:custGeom>
            <a:avLst/>
            <a:gdLst/>
            <a:ahLst/>
            <a:rect l="l" t="t" r="r" b="b"/>
            <a:pathLst>
              <a:path w="621" h="721">
                <a:moveTo>
                  <a:pt x="17041" y="5854"/>
                </a:moveTo>
                <a:cubicBezTo>
                  <a:pt x="16947" y="5901"/>
                  <a:pt x="16798" y="6075"/>
                  <a:pt x="16867" y="6201"/>
                </a:cubicBezTo>
                <a:cubicBezTo>
                  <a:pt x="16900" y="6218"/>
                  <a:pt x="16933" y="6234"/>
                  <a:pt x="16966" y="6251"/>
                </a:cubicBezTo>
                <a:cubicBezTo>
                  <a:pt x="17127" y="6154"/>
                  <a:pt x="17235" y="6061"/>
                  <a:pt x="17041" y="5904"/>
                </a:cubicBezTo>
                <a:cubicBezTo>
                  <a:pt x="16987" y="5860"/>
                  <a:pt x="16938" y="5872"/>
                  <a:pt x="16917" y="5904"/>
                </a:cubicBezTo>
              </a:path>
              <a:path w="621" h="721">
                <a:moveTo>
                  <a:pt x="17487" y="5581"/>
                </a:moveTo>
                <a:cubicBezTo>
                  <a:pt x="17349" y="5505"/>
                  <a:pt x="17286" y="5534"/>
                  <a:pt x="17314" y="5730"/>
                </a:cubicBezTo>
                <a:cubicBezTo>
                  <a:pt x="17334" y="5870"/>
                  <a:pt x="17415" y="5990"/>
                  <a:pt x="17438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35800" y="2125800"/>
            <a:ext cx="189000" cy="125280"/>
          </a:xfrm>
          <a:custGeom>
            <a:avLst/>
            <a:gdLst/>
            <a:ahLst/>
            <a:rect l="l" t="t" r="r" b="b"/>
            <a:pathLst>
              <a:path w="522" h="348">
                <a:moveTo>
                  <a:pt x="18455" y="6102"/>
                </a:moveTo>
                <a:cubicBezTo>
                  <a:pt x="18440" y="5983"/>
                  <a:pt x="18429" y="5943"/>
                  <a:pt x="18331" y="5904"/>
                </a:cubicBezTo>
                <a:cubicBezTo>
                  <a:pt x="18235" y="5999"/>
                  <a:pt x="18201" y="6069"/>
                  <a:pt x="18157" y="6201"/>
                </a:cubicBezTo>
                <a:cubicBezTo>
                  <a:pt x="18311" y="6246"/>
                  <a:pt x="18378" y="6225"/>
                  <a:pt x="18430" y="6052"/>
                </a:cubicBezTo>
                <a:cubicBezTo>
                  <a:pt x="18483" y="6141"/>
                  <a:pt x="18517" y="6195"/>
                  <a:pt x="18653" y="6176"/>
                </a:cubicBezTo>
                <a:cubicBezTo>
                  <a:pt x="18661" y="6168"/>
                  <a:pt x="18670" y="6160"/>
                  <a:pt x="18678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5000" y="1946160"/>
            <a:ext cx="928800" cy="250920"/>
          </a:xfrm>
          <a:custGeom>
            <a:avLst/>
            <a:gdLst/>
            <a:ahLst/>
            <a:rect l="l" t="t" r="r" b="b"/>
            <a:pathLst>
              <a:path w="2581" h="696">
                <a:moveTo>
                  <a:pt x="19149" y="5755"/>
                </a:moveTo>
                <a:cubicBezTo>
                  <a:pt x="19130" y="5868"/>
                  <a:pt x="19118" y="5991"/>
                  <a:pt x="19174" y="6102"/>
                </a:cubicBezTo>
                <a:cubicBezTo>
                  <a:pt x="19228" y="6208"/>
                  <a:pt x="19388" y="5870"/>
                  <a:pt x="19397" y="5854"/>
                </a:cubicBezTo>
                <a:cubicBezTo>
                  <a:pt x="19397" y="5862"/>
                  <a:pt x="19397" y="5871"/>
                  <a:pt x="19397" y="5879"/>
                </a:cubicBezTo>
                <a:cubicBezTo>
                  <a:pt x="19501" y="6024"/>
                  <a:pt x="19516" y="6038"/>
                  <a:pt x="19695" y="6028"/>
                </a:cubicBezTo>
                <a:cubicBezTo>
                  <a:pt x="19745" y="5795"/>
                  <a:pt x="19679" y="5763"/>
                  <a:pt x="19472" y="5680"/>
                </a:cubicBezTo>
              </a:path>
              <a:path w="2581" h="696">
                <a:moveTo>
                  <a:pt x="19769" y="5407"/>
                </a:moveTo>
                <a:cubicBezTo>
                  <a:pt x="19821" y="5616"/>
                  <a:pt x="19910" y="5815"/>
                  <a:pt x="19943" y="6028"/>
                </a:cubicBezTo>
                <a:cubicBezTo>
                  <a:pt x="19943" y="5913"/>
                  <a:pt x="19880" y="5804"/>
                  <a:pt x="19968" y="5705"/>
                </a:cubicBezTo>
                <a:cubicBezTo>
                  <a:pt x="20108" y="5548"/>
                  <a:pt x="20342" y="5754"/>
                  <a:pt x="20365" y="5904"/>
                </a:cubicBezTo>
                <a:cubicBezTo>
                  <a:pt x="20344" y="5986"/>
                  <a:pt x="20336" y="6001"/>
                  <a:pt x="20340" y="6052"/>
                </a:cubicBezTo>
              </a:path>
              <a:path w="2581" h="696">
                <a:moveTo>
                  <a:pt x="20638" y="5680"/>
                </a:moveTo>
                <a:cubicBezTo>
                  <a:pt x="20468" y="5748"/>
                  <a:pt x="20454" y="5832"/>
                  <a:pt x="20464" y="6003"/>
                </a:cubicBezTo>
                <a:cubicBezTo>
                  <a:pt x="20555" y="6014"/>
                  <a:pt x="20819" y="6040"/>
                  <a:pt x="20786" y="5854"/>
                </a:cubicBezTo>
                <a:cubicBezTo>
                  <a:pt x="20772" y="5776"/>
                  <a:pt x="20622" y="5732"/>
                  <a:pt x="20563" y="5705"/>
                </a:cubicBezTo>
              </a:path>
              <a:path w="2581" h="696">
                <a:moveTo>
                  <a:pt x="20910" y="5407"/>
                </a:moveTo>
                <a:cubicBezTo>
                  <a:pt x="20961" y="5590"/>
                  <a:pt x="20978" y="5802"/>
                  <a:pt x="21034" y="5978"/>
                </a:cubicBezTo>
                <a:cubicBezTo>
                  <a:pt x="21042" y="5986"/>
                  <a:pt x="21051" y="5995"/>
                  <a:pt x="21059" y="6003"/>
                </a:cubicBezTo>
              </a:path>
              <a:path w="2581" h="696">
                <a:moveTo>
                  <a:pt x="21307" y="5804"/>
                </a:moveTo>
                <a:cubicBezTo>
                  <a:pt x="21362" y="5787"/>
                  <a:pt x="21500" y="5779"/>
                  <a:pt x="21506" y="5730"/>
                </a:cubicBezTo>
                <a:cubicBezTo>
                  <a:pt x="21506" y="5722"/>
                  <a:pt x="21506" y="5713"/>
                  <a:pt x="21506" y="5705"/>
                </a:cubicBezTo>
                <a:cubicBezTo>
                  <a:pt x="21374" y="5661"/>
                  <a:pt x="21307" y="5725"/>
                  <a:pt x="21307" y="5879"/>
                </a:cubicBezTo>
                <a:cubicBezTo>
                  <a:pt x="21307" y="6066"/>
                  <a:pt x="21482" y="6035"/>
                  <a:pt x="21605" y="6003"/>
                </a:cubicBezTo>
                <a:cubicBezTo>
                  <a:pt x="21662" y="5984"/>
                  <a:pt x="21669" y="5975"/>
                  <a:pt x="21704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1040" y="2330280"/>
            <a:ext cx="4761000" cy="455760"/>
          </a:xfrm>
          <a:custGeom>
            <a:avLst/>
            <a:gdLst/>
            <a:ahLst/>
            <a:rect l="l" t="t" r="r" b="b"/>
            <a:pathLst>
              <a:path w="13222" h="1266">
                <a:moveTo>
                  <a:pt x="10616" y="7739"/>
                </a:moveTo>
                <a:cubicBezTo>
                  <a:pt x="10823" y="7739"/>
                  <a:pt x="10898" y="7738"/>
                  <a:pt x="11038" y="7714"/>
                </a:cubicBezTo>
              </a:path>
              <a:path w="13222" h="1266">
                <a:moveTo>
                  <a:pt x="15701" y="7516"/>
                </a:moveTo>
                <a:cubicBezTo>
                  <a:pt x="15701" y="7508"/>
                  <a:pt x="15701" y="7499"/>
                  <a:pt x="15701" y="7491"/>
                </a:cubicBezTo>
              </a:path>
              <a:path w="13222" h="1266">
                <a:moveTo>
                  <a:pt x="22473" y="6623"/>
                </a:moveTo>
                <a:cubicBezTo>
                  <a:pt x="22487" y="6779"/>
                  <a:pt x="22487" y="6995"/>
                  <a:pt x="22547" y="7144"/>
                </a:cubicBezTo>
                <a:cubicBezTo>
                  <a:pt x="22555" y="7144"/>
                  <a:pt x="22564" y="7144"/>
                  <a:pt x="22572" y="7144"/>
                </a:cubicBezTo>
              </a:path>
              <a:path w="13222" h="1266">
                <a:moveTo>
                  <a:pt x="23837" y="6499"/>
                </a:moveTo>
                <a:cubicBezTo>
                  <a:pt x="23837" y="6491"/>
                  <a:pt x="23837" y="6482"/>
                  <a:pt x="23837" y="6474"/>
                </a:cubicBezTo>
              </a:path>
              <a:path w="13222" h="1266">
                <a:moveTo>
                  <a:pt x="23837" y="6474"/>
                </a:moveTo>
                <a:lnTo>
                  <a:pt x="23837" y="64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920" y="2759040"/>
            <a:ext cx="776160" cy="330120"/>
          </a:xfrm>
          <a:custGeom>
            <a:avLst/>
            <a:gdLst/>
            <a:ahLst/>
            <a:rect l="l" t="t" r="r" b="b"/>
            <a:pathLst>
              <a:path w="2159" h="918">
                <a:moveTo>
                  <a:pt x="7045" y="8111"/>
                </a:moveTo>
                <a:cubicBezTo>
                  <a:pt x="7045" y="8268"/>
                  <a:pt x="7045" y="8425"/>
                  <a:pt x="7045" y="8582"/>
                </a:cubicBezTo>
                <a:cubicBezTo>
                  <a:pt x="6973" y="8408"/>
                  <a:pt x="6942" y="8223"/>
                  <a:pt x="7020" y="8037"/>
                </a:cubicBezTo>
                <a:cubicBezTo>
                  <a:pt x="7089" y="7874"/>
                  <a:pt x="7345" y="7817"/>
                  <a:pt x="7417" y="8012"/>
                </a:cubicBezTo>
                <a:cubicBezTo>
                  <a:pt x="7487" y="8201"/>
                  <a:pt x="7267" y="8302"/>
                  <a:pt x="7119" y="8285"/>
                </a:cubicBezTo>
                <a:cubicBezTo>
                  <a:pt x="7075" y="8263"/>
                  <a:pt x="7054" y="8260"/>
                  <a:pt x="7094" y="8235"/>
                </a:cubicBezTo>
              </a:path>
              <a:path w="2159" h="918">
                <a:moveTo>
                  <a:pt x="7789" y="8136"/>
                </a:moveTo>
                <a:cubicBezTo>
                  <a:pt x="7789" y="8080"/>
                  <a:pt x="7795" y="8038"/>
                  <a:pt x="7764" y="7987"/>
                </a:cubicBezTo>
                <a:cubicBezTo>
                  <a:pt x="7698" y="7880"/>
                  <a:pt x="7602" y="7965"/>
                  <a:pt x="7565" y="8037"/>
                </a:cubicBezTo>
                <a:cubicBezTo>
                  <a:pt x="7510" y="8145"/>
                  <a:pt x="7526" y="8466"/>
                  <a:pt x="7714" y="8285"/>
                </a:cubicBezTo>
                <a:cubicBezTo>
                  <a:pt x="7777" y="8181"/>
                  <a:pt x="7802" y="8163"/>
                  <a:pt x="7789" y="8086"/>
                </a:cubicBezTo>
                <a:cubicBezTo>
                  <a:pt x="7789" y="8052"/>
                  <a:pt x="7791" y="8146"/>
                  <a:pt x="7838" y="8186"/>
                </a:cubicBezTo>
                <a:cubicBezTo>
                  <a:pt x="7890" y="8230"/>
                  <a:pt x="7930" y="8235"/>
                  <a:pt x="7987" y="8260"/>
                </a:cubicBezTo>
                <a:cubicBezTo>
                  <a:pt x="7973" y="8179"/>
                  <a:pt x="7943" y="8071"/>
                  <a:pt x="8037" y="8012"/>
                </a:cubicBezTo>
                <a:cubicBezTo>
                  <a:pt x="8135" y="7987"/>
                  <a:pt x="8167" y="7979"/>
                  <a:pt x="8235" y="7987"/>
                </a:cubicBezTo>
              </a:path>
              <a:path w="2159" h="918">
                <a:moveTo>
                  <a:pt x="8458" y="7665"/>
                </a:moveTo>
                <a:cubicBezTo>
                  <a:pt x="8474" y="7807"/>
                  <a:pt x="8487" y="7975"/>
                  <a:pt x="8533" y="8111"/>
                </a:cubicBezTo>
                <a:cubicBezTo>
                  <a:pt x="8571" y="8222"/>
                  <a:pt x="8646" y="8251"/>
                  <a:pt x="8756" y="8186"/>
                </a:cubicBezTo>
                <a:cubicBezTo>
                  <a:pt x="8773" y="8169"/>
                  <a:pt x="8789" y="8153"/>
                  <a:pt x="8806" y="8136"/>
                </a:cubicBezTo>
              </a:path>
              <a:path w="2159" h="918">
                <a:moveTo>
                  <a:pt x="8210" y="8012"/>
                </a:moveTo>
                <a:cubicBezTo>
                  <a:pt x="8354" y="7974"/>
                  <a:pt x="8534" y="7930"/>
                  <a:pt x="8682" y="7938"/>
                </a:cubicBezTo>
                <a:cubicBezTo>
                  <a:pt x="8772" y="7960"/>
                  <a:pt x="8796" y="7968"/>
                  <a:pt x="8855" y="7962"/>
                </a:cubicBezTo>
              </a:path>
              <a:path w="2159" h="918">
                <a:moveTo>
                  <a:pt x="9004" y="7913"/>
                </a:moveTo>
                <a:cubicBezTo>
                  <a:pt x="8937" y="7890"/>
                  <a:pt x="8919" y="7879"/>
                  <a:pt x="8880" y="7913"/>
                </a:cubicBezTo>
                <a:cubicBezTo>
                  <a:pt x="8851" y="7956"/>
                  <a:pt x="8964" y="7985"/>
                  <a:pt x="9029" y="8012"/>
                </a:cubicBezTo>
                <a:cubicBezTo>
                  <a:pt x="9096" y="8035"/>
                  <a:pt x="9117" y="8036"/>
                  <a:pt x="9128" y="8086"/>
                </a:cubicBezTo>
                <a:cubicBezTo>
                  <a:pt x="9076" y="8177"/>
                  <a:pt x="8992" y="8178"/>
                  <a:pt x="888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25920" y="2670120"/>
            <a:ext cx="295200" cy="250920"/>
          </a:xfrm>
          <a:custGeom>
            <a:avLst/>
            <a:gdLst/>
            <a:ahLst/>
            <a:rect l="l" t="t" r="r" b="b"/>
            <a:pathLst>
              <a:path w="819" h="695">
                <a:moveTo>
                  <a:pt x="10368" y="7714"/>
                </a:moveTo>
                <a:cubicBezTo>
                  <a:pt x="10224" y="7714"/>
                  <a:pt x="10157" y="7745"/>
                  <a:pt x="10096" y="7888"/>
                </a:cubicBezTo>
                <a:cubicBezTo>
                  <a:pt x="10006" y="8097"/>
                  <a:pt x="10258" y="8164"/>
                  <a:pt x="10393" y="8037"/>
                </a:cubicBezTo>
                <a:cubicBezTo>
                  <a:pt x="10521" y="7917"/>
                  <a:pt x="10500" y="7723"/>
                  <a:pt x="10319" y="7689"/>
                </a:cubicBezTo>
                <a:cubicBezTo>
                  <a:pt x="10245" y="7689"/>
                  <a:pt x="10236" y="7689"/>
                  <a:pt x="10195" y="7689"/>
                </a:cubicBezTo>
              </a:path>
              <a:path w="819" h="695">
                <a:moveTo>
                  <a:pt x="10889" y="7466"/>
                </a:moveTo>
                <a:cubicBezTo>
                  <a:pt x="10816" y="7442"/>
                  <a:pt x="10809" y="7434"/>
                  <a:pt x="10740" y="7441"/>
                </a:cubicBezTo>
                <a:cubicBezTo>
                  <a:pt x="10691" y="7646"/>
                  <a:pt x="10776" y="7787"/>
                  <a:pt x="10815" y="7987"/>
                </a:cubicBezTo>
                <a:cubicBezTo>
                  <a:pt x="10815" y="8045"/>
                  <a:pt x="10815" y="8053"/>
                  <a:pt x="10815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2160" y="2589120"/>
            <a:ext cx="1241640" cy="260280"/>
          </a:xfrm>
          <a:custGeom>
            <a:avLst/>
            <a:gdLst/>
            <a:ahLst/>
            <a:rect l="l" t="t" r="r" b="b"/>
            <a:pathLst>
              <a:path w="3449" h="721">
                <a:moveTo>
                  <a:pt x="12030" y="7615"/>
                </a:moveTo>
                <a:cubicBezTo>
                  <a:pt x="11904" y="7539"/>
                  <a:pt x="11819" y="7557"/>
                  <a:pt x="11757" y="7739"/>
                </a:cubicBezTo>
                <a:cubicBezTo>
                  <a:pt x="11757" y="7852"/>
                  <a:pt x="11748" y="7887"/>
                  <a:pt x="11832" y="7913"/>
                </a:cubicBezTo>
                <a:cubicBezTo>
                  <a:pt x="11956" y="7809"/>
                  <a:pt x="11956" y="7797"/>
                  <a:pt x="11981" y="7640"/>
                </a:cubicBezTo>
                <a:cubicBezTo>
                  <a:pt x="12003" y="7729"/>
                  <a:pt x="12066" y="7816"/>
                  <a:pt x="12154" y="7863"/>
                </a:cubicBezTo>
                <a:cubicBezTo>
                  <a:pt x="12264" y="7890"/>
                  <a:pt x="12307" y="7895"/>
                  <a:pt x="12378" y="7838"/>
                </a:cubicBezTo>
              </a:path>
              <a:path w="3449" h="721">
                <a:moveTo>
                  <a:pt x="12750" y="7565"/>
                </a:moveTo>
                <a:cubicBezTo>
                  <a:pt x="12750" y="7666"/>
                  <a:pt x="12734" y="7749"/>
                  <a:pt x="12799" y="7838"/>
                </a:cubicBezTo>
                <a:cubicBezTo>
                  <a:pt x="12903" y="7980"/>
                  <a:pt x="13062" y="7696"/>
                  <a:pt x="13097" y="7640"/>
                </a:cubicBezTo>
                <a:cubicBezTo>
                  <a:pt x="13097" y="7764"/>
                  <a:pt x="13127" y="7913"/>
                  <a:pt x="13295" y="7913"/>
                </a:cubicBezTo>
                <a:cubicBezTo>
                  <a:pt x="13530" y="7913"/>
                  <a:pt x="13413" y="7665"/>
                  <a:pt x="13320" y="7590"/>
                </a:cubicBezTo>
                <a:cubicBezTo>
                  <a:pt x="13295" y="7574"/>
                  <a:pt x="13271" y="7557"/>
                  <a:pt x="13246" y="7541"/>
                </a:cubicBezTo>
              </a:path>
              <a:path w="3449" h="721">
                <a:moveTo>
                  <a:pt x="13469" y="7293"/>
                </a:moveTo>
                <a:cubicBezTo>
                  <a:pt x="13508" y="7492"/>
                  <a:pt x="13575" y="7687"/>
                  <a:pt x="13593" y="7888"/>
                </a:cubicBezTo>
                <a:cubicBezTo>
                  <a:pt x="13593" y="7751"/>
                  <a:pt x="13581" y="7652"/>
                  <a:pt x="13643" y="7541"/>
                </a:cubicBezTo>
                <a:cubicBezTo>
                  <a:pt x="13817" y="7553"/>
                  <a:pt x="13910" y="7577"/>
                  <a:pt x="13965" y="7764"/>
                </a:cubicBezTo>
                <a:cubicBezTo>
                  <a:pt x="13965" y="7805"/>
                  <a:pt x="13965" y="7813"/>
                  <a:pt x="13965" y="7838"/>
                </a:cubicBezTo>
              </a:path>
              <a:path w="3449" h="721">
                <a:moveTo>
                  <a:pt x="14238" y="7417"/>
                </a:moveTo>
                <a:cubicBezTo>
                  <a:pt x="14157" y="7474"/>
                  <a:pt x="13859" y="7672"/>
                  <a:pt x="14064" y="7789"/>
                </a:cubicBezTo>
                <a:cubicBezTo>
                  <a:pt x="14211" y="7872"/>
                  <a:pt x="14510" y="7724"/>
                  <a:pt x="14387" y="7541"/>
                </a:cubicBezTo>
                <a:cubicBezTo>
                  <a:pt x="14362" y="7524"/>
                  <a:pt x="14337" y="7508"/>
                  <a:pt x="14312" y="7491"/>
                </a:cubicBezTo>
              </a:path>
              <a:path w="3449" h="721">
                <a:moveTo>
                  <a:pt x="14610" y="7193"/>
                </a:moveTo>
                <a:cubicBezTo>
                  <a:pt x="14619" y="7404"/>
                  <a:pt x="14612" y="7632"/>
                  <a:pt x="14660" y="7838"/>
                </a:cubicBezTo>
                <a:cubicBezTo>
                  <a:pt x="14660" y="7822"/>
                  <a:pt x="14660" y="7805"/>
                  <a:pt x="14660" y="7789"/>
                </a:cubicBezTo>
              </a:path>
              <a:path w="3449" h="721">
                <a:moveTo>
                  <a:pt x="14833" y="7565"/>
                </a:moveTo>
                <a:cubicBezTo>
                  <a:pt x="14917" y="7545"/>
                  <a:pt x="14996" y="7525"/>
                  <a:pt x="15081" y="7516"/>
                </a:cubicBezTo>
                <a:cubicBezTo>
                  <a:pt x="15070" y="7461"/>
                  <a:pt x="15036" y="7365"/>
                  <a:pt x="14957" y="7392"/>
                </a:cubicBezTo>
                <a:cubicBezTo>
                  <a:pt x="14825" y="7437"/>
                  <a:pt x="14725" y="7631"/>
                  <a:pt x="14883" y="7714"/>
                </a:cubicBezTo>
                <a:cubicBezTo>
                  <a:pt x="15002" y="7777"/>
                  <a:pt x="15102" y="7734"/>
                  <a:pt x="15205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3080" y="2571840"/>
            <a:ext cx="963720" cy="206280"/>
          </a:xfrm>
          <a:custGeom>
            <a:avLst/>
            <a:gdLst/>
            <a:ahLst/>
            <a:rect l="l" t="t" r="r" b="b"/>
            <a:pathLst>
              <a:path w="2680" h="571">
                <a:moveTo>
                  <a:pt x="15701" y="7491"/>
                </a:moveTo>
                <a:cubicBezTo>
                  <a:pt x="15812" y="7491"/>
                  <a:pt x="15913" y="7478"/>
                  <a:pt x="16024" y="7466"/>
                </a:cubicBezTo>
                <a:cubicBezTo>
                  <a:pt x="16032" y="7466"/>
                  <a:pt x="16041" y="7466"/>
                  <a:pt x="16049" y="7466"/>
                </a:cubicBezTo>
              </a:path>
              <a:path w="2680" h="571">
                <a:moveTo>
                  <a:pt x="16148" y="7367"/>
                </a:moveTo>
                <a:cubicBezTo>
                  <a:pt x="16148" y="7482"/>
                  <a:pt x="16160" y="7601"/>
                  <a:pt x="16247" y="7689"/>
                </a:cubicBezTo>
                <a:cubicBezTo>
                  <a:pt x="16406" y="7849"/>
                  <a:pt x="16519" y="7523"/>
                  <a:pt x="16545" y="7441"/>
                </a:cubicBezTo>
                <a:cubicBezTo>
                  <a:pt x="16518" y="7550"/>
                  <a:pt x="16570" y="7725"/>
                  <a:pt x="16743" y="7689"/>
                </a:cubicBezTo>
                <a:cubicBezTo>
                  <a:pt x="17006" y="7634"/>
                  <a:pt x="16895" y="7458"/>
                  <a:pt x="16768" y="7367"/>
                </a:cubicBezTo>
              </a:path>
              <a:path w="2680" h="571">
                <a:moveTo>
                  <a:pt x="16867" y="7144"/>
                </a:moveTo>
                <a:cubicBezTo>
                  <a:pt x="16960" y="7316"/>
                  <a:pt x="17036" y="7487"/>
                  <a:pt x="17115" y="7665"/>
                </a:cubicBezTo>
                <a:cubicBezTo>
                  <a:pt x="17115" y="7531"/>
                  <a:pt x="17065" y="7360"/>
                  <a:pt x="17239" y="7342"/>
                </a:cubicBezTo>
                <a:cubicBezTo>
                  <a:pt x="17390" y="7326"/>
                  <a:pt x="17444" y="7539"/>
                  <a:pt x="17462" y="7640"/>
                </a:cubicBezTo>
              </a:path>
              <a:path w="2680" h="571">
                <a:moveTo>
                  <a:pt x="17537" y="7392"/>
                </a:moveTo>
                <a:cubicBezTo>
                  <a:pt x="17594" y="7365"/>
                  <a:pt x="17681" y="7331"/>
                  <a:pt x="17711" y="7293"/>
                </a:cubicBezTo>
                <a:cubicBezTo>
                  <a:pt x="17557" y="7293"/>
                  <a:pt x="17546" y="7340"/>
                  <a:pt x="17487" y="7466"/>
                </a:cubicBezTo>
                <a:cubicBezTo>
                  <a:pt x="17620" y="7657"/>
                  <a:pt x="17747" y="7586"/>
                  <a:pt x="17934" y="7441"/>
                </a:cubicBezTo>
                <a:cubicBezTo>
                  <a:pt x="18032" y="7365"/>
                  <a:pt x="17971" y="7434"/>
                  <a:pt x="17959" y="7516"/>
                </a:cubicBezTo>
                <a:cubicBezTo>
                  <a:pt x="17959" y="7565"/>
                  <a:pt x="17959" y="7581"/>
                  <a:pt x="17959" y="7516"/>
                </a:cubicBezTo>
                <a:cubicBezTo>
                  <a:pt x="17995" y="7419"/>
                  <a:pt x="18068" y="7273"/>
                  <a:pt x="18207" y="7293"/>
                </a:cubicBezTo>
                <a:cubicBezTo>
                  <a:pt x="18377" y="7317"/>
                  <a:pt x="18373" y="7521"/>
                  <a:pt x="18355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360" y="2509920"/>
            <a:ext cx="473400" cy="1872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19248" y="7069"/>
                </a:moveTo>
                <a:cubicBezTo>
                  <a:pt x="19248" y="6976"/>
                  <a:pt x="19281" y="7201"/>
                  <a:pt x="19298" y="7293"/>
                </a:cubicBezTo>
                <a:cubicBezTo>
                  <a:pt x="19318" y="7400"/>
                  <a:pt x="19371" y="7601"/>
                  <a:pt x="19248" y="7392"/>
                </a:cubicBezTo>
              </a:path>
              <a:path w="1316" h="522">
                <a:moveTo>
                  <a:pt x="19000" y="7193"/>
                </a:moveTo>
                <a:cubicBezTo>
                  <a:pt x="19183" y="7222"/>
                  <a:pt x="19469" y="7323"/>
                  <a:pt x="19521" y="7069"/>
                </a:cubicBezTo>
                <a:cubicBezTo>
                  <a:pt x="19521" y="7036"/>
                  <a:pt x="19521" y="7003"/>
                  <a:pt x="19521" y="6970"/>
                </a:cubicBezTo>
                <a:cubicBezTo>
                  <a:pt x="19488" y="7104"/>
                  <a:pt x="19542" y="7207"/>
                  <a:pt x="19571" y="7342"/>
                </a:cubicBezTo>
                <a:cubicBezTo>
                  <a:pt x="19571" y="7359"/>
                  <a:pt x="19571" y="7375"/>
                  <a:pt x="19571" y="7392"/>
                </a:cubicBezTo>
                <a:cubicBezTo>
                  <a:pt x="19571" y="7261"/>
                  <a:pt x="19602" y="7228"/>
                  <a:pt x="19695" y="7144"/>
                </a:cubicBezTo>
                <a:cubicBezTo>
                  <a:pt x="19825" y="7220"/>
                  <a:pt x="19865" y="7286"/>
                  <a:pt x="19893" y="7441"/>
                </a:cubicBezTo>
              </a:path>
              <a:path w="1316" h="522">
                <a:moveTo>
                  <a:pt x="20092" y="7218"/>
                </a:moveTo>
                <a:cubicBezTo>
                  <a:pt x="20154" y="7189"/>
                  <a:pt x="20334" y="7134"/>
                  <a:pt x="20241" y="7069"/>
                </a:cubicBezTo>
                <a:cubicBezTo>
                  <a:pt x="20159" y="7107"/>
                  <a:pt x="19871" y="7339"/>
                  <a:pt x="20141" y="7392"/>
                </a:cubicBezTo>
                <a:cubicBezTo>
                  <a:pt x="20199" y="7384"/>
                  <a:pt x="20257" y="7375"/>
                  <a:pt x="20315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18240" y="2411280"/>
            <a:ext cx="831960" cy="446400"/>
          </a:xfrm>
          <a:custGeom>
            <a:avLst/>
            <a:gdLst/>
            <a:ahLst/>
            <a:rect l="l" t="t" r="r" b="b"/>
            <a:pathLst>
              <a:path w="2307" h="1242">
                <a:moveTo>
                  <a:pt x="20935" y="6995"/>
                </a:moveTo>
                <a:cubicBezTo>
                  <a:pt x="20926" y="7021"/>
                  <a:pt x="20845" y="7288"/>
                  <a:pt x="20886" y="7293"/>
                </a:cubicBezTo>
                <a:cubicBezTo>
                  <a:pt x="20998" y="7308"/>
                  <a:pt x="21065" y="7157"/>
                  <a:pt x="21109" y="7094"/>
                </a:cubicBezTo>
                <a:cubicBezTo>
                  <a:pt x="21109" y="7034"/>
                  <a:pt x="21112" y="7244"/>
                  <a:pt x="21134" y="7268"/>
                </a:cubicBezTo>
                <a:cubicBezTo>
                  <a:pt x="21256" y="7400"/>
                  <a:pt x="21413" y="7228"/>
                  <a:pt x="21382" y="7094"/>
                </a:cubicBezTo>
                <a:cubicBezTo>
                  <a:pt x="21313" y="6980"/>
                  <a:pt x="21298" y="6944"/>
                  <a:pt x="21208" y="6921"/>
                </a:cubicBezTo>
              </a:path>
              <a:path w="2307" h="1242">
                <a:moveTo>
                  <a:pt x="21406" y="6747"/>
                </a:moveTo>
                <a:cubicBezTo>
                  <a:pt x="21420" y="6866"/>
                  <a:pt x="21524" y="7083"/>
                  <a:pt x="21506" y="7193"/>
                </a:cubicBezTo>
                <a:cubicBezTo>
                  <a:pt x="21498" y="7185"/>
                  <a:pt x="21489" y="7177"/>
                  <a:pt x="21481" y="7169"/>
                </a:cubicBezTo>
                <a:cubicBezTo>
                  <a:pt x="21533" y="7078"/>
                  <a:pt x="21528" y="6908"/>
                  <a:pt x="21679" y="6921"/>
                </a:cubicBezTo>
                <a:cubicBezTo>
                  <a:pt x="21828" y="6934"/>
                  <a:pt x="21877" y="7111"/>
                  <a:pt x="21853" y="7218"/>
                </a:cubicBezTo>
              </a:path>
              <a:path w="2307" h="1242">
                <a:moveTo>
                  <a:pt x="22175" y="6921"/>
                </a:moveTo>
                <a:cubicBezTo>
                  <a:pt x="22063" y="6949"/>
                  <a:pt x="22013" y="7055"/>
                  <a:pt x="21952" y="7144"/>
                </a:cubicBezTo>
                <a:cubicBezTo>
                  <a:pt x="22040" y="7207"/>
                  <a:pt x="22217" y="7277"/>
                  <a:pt x="22275" y="7119"/>
                </a:cubicBezTo>
                <a:cubicBezTo>
                  <a:pt x="22300" y="7051"/>
                  <a:pt x="22164" y="6979"/>
                  <a:pt x="22126" y="6945"/>
                </a:cubicBezTo>
              </a:path>
              <a:path w="2307" h="1242">
                <a:moveTo>
                  <a:pt x="22771" y="6871"/>
                </a:moveTo>
                <a:cubicBezTo>
                  <a:pt x="22848" y="6853"/>
                  <a:pt x="23014" y="6861"/>
                  <a:pt x="23044" y="6796"/>
                </a:cubicBezTo>
                <a:cubicBezTo>
                  <a:pt x="23044" y="6761"/>
                  <a:pt x="23039" y="6744"/>
                  <a:pt x="23019" y="6722"/>
                </a:cubicBezTo>
                <a:cubicBezTo>
                  <a:pt x="22890" y="6711"/>
                  <a:pt x="22748" y="6794"/>
                  <a:pt x="22771" y="6970"/>
                </a:cubicBezTo>
                <a:cubicBezTo>
                  <a:pt x="22785" y="7073"/>
                  <a:pt x="23010" y="7042"/>
                  <a:pt x="23068" y="7045"/>
                </a:cubicBezTo>
              </a:path>
              <a:path w="2307" h="1242">
                <a:moveTo>
                  <a:pt x="21779" y="7466"/>
                </a:moveTo>
                <a:cubicBezTo>
                  <a:pt x="21759" y="7591"/>
                  <a:pt x="21703" y="7816"/>
                  <a:pt x="21754" y="7938"/>
                </a:cubicBezTo>
                <a:cubicBezTo>
                  <a:pt x="21762" y="7938"/>
                  <a:pt x="21771" y="7938"/>
                  <a:pt x="21779" y="7938"/>
                </a:cubicBezTo>
              </a:path>
              <a:path w="2307" h="1242">
                <a:moveTo>
                  <a:pt x="22200" y="7516"/>
                </a:moveTo>
                <a:cubicBezTo>
                  <a:pt x="22024" y="7545"/>
                  <a:pt x="21990" y="7651"/>
                  <a:pt x="21903" y="7789"/>
                </a:cubicBezTo>
                <a:cubicBezTo>
                  <a:pt x="22064" y="7929"/>
                  <a:pt x="22301" y="7977"/>
                  <a:pt x="22423" y="7714"/>
                </a:cubicBezTo>
                <a:cubicBezTo>
                  <a:pt x="22498" y="7551"/>
                  <a:pt x="22322" y="7527"/>
                  <a:pt x="22225" y="7491"/>
                </a:cubicBezTo>
              </a:path>
              <a:path w="2307" h="1242">
                <a:moveTo>
                  <a:pt x="22845" y="7367"/>
                </a:moveTo>
                <a:cubicBezTo>
                  <a:pt x="22729" y="7406"/>
                  <a:pt x="22559" y="7514"/>
                  <a:pt x="22572" y="7665"/>
                </a:cubicBezTo>
                <a:cubicBezTo>
                  <a:pt x="22595" y="7932"/>
                  <a:pt x="22997" y="7888"/>
                  <a:pt x="23118" y="7739"/>
                </a:cubicBezTo>
                <a:cubicBezTo>
                  <a:pt x="23292" y="7525"/>
                  <a:pt x="23123" y="7425"/>
                  <a:pt x="22944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72680" y="2367000"/>
            <a:ext cx="179280" cy="1332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23812" y="6672"/>
                </a:moveTo>
                <a:cubicBezTo>
                  <a:pt x="23848" y="6752"/>
                  <a:pt x="23866" y="6853"/>
                  <a:pt x="23887" y="6945"/>
                </a:cubicBezTo>
              </a:path>
              <a:path w="498" h="373">
                <a:moveTo>
                  <a:pt x="24209" y="6573"/>
                </a:moveTo>
                <a:cubicBezTo>
                  <a:pt x="24136" y="6585"/>
                  <a:pt x="24071" y="6607"/>
                  <a:pt x="24011" y="6648"/>
                </a:cubicBezTo>
                <a:cubicBezTo>
                  <a:pt x="24125" y="6696"/>
                  <a:pt x="24433" y="6780"/>
                  <a:pt x="24209" y="6896"/>
                </a:cubicBezTo>
                <a:cubicBezTo>
                  <a:pt x="24090" y="6920"/>
                  <a:pt x="24053" y="6931"/>
                  <a:pt x="23986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13240" y="3241800"/>
            <a:ext cx="54000" cy="187200"/>
          </a:xfrm>
          <a:custGeom>
            <a:avLst/>
            <a:gdLst/>
            <a:ahLst/>
            <a:rect l="l" t="t" r="r" b="b"/>
            <a:pathLst>
              <a:path w="150" h="522">
                <a:moveTo>
                  <a:pt x="14833" y="9327"/>
                </a:moveTo>
                <a:cubicBezTo>
                  <a:pt x="14859" y="9429"/>
                  <a:pt x="14868" y="9464"/>
                  <a:pt x="14908" y="9525"/>
                </a:cubicBezTo>
              </a:path>
              <a:path w="150" h="522">
                <a:moveTo>
                  <a:pt x="14908" y="9525"/>
                </a:moveTo>
                <a:lnTo>
                  <a:pt x="14908" y="9525"/>
                </a:lnTo>
              </a:path>
              <a:path w="150" h="522">
                <a:moveTo>
                  <a:pt x="14759" y="9004"/>
                </a:moveTo>
                <a:cubicBezTo>
                  <a:pt x="14767" y="9004"/>
                  <a:pt x="14776" y="9004"/>
                  <a:pt x="14784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1800" y="3303720"/>
            <a:ext cx="633240" cy="277560"/>
          </a:xfrm>
          <a:custGeom>
            <a:avLst/>
            <a:gdLst/>
            <a:ahLst/>
            <a:rect l="l" t="t" r="r" b="b"/>
            <a:pathLst>
              <a:path w="1762" h="770">
                <a:moveTo>
                  <a:pt x="9029" y="9203"/>
                </a:moveTo>
                <a:cubicBezTo>
                  <a:pt x="8966" y="9182"/>
                  <a:pt x="9013" y="9207"/>
                  <a:pt x="9029" y="9277"/>
                </a:cubicBezTo>
                <a:cubicBezTo>
                  <a:pt x="9078" y="9495"/>
                  <a:pt x="9149" y="9709"/>
                  <a:pt x="9203" y="9922"/>
                </a:cubicBezTo>
                <a:cubicBezTo>
                  <a:pt x="9184" y="9755"/>
                  <a:pt x="9126" y="9633"/>
                  <a:pt x="9203" y="9475"/>
                </a:cubicBezTo>
                <a:cubicBezTo>
                  <a:pt x="9228" y="9442"/>
                  <a:pt x="9252" y="9409"/>
                  <a:pt x="9277" y="9376"/>
                </a:cubicBezTo>
                <a:cubicBezTo>
                  <a:pt x="9502" y="9432"/>
                  <a:pt x="9532" y="9573"/>
                  <a:pt x="9599" y="9798"/>
                </a:cubicBezTo>
                <a:cubicBezTo>
                  <a:pt x="9645" y="9953"/>
                  <a:pt x="9624" y="9907"/>
                  <a:pt x="9624" y="9847"/>
                </a:cubicBezTo>
              </a:path>
              <a:path w="1762" h="770">
                <a:moveTo>
                  <a:pt x="9748" y="9426"/>
                </a:moveTo>
                <a:cubicBezTo>
                  <a:pt x="9703" y="9550"/>
                  <a:pt x="9572" y="9854"/>
                  <a:pt x="9748" y="9947"/>
                </a:cubicBezTo>
                <a:cubicBezTo>
                  <a:pt x="9789" y="9947"/>
                  <a:pt x="9831" y="9947"/>
                  <a:pt x="9872" y="9947"/>
                </a:cubicBezTo>
                <a:cubicBezTo>
                  <a:pt x="10005" y="9769"/>
                  <a:pt x="10008" y="9648"/>
                  <a:pt x="9798" y="9500"/>
                </a:cubicBezTo>
                <a:cubicBezTo>
                  <a:pt x="9790" y="9500"/>
                  <a:pt x="9781" y="9500"/>
                  <a:pt x="9773" y="9500"/>
                </a:cubicBezTo>
              </a:path>
              <a:path w="1762" h="770">
                <a:moveTo>
                  <a:pt x="10120" y="9426"/>
                </a:moveTo>
                <a:cubicBezTo>
                  <a:pt x="10101" y="9592"/>
                  <a:pt x="10103" y="9734"/>
                  <a:pt x="10294" y="9798"/>
                </a:cubicBezTo>
                <a:cubicBezTo>
                  <a:pt x="10421" y="9841"/>
                  <a:pt x="10431" y="9605"/>
                  <a:pt x="10443" y="9525"/>
                </a:cubicBezTo>
                <a:cubicBezTo>
                  <a:pt x="10466" y="9730"/>
                  <a:pt x="10487" y="9753"/>
                  <a:pt x="10666" y="9798"/>
                </a:cubicBezTo>
                <a:cubicBezTo>
                  <a:pt x="10769" y="9611"/>
                  <a:pt x="10825" y="9481"/>
                  <a:pt x="10567" y="9426"/>
                </a:cubicBezTo>
                <a:cubicBezTo>
                  <a:pt x="10542" y="9426"/>
                  <a:pt x="10517" y="9426"/>
                  <a:pt x="10492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3340080"/>
            <a:ext cx="465120" cy="169920"/>
          </a:xfrm>
          <a:custGeom>
            <a:avLst/>
            <a:gdLst/>
            <a:ahLst/>
            <a:rect l="l" t="t" r="r" b="b"/>
            <a:pathLst>
              <a:path w="1291" h="472">
                <a:moveTo>
                  <a:pt x="11708" y="9376"/>
                </a:moveTo>
                <a:cubicBezTo>
                  <a:pt x="11722" y="9511"/>
                  <a:pt x="11731" y="9627"/>
                  <a:pt x="11832" y="9723"/>
                </a:cubicBezTo>
                <a:cubicBezTo>
                  <a:pt x="11940" y="9826"/>
                  <a:pt x="11951" y="9547"/>
                  <a:pt x="11956" y="9525"/>
                </a:cubicBezTo>
                <a:cubicBezTo>
                  <a:pt x="11956" y="9508"/>
                  <a:pt x="11956" y="9492"/>
                  <a:pt x="11956" y="9475"/>
                </a:cubicBezTo>
                <a:cubicBezTo>
                  <a:pt x="11990" y="9632"/>
                  <a:pt x="12076" y="9805"/>
                  <a:pt x="12278" y="9699"/>
                </a:cubicBezTo>
                <a:cubicBezTo>
                  <a:pt x="12491" y="9587"/>
                  <a:pt x="12224" y="9340"/>
                  <a:pt x="12204" y="9376"/>
                </a:cubicBezTo>
                <a:cubicBezTo>
                  <a:pt x="12212" y="9393"/>
                  <a:pt x="12221" y="9409"/>
                  <a:pt x="12229" y="9426"/>
                </a:cubicBezTo>
              </a:path>
              <a:path w="1291" h="472">
                <a:moveTo>
                  <a:pt x="12700" y="9376"/>
                </a:moveTo>
                <a:cubicBezTo>
                  <a:pt x="12700" y="9327"/>
                  <a:pt x="12700" y="9310"/>
                  <a:pt x="12700" y="9277"/>
                </a:cubicBezTo>
                <a:cubicBezTo>
                  <a:pt x="12588" y="9333"/>
                  <a:pt x="12505" y="9535"/>
                  <a:pt x="12650" y="9649"/>
                </a:cubicBezTo>
                <a:cubicBezTo>
                  <a:pt x="12813" y="9682"/>
                  <a:pt x="12890" y="9674"/>
                  <a:pt x="12998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1840" y="3303720"/>
            <a:ext cx="374400" cy="169560"/>
          </a:xfrm>
          <a:custGeom>
            <a:avLst/>
            <a:gdLst/>
            <a:ahLst/>
            <a:rect l="l" t="t" r="r" b="b"/>
            <a:pathLst>
              <a:path w="1042" h="472">
                <a:moveTo>
                  <a:pt x="13643" y="9351"/>
                </a:moveTo>
                <a:cubicBezTo>
                  <a:pt x="13643" y="9462"/>
                  <a:pt x="13698" y="9551"/>
                  <a:pt x="13742" y="9649"/>
                </a:cubicBezTo>
                <a:cubicBezTo>
                  <a:pt x="13920" y="9605"/>
                  <a:pt x="13920" y="9505"/>
                  <a:pt x="13940" y="9327"/>
                </a:cubicBezTo>
                <a:cubicBezTo>
                  <a:pt x="13940" y="9472"/>
                  <a:pt x="13983" y="9608"/>
                  <a:pt x="14163" y="9599"/>
                </a:cubicBezTo>
                <a:cubicBezTo>
                  <a:pt x="14341" y="9590"/>
                  <a:pt x="14307" y="9355"/>
                  <a:pt x="14213" y="9277"/>
                </a:cubicBezTo>
                <a:cubicBezTo>
                  <a:pt x="14188" y="9277"/>
                  <a:pt x="14180" y="9277"/>
                  <a:pt x="14213" y="9277"/>
                </a:cubicBezTo>
              </a:path>
              <a:path w="1042" h="472">
                <a:moveTo>
                  <a:pt x="14486" y="9451"/>
                </a:moveTo>
                <a:cubicBezTo>
                  <a:pt x="14563" y="9584"/>
                  <a:pt x="14497" y="9486"/>
                  <a:pt x="14486" y="9376"/>
                </a:cubicBezTo>
                <a:cubicBezTo>
                  <a:pt x="14470" y="9215"/>
                  <a:pt x="14546" y="9201"/>
                  <a:pt x="1468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29160" y="3187800"/>
            <a:ext cx="250920" cy="223560"/>
          </a:xfrm>
          <a:custGeom>
            <a:avLst/>
            <a:gdLst/>
            <a:ahLst/>
            <a:rect l="l" t="t" r="r" b="b"/>
            <a:pathLst>
              <a:path w="696" h="621">
                <a:moveTo>
                  <a:pt x="15081" y="8855"/>
                </a:moveTo>
                <a:cubicBezTo>
                  <a:pt x="15156" y="9050"/>
                  <a:pt x="15281" y="9241"/>
                  <a:pt x="15354" y="9426"/>
                </a:cubicBezTo>
                <a:cubicBezTo>
                  <a:pt x="15354" y="9475"/>
                  <a:pt x="15354" y="9492"/>
                  <a:pt x="15304" y="9475"/>
                </a:cubicBezTo>
              </a:path>
              <a:path w="696" h="621">
                <a:moveTo>
                  <a:pt x="15131" y="9252"/>
                </a:moveTo>
                <a:cubicBezTo>
                  <a:pt x="15275" y="9238"/>
                  <a:pt x="15472" y="9212"/>
                  <a:pt x="15577" y="9252"/>
                </a:cubicBezTo>
                <a:cubicBezTo>
                  <a:pt x="15585" y="9252"/>
                  <a:pt x="15594" y="9252"/>
                  <a:pt x="15602" y="9252"/>
                </a:cubicBezTo>
                <a:cubicBezTo>
                  <a:pt x="15598" y="9226"/>
                  <a:pt x="15576" y="9079"/>
                  <a:pt x="15528" y="9079"/>
                </a:cubicBezTo>
                <a:cubicBezTo>
                  <a:pt x="15286" y="9078"/>
                  <a:pt x="15452" y="9418"/>
                  <a:pt x="15602" y="9451"/>
                </a:cubicBezTo>
                <a:cubicBezTo>
                  <a:pt x="15660" y="9443"/>
                  <a:pt x="15718" y="9434"/>
                  <a:pt x="15776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9200" y="3170160"/>
            <a:ext cx="1305000" cy="268200"/>
          </a:xfrm>
          <a:custGeom>
            <a:avLst/>
            <a:gdLst/>
            <a:ahLst/>
            <a:rect l="l" t="t" r="r" b="b"/>
            <a:pathLst>
              <a:path w="3623" h="745">
                <a:moveTo>
                  <a:pt x="16470" y="9103"/>
                </a:moveTo>
                <a:cubicBezTo>
                  <a:pt x="16507" y="9214"/>
                  <a:pt x="16608" y="9326"/>
                  <a:pt x="16619" y="9451"/>
                </a:cubicBezTo>
                <a:cubicBezTo>
                  <a:pt x="16611" y="9443"/>
                  <a:pt x="16602" y="9434"/>
                  <a:pt x="16594" y="9426"/>
                </a:cubicBezTo>
                <a:cubicBezTo>
                  <a:pt x="16559" y="9283"/>
                  <a:pt x="16484" y="8937"/>
                  <a:pt x="16793" y="9029"/>
                </a:cubicBezTo>
                <a:cubicBezTo>
                  <a:pt x="17042" y="9103"/>
                  <a:pt x="16897" y="9339"/>
                  <a:pt x="16991" y="9451"/>
                </a:cubicBezTo>
                <a:cubicBezTo>
                  <a:pt x="16999" y="9443"/>
                  <a:pt x="17008" y="9434"/>
                  <a:pt x="17016" y="9426"/>
                </a:cubicBezTo>
              </a:path>
              <a:path w="3623" h="745">
                <a:moveTo>
                  <a:pt x="17041" y="9054"/>
                </a:moveTo>
                <a:cubicBezTo>
                  <a:pt x="17054" y="9221"/>
                  <a:pt x="17074" y="9339"/>
                  <a:pt x="17165" y="9475"/>
                </a:cubicBezTo>
                <a:cubicBezTo>
                  <a:pt x="17264" y="9387"/>
                  <a:pt x="17303" y="9318"/>
                  <a:pt x="17314" y="9178"/>
                </a:cubicBezTo>
                <a:cubicBezTo>
                  <a:pt x="17314" y="9170"/>
                  <a:pt x="17314" y="9161"/>
                  <a:pt x="17314" y="9153"/>
                </a:cubicBezTo>
                <a:cubicBezTo>
                  <a:pt x="17324" y="9207"/>
                  <a:pt x="17397" y="9497"/>
                  <a:pt x="17462" y="9500"/>
                </a:cubicBezTo>
                <a:cubicBezTo>
                  <a:pt x="17487" y="9484"/>
                  <a:pt x="17512" y="9467"/>
                  <a:pt x="17537" y="9451"/>
                </a:cubicBezTo>
              </a:path>
              <a:path w="3623" h="745">
                <a:moveTo>
                  <a:pt x="17587" y="9153"/>
                </a:moveTo>
                <a:cubicBezTo>
                  <a:pt x="17593" y="9262"/>
                  <a:pt x="17742" y="9446"/>
                  <a:pt x="17636" y="9475"/>
                </a:cubicBezTo>
                <a:cubicBezTo>
                  <a:pt x="17628" y="9467"/>
                  <a:pt x="17619" y="9459"/>
                  <a:pt x="17611" y="9451"/>
                </a:cubicBezTo>
                <a:cubicBezTo>
                  <a:pt x="17614" y="9378"/>
                  <a:pt x="17609" y="8988"/>
                  <a:pt x="17785" y="9178"/>
                </a:cubicBezTo>
                <a:cubicBezTo>
                  <a:pt x="17852" y="9290"/>
                  <a:pt x="17873" y="9318"/>
                  <a:pt x="17884" y="9401"/>
                </a:cubicBezTo>
                <a:cubicBezTo>
                  <a:pt x="17884" y="9300"/>
                  <a:pt x="17887" y="9163"/>
                  <a:pt x="18008" y="9128"/>
                </a:cubicBezTo>
                <a:cubicBezTo>
                  <a:pt x="18116" y="9097"/>
                  <a:pt x="18122" y="9475"/>
                  <a:pt x="18157" y="9525"/>
                </a:cubicBezTo>
                <a:cubicBezTo>
                  <a:pt x="18240" y="9525"/>
                  <a:pt x="18278" y="9474"/>
                  <a:pt x="18281" y="9351"/>
                </a:cubicBezTo>
              </a:path>
              <a:path w="3623" h="745">
                <a:moveTo>
                  <a:pt x="18331" y="8806"/>
                </a:moveTo>
                <a:cubicBezTo>
                  <a:pt x="18366" y="9031"/>
                  <a:pt x="18432" y="9257"/>
                  <a:pt x="18504" y="9475"/>
                </a:cubicBezTo>
                <a:cubicBezTo>
                  <a:pt x="18504" y="9358"/>
                  <a:pt x="18473" y="9219"/>
                  <a:pt x="18579" y="9128"/>
                </a:cubicBezTo>
                <a:cubicBezTo>
                  <a:pt x="18791" y="8947"/>
                  <a:pt x="18838" y="9356"/>
                  <a:pt x="18752" y="9475"/>
                </a:cubicBezTo>
                <a:cubicBezTo>
                  <a:pt x="18602" y="9684"/>
                  <a:pt x="18418" y="9516"/>
                  <a:pt x="18554" y="9302"/>
                </a:cubicBezTo>
              </a:path>
              <a:path w="3623" h="745">
                <a:moveTo>
                  <a:pt x="19025" y="9203"/>
                </a:moveTo>
                <a:cubicBezTo>
                  <a:pt x="19152" y="9203"/>
                  <a:pt x="19196" y="9207"/>
                  <a:pt x="19273" y="9103"/>
                </a:cubicBezTo>
                <a:cubicBezTo>
                  <a:pt x="19147" y="9083"/>
                  <a:pt x="19004" y="9112"/>
                  <a:pt x="18976" y="9277"/>
                </a:cubicBezTo>
                <a:cubicBezTo>
                  <a:pt x="18998" y="9434"/>
                  <a:pt x="18992" y="9482"/>
                  <a:pt x="19100" y="9525"/>
                </a:cubicBezTo>
                <a:cubicBezTo>
                  <a:pt x="19233" y="9448"/>
                  <a:pt x="19414" y="9099"/>
                  <a:pt x="19397" y="9252"/>
                </a:cubicBezTo>
                <a:cubicBezTo>
                  <a:pt x="19390" y="9311"/>
                  <a:pt x="19372" y="9435"/>
                  <a:pt x="19372" y="9376"/>
                </a:cubicBezTo>
                <a:cubicBezTo>
                  <a:pt x="19391" y="9267"/>
                  <a:pt x="19450" y="9013"/>
                  <a:pt x="19621" y="9029"/>
                </a:cubicBezTo>
                <a:cubicBezTo>
                  <a:pt x="19654" y="9046"/>
                  <a:pt x="19687" y="9062"/>
                  <a:pt x="19720" y="9079"/>
                </a:cubicBezTo>
              </a:path>
              <a:path w="3623" h="745">
                <a:moveTo>
                  <a:pt x="19918" y="9054"/>
                </a:moveTo>
                <a:cubicBezTo>
                  <a:pt x="19848" y="9082"/>
                  <a:pt x="19834" y="9067"/>
                  <a:pt x="19819" y="9128"/>
                </a:cubicBezTo>
                <a:cubicBezTo>
                  <a:pt x="19910" y="9180"/>
                  <a:pt x="20001" y="9225"/>
                  <a:pt x="20092" y="9277"/>
                </a:cubicBezTo>
                <a:cubicBezTo>
                  <a:pt x="19977" y="9505"/>
                  <a:pt x="19861" y="9421"/>
                  <a:pt x="19645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39040" y="3125880"/>
            <a:ext cx="776160" cy="258840"/>
          </a:xfrm>
          <a:custGeom>
            <a:avLst/>
            <a:gdLst/>
            <a:ahLst/>
            <a:rect l="l" t="t" r="r" b="b"/>
            <a:pathLst>
              <a:path w="2159" h="720">
                <a:moveTo>
                  <a:pt x="20910" y="8706"/>
                </a:moveTo>
                <a:cubicBezTo>
                  <a:pt x="20976" y="8863"/>
                  <a:pt x="21059" y="9121"/>
                  <a:pt x="21059" y="9302"/>
                </a:cubicBezTo>
                <a:cubicBezTo>
                  <a:pt x="21051" y="9310"/>
                  <a:pt x="21042" y="9319"/>
                  <a:pt x="21034" y="9327"/>
                </a:cubicBezTo>
              </a:path>
              <a:path w="2159" h="720">
                <a:moveTo>
                  <a:pt x="20662" y="9029"/>
                </a:moveTo>
                <a:cubicBezTo>
                  <a:pt x="20798" y="9108"/>
                  <a:pt x="21127" y="9227"/>
                  <a:pt x="21258" y="9029"/>
                </a:cubicBezTo>
                <a:cubicBezTo>
                  <a:pt x="21258" y="8904"/>
                  <a:pt x="21258" y="8862"/>
                  <a:pt x="21233" y="8781"/>
                </a:cubicBezTo>
                <a:cubicBezTo>
                  <a:pt x="21136" y="8877"/>
                  <a:pt x="21257" y="9183"/>
                  <a:pt x="21282" y="9327"/>
                </a:cubicBezTo>
                <a:cubicBezTo>
                  <a:pt x="21282" y="9335"/>
                  <a:pt x="21282" y="9343"/>
                  <a:pt x="21282" y="9351"/>
                </a:cubicBezTo>
                <a:cubicBezTo>
                  <a:pt x="21297" y="9143"/>
                  <a:pt x="21297" y="9082"/>
                  <a:pt x="21431" y="8930"/>
                </a:cubicBezTo>
                <a:cubicBezTo>
                  <a:pt x="21672" y="9049"/>
                  <a:pt x="21619" y="9142"/>
                  <a:pt x="21654" y="9376"/>
                </a:cubicBezTo>
                <a:cubicBezTo>
                  <a:pt x="21662" y="9384"/>
                  <a:pt x="21671" y="9393"/>
                  <a:pt x="21679" y="9401"/>
                </a:cubicBezTo>
              </a:path>
              <a:path w="2159" h="720">
                <a:moveTo>
                  <a:pt x="22076" y="8930"/>
                </a:moveTo>
                <a:cubicBezTo>
                  <a:pt x="21931" y="8971"/>
                  <a:pt x="21794" y="9134"/>
                  <a:pt x="21828" y="9302"/>
                </a:cubicBezTo>
                <a:cubicBezTo>
                  <a:pt x="21885" y="9582"/>
                  <a:pt x="22087" y="9149"/>
                  <a:pt x="22101" y="9103"/>
                </a:cubicBezTo>
                <a:cubicBezTo>
                  <a:pt x="22101" y="9111"/>
                  <a:pt x="22101" y="9120"/>
                  <a:pt x="22101" y="9128"/>
                </a:cubicBezTo>
                <a:cubicBezTo>
                  <a:pt x="22231" y="9284"/>
                  <a:pt x="22240" y="9266"/>
                  <a:pt x="22423" y="9203"/>
                </a:cubicBezTo>
              </a:path>
              <a:path w="2159" h="720">
                <a:moveTo>
                  <a:pt x="22399" y="8682"/>
                </a:moveTo>
                <a:cubicBezTo>
                  <a:pt x="22447" y="8849"/>
                  <a:pt x="22502" y="9016"/>
                  <a:pt x="22572" y="9178"/>
                </a:cubicBezTo>
                <a:cubicBezTo>
                  <a:pt x="22594" y="9221"/>
                  <a:pt x="22598" y="9233"/>
                  <a:pt x="22622" y="9252"/>
                </a:cubicBezTo>
              </a:path>
              <a:path w="2159" h="720">
                <a:moveTo>
                  <a:pt x="22200" y="8954"/>
                </a:moveTo>
                <a:cubicBezTo>
                  <a:pt x="22400" y="8918"/>
                  <a:pt x="22598" y="8874"/>
                  <a:pt x="22796" y="8830"/>
                </a:cubicBezTo>
                <a:cubicBezTo>
                  <a:pt x="22829" y="8830"/>
                  <a:pt x="22837" y="8839"/>
                  <a:pt x="22820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49800" y="371484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1807" y="10319"/>
                </a:moveTo>
                <a:cubicBezTo>
                  <a:pt x="11826" y="10453"/>
                  <a:pt x="11870" y="10594"/>
                  <a:pt x="11931" y="10716"/>
                </a:cubicBezTo>
                <a:cubicBezTo>
                  <a:pt x="12012" y="10877"/>
                  <a:pt x="12109" y="10807"/>
                  <a:pt x="12229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3751200"/>
            <a:ext cx="1098360" cy="330120"/>
          </a:xfrm>
          <a:custGeom>
            <a:avLst/>
            <a:gdLst/>
            <a:ahLst/>
            <a:rect l="l" t="t" r="r" b="b"/>
            <a:pathLst>
              <a:path w="3052" h="919">
                <a:moveTo>
                  <a:pt x="9153" y="10567"/>
                </a:moveTo>
                <a:cubicBezTo>
                  <a:pt x="9209" y="10690"/>
                  <a:pt x="9350" y="10911"/>
                  <a:pt x="9351" y="11038"/>
                </a:cubicBezTo>
                <a:cubicBezTo>
                  <a:pt x="9343" y="11038"/>
                  <a:pt x="9335" y="11038"/>
                  <a:pt x="9327" y="11038"/>
                </a:cubicBezTo>
                <a:cubicBezTo>
                  <a:pt x="9263" y="10865"/>
                  <a:pt x="9183" y="10622"/>
                  <a:pt x="9351" y="10468"/>
                </a:cubicBezTo>
                <a:cubicBezTo>
                  <a:pt x="9497" y="10334"/>
                  <a:pt x="9653" y="10426"/>
                  <a:pt x="9748" y="10542"/>
                </a:cubicBezTo>
              </a:path>
              <a:path w="3052" h="919">
                <a:moveTo>
                  <a:pt x="9798" y="10691"/>
                </a:moveTo>
                <a:cubicBezTo>
                  <a:pt x="9875" y="10686"/>
                  <a:pt x="9945" y="10666"/>
                  <a:pt x="10021" y="10666"/>
                </a:cubicBezTo>
                <a:cubicBezTo>
                  <a:pt x="9988" y="10606"/>
                  <a:pt x="9873" y="10410"/>
                  <a:pt x="9773" y="10492"/>
                </a:cubicBezTo>
                <a:cubicBezTo>
                  <a:pt x="9607" y="10629"/>
                  <a:pt x="9695" y="10960"/>
                  <a:pt x="9922" y="10964"/>
                </a:cubicBezTo>
                <a:cubicBezTo>
                  <a:pt x="10083" y="10910"/>
                  <a:pt x="10140" y="10884"/>
                  <a:pt x="10195" y="10765"/>
                </a:cubicBezTo>
              </a:path>
              <a:path w="3052" h="919">
                <a:moveTo>
                  <a:pt x="10220" y="10592"/>
                </a:moveTo>
                <a:cubicBezTo>
                  <a:pt x="10285" y="10822"/>
                  <a:pt x="10368" y="11053"/>
                  <a:pt x="10418" y="11286"/>
                </a:cubicBezTo>
                <a:cubicBezTo>
                  <a:pt x="10418" y="11303"/>
                  <a:pt x="10418" y="11319"/>
                  <a:pt x="10418" y="11336"/>
                </a:cubicBezTo>
                <a:cubicBezTo>
                  <a:pt x="10275" y="11121"/>
                  <a:pt x="10230" y="10895"/>
                  <a:pt x="10319" y="10641"/>
                </a:cubicBezTo>
                <a:cubicBezTo>
                  <a:pt x="10352" y="10600"/>
                  <a:pt x="10385" y="10558"/>
                  <a:pt x="10418" y="10517"/>
                </a:cubicBezTo>
                <a:cubicBezTo>
                  <a:pt x="10557" y="10576"/>
                  <a:pt x="10821" y="10777"/>
                  <a:pt x="10542" y="10914"/>
                </a:cubicBezTo>
                <a:cubicBezTo>
                  <a:pt x="10378" y="10938"/>
                  <a:pt x="10329" y="10951"/>
                  <a:pt x="10244" y="10864"/>
                </a:cubicBezTo>
              </a:path>
              <a:path w="3052" h="919">
                <a:moveTo>
                  <a:pt x="10790" y="10666"/>
                </a:moveTo>
                <a:cubicBezTo>
                  <a:pt x="10858" y="10657"/>
                  <a:pt x="11011" y="10652"/>
                  <a:pt x="11038" y="10592"/>
                </a:cubicBezTo>
                <a:cubicBezTo>
                  <a:pt x="11038" y="10584"/>
                  <a:pt x="11038" y="10575"/>
                  <a:pt x="11038" y="10567"/>
                </a:cubicBezTo>
                <a:cubicBezTo>
                  <a:pt x="10878" y="10496"/>
                  <a:pt x="10799" y="10429"/>
                  <a:pt x="10765" y="10666"/>
                </a:cubicBezTo>
                <a:cubicBezTo>
                  <a:pt x="10716" y="11004"/>
                  <a:pt x="10948" y="10902"/>
                  <a:pt x="11137" y="10815"/>
                </a:cubicBezTo>
              </a:path>
              <a:path w="3052" h="919">
                <a:moveTo>
                  <a:pt x="11633" y="10542"/>
                </a:moveTo>
                <a:cubicBezTo>
                  <a:pt x="11485" y="10475"/>
                  <a:pt x="11382" y="10498"/>
                  <a:pt x="11336" y="10691"/>
                </a:cubicBezTo>
                <a:cubicBezTo>
                  <a:pt x="11336" y="10836"/>
                  <a:pt x="11313" y="10878"/>
                  <a:pt x="11410" y="10914"/>
                </a:cubicBezTo>
                <a:cubicBezTo>
                  <a:pt x="11605" y="10816"/>
                  <a:pt x="11575" y="10809"/>
                  <a:pt x="11609" y="10592"/>
                </a:cubicBezTo>
                <a:cubicBezTo>
                  <a:pt x="11539" y="10638"/>
                  <a:pt x="11666" y="10782"/>
                  <a:pt x="11733" y="10815"/>
                </a:cubicBezTo>
                <a:cubicBezTo>
                  <a:pt x="11817" y="10815"/>
                  <a:pt x="11849" y="10808"/>
                  <a:pt x="11881" y="10740"/>
                </a:cubicBezTo>
              </a:path>
              <a:path w="3052" h="919">
                <a:moveTo>
                  <a:pt x="11708" y="10616"/>
                </a:moveTo>
                <a:cubicBezTo>
                  <a:pt x="11872" y="10530"/>
                  <a:pt x="12027" y="10490"/>
                  <a:pt x="12204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25760" y="4224240"/>
            <a:ext cx="3884400" cy="249480"/>
          </a:xfrm>
          <a:custGeom>
            <a:avLst/>
            <a:gdLst/>
            <a:ahLst/>
            <a:rect l="l" t="t" r="r" b="b"/>
            <a:pathLst>
              <a:path w="10791" h="695">
                <a:moveTo>
                  <a:pt x="4514" y="11807"/>
                </a:moveTo>
                <a:cubicBezTo>
                  <a:pt x="4658" y="11843"/>
                  <a:pt x="4641" y="12117"/>
                  <a:pt x="4663" y="12229"/>
                </a:cubicBezTo>
                <a:cubicBezTo>
                  <a:pt x="4687" y="12353"/>
                  <a:pt x="4653" y="12398"/>
                  <a:pt x="4738" y="12378"/>
                </a:cubicBezTo>
              </a:path>
              <a:path w="10791" h="695">
                <a:moveTo>
                  <a:pt x="5110" y="12179"/>
                </a:moveTo>
                <a:cubicBezTo>
                  <a:pt x="5088" y="12223"/>
                  <a:pt x="5085" y="12235"/>
                  <a:pt x="5060" y="12254"/>
                </a:cubicBezTo>
                <a:cubicBezTo>
                  <a:pt x="5112" y="12267"/>
                  <a:pt x="5228" y="12216"/>
                  <a:pt x="5159" y="12204"/>
                </a:cubicBezTo>
                <a:cubicBezTo>
                  <a:pt x="5143" y="12204"/>
                  <a:pt x="5126" y="12204"/>
                  <a:pt x="5110" y="12204"/>
                </a:cubicBezTo>
              </a:path>
              <a:path w="10791" h="695">
                <a:moveTo>
                  <a:pt x="5507" y="11881"/>
                </a:moveTo>
                <a:cubicBezTo>
                  <a:pt x="5566" y="11829"/>
                  <a:pt x="5787" y="11711"/>
                  <a:pt x="5804" y="11881"/>
                </a:cubicBezTo>
                <a:cubicBezTo>
                  <a:pt x="5813" y="11968"/>
                  <a:pt x="5766" y="12006"/>
                  <a:pt x="5705" y="12030"/>
                </a:cubicBezTo>
                <a:cubicBezTo>
                  <a:pt x="5799" y="12016"/>
                  <a:pt x="6042" y="11980"/>
                  <a:pt x="5978" y="12179"/>
                </a:cubicBezTo>
                <a:cubicBezTo>
                  <a:pt x="5912" y="12385"/>
                  <a:pt x="5648" y="12371"/>
                  <a:pt x="5556" y="12278"/>
                </a:cubicBezTo>
              </a:path>
              <a:path w="10791" h="695">
                <a:moveTo>
                  <a:pt x="6052" y="11832"/>
                </a:moveTo>
                <a:cubicBezTo>
                  <a:pt x="6144" y="11810"/>
                  <a:pt x="6557" y="11696"/>
                  <a:pt x="6400" y="11956"/>
                </a:cubicBezTo>
                <a:cubicBezTo>
                  <a:pt x="6367" y="11989"/>
                  <a:pt x="6333" y="12022"/>
                  <a:pt x="6300" y="12055"/>
                </a:cubicBezTo>
                <a:cubicBezTo>
                  <a:pt x="6284" y="12072"/>
                  <a:pt x="6267" y="12088"/>
                  <a:pt x="6251" y="12105"/>
                </a:cubicBezTo>
                <a:cubicBezTo>
                  <a:pt x="6270" y="11988"/>
                  <a:pt x="6577" y="11897"/>
                  <a:pt x="6697" y="12030"/>
                </a:cubicBezTo>
                <a:cubicBezTo>
                  <a:pt x="6916" y="12273"/>
                  <a:pt x="6298" y="12276"/>
                  <a:pt x="6226" y="12254"/>
                </a:cubicBezTo>
              </a:path>
              <a:path w="10791" h="695">
                <a:moveTo>
                  <a:pt x="6821" y="11832"/>
                </a:moveTo>
                <a:cubicBezTo>
                  <a:pt x="6883" y="11809"/>
                  <a:pt x="7126" y="11715"/>
                  <a:pt x="7069" y="11881"/>
                </a:cubicBezTo>
                <a:cubicBezTo>
                  <a:pt x="7032" y="11989"/>
                  <a:pt x="6947" y="12028"/>
                  <a:pt x="6896" y="12105"/>
                </a:cubicBezTo>
                <a:cubicBezTo>
                  <a:pt x="7052" y="12026"/>
                  <a:pt x="7121" y="12023"/>
                  <a:pt x="7293" y="12030"/>
                </a:cubicBezTo>
                <a:cubicBezTo>
                  <a:pt x="7199" y="12259"/>
                  <a:pt x="7134" y="12304"/>
                  <a:pt x="6896" y="12254"/>
                </a:cubicBezTo>
              </a:path>
              <a:path w="10791" h="695">
                <a:moveTo>
                  <a:pt x="7565" y="11807"/>
                </a:moveTo>
                <a:cubicBezTo>
                  <a:pt x="7650" y="11818"/>
                  <a:pt x="7842" y="11787"/>
                  <a:pt x="7813" y="11906"/>
                </a:cubicBezTo>
                <a:cubicBezTo>
                  <a:pt x="7755" y="11995"/>
                  <a:pt x="7727" y="12032"/>
                  <a:pt x="7665" y="12080"/>
                </a:cubicBezTo>
                <a:cubicBezTo>
                  <a:pt x="7648" y="12088"/>
                  <a:pt x="7632" y="12097"/>
                  <a:pt x="7615" y="12105"/>
                </a:cubicBezTo>
                <a:cubicBezTo>
                  <a:pt x="7752" y="12071"/>
                  <a:pt x="7822" y="12044"/>
                  <a:pt x="7962" y="12080"/>
                </a:cubicBezTo>
                <a:cubicBezTo>
                  <a:pt x="7826" y="12216"/>
                  <a:pt x="7750" y="12251"/>
                  <a:pt x="7565" y="12303"/>
                </a:cubicBezTo>
              </a:path>
              <a:path w="10791" h="695">
                <a:moveTo>
                  <a:pt x="8037" y="11832"/>
                </a:moveTo>
                <a:cubicBezTo>
                  <a:pt x="8118" y="11818"/>
                  <a:pt x="8471" y="11742"/>
                  <a:pt x="8409" y="11931"/>
                </a:cubicBezTo>
                <a:cubicBezTo>
                  <a:pt x="8337" y="12026"/>
                  <a:pt x="8316" y="12057"/>
                  <a:pt x="8235" y="12080"/>
                </a:cubicBezTo>
                <a:cubicBezTo>
                  <a:pt x="8362" y="12052"/>
                  <a:pt x="8429" y="12041"/>
                  <a:pt x="8558" y="12030"/>
                </a:cubicBezTo>
                <a:cubicBezTo>
                  <a:pt x="8557" y="12147"/>
                  <a:pt x="8406" y="12470"/>
                  <a:pt x="8210" y="12328"/>
                </a:cubicBezTo>
                <a:cubicBezTo>
                  <a:pt x="8202" y="12287"/>
                  <a:pt x="8194" y="12245"/>
                  <a:pt x="8186" y="12204"/>
                </a:cubicBezTo>
              </a:path>
              <a:path w="10791" h="695">
                <a:moveTo>
                  <a:pt x="8731" y="11832"/>
                </a:moveTo>
                <a:cubicBezTo>
                  <a:pt x="8850" y="11817"/>
                  <a:pt x="8944" y="11795"/>
                  <a:pt x="9054" y="11832"/>
                </a:cubicBezTo>
                <a:cubicBezTo>
                  <a:pt x="9000" y="11897"/>
                  <a:pt x="8873" y="11967"/>
                  <a:pt x="8905" y="12030"/>
                </a:cubicBezTo>
                <a:cubicBezTo>
                  <a:pt x="8986" y="12030"/>
                  <a:pt x="9060" y="12029"/>
                  <a:pt x="9128" y="12055"/>
                </a:cubicBezTo>
                <a:cubicBezTo>
                  <a:pt x="9034" y="12183"/>
                  <a:pt x="8880" y="12449"/>
                  <a:pt x="8880" y="12179"/>
                </a:cubicBezTo>
              </a:path>
              <a:path w="10791" h="695">
                <a:moveTo>
                  <a:pt x="9426" y="11807"/>
                </a:moveTo>
                <a:cubicBezTo>
                  <a:pt x="9471" y="11770"/>
                  <a:pt x="9750" y="11668"/>
                  <a:pt x="9823" y="11757"/>
                </a:cubicBezTo>
                <a:cubicBezTo>
                  <a:pt x="9879" y="11825"/>
                  <a:pt x="9617" y="12014"/>
                  <a:pt x="9599" y="12030"/>
                </a:cubicBezTo>
                <a:cubicBezTo>
                  <a:pt x="9620" y="12040"/>
                  <a:pt x="9943" y="11977"/>
                  <a:pt x="9947" y="12080"/>
                </a:cubicBezTo>
                <a:cubicBezTo>
                  <a:pt x="9953" y="12258"/>
                  <a:pt x="9572" y="12328"/>
                  <a:pt x="9475" y="12328"/>
                </a:cubicBezTo>
              </a:path>
              <a:path w="10791" h="695">
                <a:moveTo>
                  <a:pt x="9971" y="11857"/>
                </a:moveTo>
                <a:cubicBezTo>
                  <a:pt x="10045" y="11852"/>
                  <a:pt x="10415" y="11762"/>
                  <a:pt x="10443" y="11881"/>
                </a:cubicBezTo>
                <a:cubicBezTo>
                  <a:pt x="10380" y="11975"/>
                  <a:pt x="10346" y="12014"/>
                  <a:pt x="10269" y="12055"/>
                </a:cubicBezTo>
                <a:cubicBezTo>
                  <a:pt x="10253" y="12063"/>
                  <a:pt x="10236" y="12072"/>
                  <a:pt x="10220" y="12080"/>
                </a:cubicBezTo>
                <a:cubicBezTo>
                  <a:pt x="10399" y="12044"/>
                  <a:pt x="10475" y="12004"/>
                  <a:pt x="10616" y="12105"/>
                </a:cubicBezTo>
                <a:cubicBezTo>
                  <a:pt x="10447" y="12275"/>
                  <a:pt x="10296" y="12464"/>
                  <a:pt x="10195" y="12229"/>
                </a:cubicBezTo>
              </a:path>
              <a:path w="10791" h="695">
                <a:moveTo>
                  <a:pt x="10716" y="11906"/>
                </a:moveTo>
                <a:cubicBezTo>
                  <a:pt x="10850" y="11876"/>
                  <a:pt x="11078" y="11739"/>
                  <a:pt x="11212" y="11832"/>
                </a:cubicBezTo>
                <a:cubicBezTo>
                  <a:pt x="11305" y="11896"/>
                  <a:pt x="11007" y="12056"/>
                  <a:pt x="10988" y="12080"/>
                </a:cubicBezTo>
                <a:cubicBezTo>
                  <a:pt x="11109" y="12080"/>
                  <a:pt x="11217" y="12088"/>
                  <a:pt x="11336" y="12105"/>
                </a:cubicBezTo>
                <a:cubicBezTo>
                  <a:pt x="11322" y="12148"/>
                  <a:pt x="11085" y="12437"/>
                  <a:pt x="11013" y="12303"/>
                </a:cubicBezTo>
                <a:cubicBezTo>
                  <a:pt x="11030" y="12278"/>
                  <a:pt x="11046" y="12254"/>
                  <a:pt x="11063" y="12229"/>
                </a:cubicBezTo>
              </a:path>
              <a:path w="10791" h="695">
                <a:moveTo>
                  <a:pt x="11633" y="11931"/>
                </a:moveTo>
                <a:cubicBezTo>
                  <a:pt x="11749" y="11908"/>
                  <a:pt x="12021" y="11807"/>
                  <a:pt x="11956" y="11906"/>
                </a:cubicBezTo>
                <a:cubicBezTo>
                  <a:pt x="11861" y="12001"/>
                  <a:pt x="11832" y="12031"/>
                  <a:pt x="11757" y="12080"/>
                </a:cubicBezTo>
                <a:cubicBezTo>
                  <a:pt x="11803" y="12094"/>
                  <a:pt x="12203" y="12078"/>
                  <a:pt x="12080" y="12229"/>
                </a:cubicBezTo>
                <a:cubicBezTo>
                  <a:pt x="12001" y="12327"/>
                  <a:pt x="11856" y="12309"/>
                  <a:pt x="11757" y="12303"/>
                </a:cubicBezTo>
              </a:path>
              <a:path w="10791" h="695">
                <a:moveTo>
                  <a:pt x="12254" y="11906"/>
                </a:moveTo>
                <a:cubicBezTo>
                  <a:pt x="12343" y="11896"/>
                  <a:pt x="12525" y="11830"/>
                  <a:pt x="12601" y="11881"/>
                </a:cubicBezTo>
                <a:cubicBezTo>
                  <a:pt x="12662" y="11922"/>
                  <a:pt x="12466" y="12045"/>
                  <a:pt x="12427" y="12080"/>
                </a:cubicBezTo>
                <a:cubicBezTo>
                  <a:pt x="12563" y="12080"/>
                  <a:pt x="12667" y="12090"/>
                  <a:pt x="12799" y="12105"/>
                </a:cubicBezTo>
                <a:cubicBezTo>
                  <a:pt x="12729" y="12255"/>
                  <a:pt x="12628" y="12318"/>
                  <a:pt x="12452" y="12303"/>
                </a:cubicBezTo>
              </a:path>
              <a:path w="10791" h="695">
                <a:moveTo>
                  <a:pt x="12973" y="11931"/>
                </a:moveTo>
                <a:cubicBezTo>
                  <a:pt x="13016" y="11917"/>
                  <a:pt x="13462" y="11773"/>
                  <a:pt x="13395" y="11906"/>
                </a:cubicBezTo>
                <a:cubicBezTo>
                  <a:pt x="13294" y="12006"/>
                  <a:pt x="13259" y="12040"/>
                  <a:pt x="13171" y="12080"/>
                </a:cubicBezTo>
                <a:cubicBezTo>
                  <a:pt x="13163" y="12088"/>
                  <a:pt x="13154" y="12097"/>
                  <a:pt x="13146" y="12105"/>
                </a:cubicBezTo>
                <a:cubicBezTo>
                  <a:pt x="13235" y="12091"/>
                  <a:pt x="13682" y="12032"/>
                  <a:pt x="13444" y="12229"/>
                </a:cubicBezTo>
                <a:cubicBezTo>
                  <a:pt x="13307" y="12342"/>
                  <a:pt x="13230" y="12337"/>
                  <a:pt x="13146" y="12254"/>
                </a:cubicBezTo>
              </a:path>
              <a:path w="10791" h="695">
                <a:moveTo>
                  <a:pt x="13618" y="11956"/>
                </a:moveTo>
                <a:cubicBezTo>
                  <a:pt x="13644" y="11929"/>
                  <a:pt x="13933" y="11866"/>
                  <a:pt x="14064" y="11881"/>
                </a:cubicBezTo>
                <a:cubicBezTo>
                  <a:pt x="14086" y="11883"/>
                  <a:pt x="13803" y="12085"/>
                  <a:pt x="13767" y="12105"/>
                </a:cubicBezTo>
                <a:cubicBezTo>
                  <a:pt x="13993" y="12091"/>
                  <a:pt x="14139" y="12045"/>
                  <a:pt x="14288" y="12179"/>
                </a:cubicBezTo>
                <a:cubicBezTo>
                  <a:pt x="14114" y="12289"/>
                  <a:pt x="13866" y="12484"/>
                  <a:pt x="13940" y="12204"/>
                </a:cubicBezTo>
              </a:path>
              <a:path w="10791" h="695">
                <a:moveTo>
                  <a:pt x="14585" y="11906"/>
                </a:moveTo>
                <a:cubicBezTo>
                  <a:pt x="14747" y="11888"/>
                  <a:pt x="14913" y="11837"/>
                  <a:pt x="15081" y="11857"/>
                </a:cubicBezTo>
                <a:cubicBezTo>
                  <a:pt x="15172" y="11868"/>
                  <a:pt x="14822" y="12064"/>
                  <a:pt x="14784" y="12080"/>
                </a:cubicBezTo>
                <a:cubicBezTo>
                  <a:pt x="14860" y="12068"/>
                  <a:pt x="15269" y="11935"/>
                  <a:pt x="15304" y="12080"/>
                </a:cubicBezTo>
                <a:cubicBezTo>
                  <a:pt x="15317" y="12135"/>
                  <a:pt x="15075" y="12251"/>
                  <a:pt x="15032" y="12278"/>
                </a:cubicBezTo>
                <a:cubicBezTo>
                  <a:pt x="15141" y="12278"/>
                  <a:pt x="15328" y="12229"/>
                  <a:pt x="15205" y="12328"/>
                </a:cubicBezTo>
                <a:cubicBezTo>
                  <a:pt x="15083" y="12425"/>
                  <a:pt x="15044" y="12459"/>
                  <a:pt x="14932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3280" y="4241880"/>
            <a:ext cx="26856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16396" y="11981"/>
                </a:moveTo>
                <a:cubicBezTo>
                  <a:pt x="16351" y="11801"/>
                  <a:pt x="16188" y="12093"/>
                  <a:pt x="16173" y="12129"/>
                </a:cubicBezTo>
                <a:cubicBezTo>
                  <a:pt x="16165" y="12171"/>
                  <a:pt x="16156" y="12212"/>
                  <a:pt x="16148" y="12254"/>
                </a:cubicBezTo>
                <a:cubicBezTo>
                  <a:pt x="16295" y="12294"/>
                  <a:pt x="16576" y="12313"/>
                  <a:pt x="16470" y="12055"/>
                </a:cubicBezTo>
                <a:cubicBezTo>
                  <a:pt x="16402" y="11987"/>
                  <a:pt x="16385" y="11965"/>
                  <a:pt x="16321" y="11956"/>
                </a:cubicBezTo>
              </a:path>
              <a:path w="745" h="522">
                <a:moveTo>
                  <a:pt x="16619" y="12105"/>
                </a:moveTo>
                <a:cubicBezTo>
                  <a:pt x="16666" y="12151"/>
                  <a:pt x="16684" y="12163"/>
                  <a:pt x="16644" y="12204"/>
                </a:cubicBezTo>
                <a:cubicBezTo>
                  <a:pt x="16626" y="12023"/>
                  <a:pt x="16614" y="11919"/>
                  <a:pt x="16793" y="11807"/>
                </a:cubicBezTo>
                <a:cubicBezTo>
                  <a:pt x="16826" y="11799"/>
                  <a:pt x="16859" y="11790"/>
                  <a:pt x="16892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3160" y="4010040"/>
            <a:ext cx="704880" cy="365040"/>
          </a:xfrm>
          <a:custGeom>
            <a:avLst/>
            <a:gdLst/>
            <a:ahLst/>
            <a:rect l="l" t="t" r="r" b="b"/>
            <a:pathLst>
              <a:path w="1961" h="1018">
                <a:moveTo>
                  <a:pt x="18479" y="11509"/>
                </a:moveTo>
                <a:cubicBezTo>
                  <a:pt x="18596" y="11579"/>
                  <a:pt x="18649" y="11889"/>
                  <a:pt x="18678" y="12030"/>
                </a:cubicBezTo>
                <a:cubicBezTo>
                  <a:pt x="18678" y="12108"/>
                  <a:pt x="18663" y="12126"/>
                  <a:pt x="18703" y="12154"/>
                </a:cubicBezTo>
              </a:path>
              <a:path w="1961" h="1018">
                <a:moveTo>
                  <a:pt x="19025" y="11931"/>
                </a:moveTo>
                <a:cubicBezTo>
                  <a:pt x="18996" y="11959"/>
                  <a:pt x="19000" y="11996"/>
                  <a:pt x="19000" y="12055"/>
                </a:cubicBezTo>
                <a:cubicBezTo>
                  <a:pt x="19054" y="12055"/>
                  <a:pt x="19121" y="11966"/>
                  <a:pt x="19050" y="11956"/>
                </a:cubicBezTo>
                <a:cubicBezTo>
                  <a:pt x="19025" y="11953"/>
                  <a:pt x="18995" y="11991"/>
                  <a:pt x="19025" y="12005"/>
                </a:cubicBezTo>
              </a:path>
              <a:path w="1961" h="1018">
                <a:moveTo>
                  <a:pt x="19397" y="11584"/>
                </a:moveTo>
                <a:cubicBezTo>
                  <a:pt x="19330" y="11584"/>
                  <a:pt x="19601" y="11532"/>
                  <a:pt x="19621" y="11534"/>
                </a:cubicBezTo>
                <a:cubicBezTo>
                  <a:pt x="19854" y="11554"/>
                  <a:pt x="19570" y="11768"/>
                  <a:pt x="19521" y="11807"/>
                </a:cubicBezTo>
                <a:cubicBezTo>
                  <a:pt x="19513" y="11807"/>
                  <a:pt x="19504" y="11807"/>
                  <a:pt x="19496" y="11807"/>
                </a:cubicBezTo>
                <a:cubicBezTo>
                  <a:pt x="19647" y="11740"/>
                  <a:pt x="19662" y="11774"/>
                  <a:pt x="19819" y="11807"/>
                </a:cubicBezTo>
                <a:cubicBezTo>
                  <a:pt x="19819" y="11978"/>
                  <a:pt x="19750" y="12151"/>
                  <a:pt x="19521" y="12105"/>
                </a:cubicBezTo>
                <a:cubicBezTo>
                  <a:pt x="19496" y="12088"/>
                  <a:pt x="19472" y="12072"/>
                  <a:pt x="19447" y="12055"/>
                </a:cubicBezTo>
              </a:path>
              <a:path w="1961" h="1018">
                <a:moveTo>
                  <a:pt x="20017" y="11534"/>
                </a:moveTo>
                <a:cubicBezTo>
                  <a:pt x="20139" y="11447"/>
                  <a:pt x="20193" y="11443"/>
                  <a:pt x="20315" y="11509"/>
                </a:cubicBezTo>
                <a:cubicBezTo>
                  <a:pt x="20266" y="11600"/>
                  <a:pt x="20207" y="11672"/>
                  <a:pt x="20141" y="11757"/>
                </a:cubicBezTo>
                <a:cubicBezTo>
                  <a:pt x="20246" y="11737"/>
                  <a:pt x="20357" y="11647"/>
                  <a:pt x="20439" y="11782"/>
                </a:cubicBezTo>
                <a:cubicBezTo>
                  <a:pt x="20439" y="11815"/>
                  <a:pt x="20439" y="11848"/>
                  <a:pt x="20439" y="11881"/>
                </a:cubicBezTo>
                <a:cubicBezTo>
                  <a:pt x="20367" y="11973"/>
                  <a:pt x="20111" y="12174"/>
                  <a:pt x="19993" y="11981"/>
                </a:cubicBezTo>
                <a:cubicBezTo>
                  <a:pt x="19993" y="11940"/>
                  <a:pt x="19993" y="11898"/>
                  <a:pt x="19993" y="11857"/>
                </a:cubicBezTo>
              </a:path>
              <a:path w="1961" h="1018">
                <a:moveTo>
                  <a:pt x="19968" y="11187"/>
                </a:moveTo>
                <a:cubicBezTo>
                  <a:pt x="20026" y="11181"/>
                  <a:pt x="20247" y="11121"/>
                  <a:pt x="20216" y="11137"/>
                </a:cubicBezTo>
                <a:cubicBezTo>
                  <a:pt x="20150" y="11170"/>
                  <a:pt x="19913" y="11219"/>
                  <a:pt x="19943" y="11212"/>
                </a:cubicBezTo>
                <a:cubicBezTo>
                  <a:pt x="19976" y="11204"/>
                  <a:pt x="20009" y="11195"/>
                  <a:pt x="20042" y="11187"/>
                </a:cubicBezTo>
                <a:cubicBezTo>
                  <a:pt x="20209" y="11155"/>
                  <a:pt x="20224" y="11142"/>
                  <a:pt x="20067" y="11187"/>
                </a:cubicBezTo>
                <a:cubicBezTo>
                  <a:pt x="20042" y="11195"/>
                  <a:pt x="20018" y="11204"/>
                  <a:pt x="19993" y="11212"/>
                </a:cubicBezTo>
                <a:cubicBezTo>
                  <a:pt x="20079" y="11177"/>
                  <a:pt x="20191" y="11112"/>
                  <a:pt x="20067" y="11212"/>
                </a:cubicBezTo>
              </a:path>
              <a:path w="1961" h="1018">
                <a:moveTo>
                  <a:pt x="19844" y="11311"/>
                </a:moveTo>
                <a:cubicBezTo>
                  <a:pt x="19878" y="11300"/>
                  <a:pt x="19874" y="11276"/>
                  <a:pt x="19918" y="11261"/>
                </a:cubicBezTo>
                <a:cubicBezTo>
                  <a:pt x="19960" y="11247"/>
                  <a:pt x="19994" y="11231"/>
                  <a:pt x="20042" y="11212"/>
                </a:cubicBezTo>
                <a:cubicBezTo>
                  <a:pt x="20103" y="11212"/>
                  <a:pt x="19972" y="11212"/>
                  <a:pt x="19943" y="11212"/>
                </a:cubicBezTo>
                <a:cubicBezTo>
                  <a:pt x="19870" y="11212"/>
                  <a:pt x="20108" y="11237"/>
                  <a:pt x="20117" y="11237"/>
                </a:cubicBezTo>
                <a:cubicBezTo>
                  <a:pt x="20218" y="11240"/>
                  <a:pt x="20393" y="11261"/>
                  <a:pt x="20166" y="11261"/>
                </a:cubicBezTo>
                <a:cubicBezTo>
                  <a:pt x="20111" y="11303"/>
                  <a:pt x="20247" y="11378"/>
                  <a:pt x="20265" y="11311"/>
                </a:cubicBezTo>
                <a:cubicBezTo>
                  <a:pt x="20280" y="11254"/>
                  <a:pt x="20047" y="11261"/>
                  <a:pt x="20117" y="11261"/>
                </a:cubicBezTo>
                <a:cubicBezTo>
                  <a:pt x="20155" y="11261"/>
                  <a:pt x="20267" y="11249"/>
                  <a:pt x="20216" y="11237"/>
                </a:cubicBezTo>
                <a:cubicBezTo>
                  <a:pt x="20075" y="11205"/>
                  <a:pt x="20071" y="11246"/>
                  <a:pt x="20191" y="11212"/>
                </a:cubicBezTo>
                <a:cubicBezTo>
                  <a:pt x="20303" y="11180"/>
                  <a:pt x="20430" y="11125"/>
                  <a:pt x="20191" y="11187"/>
                </a:cubicBezTo>
                <a:cubicBezTo>
                  <a:pt x="20134" y="11206"/>
                  <a:pt x="20091" y="11215"/>
                  <a:pt x="20141" y="11212"/>
                </a:cubicBezTo>
                <a:cubicBezTo>
                  <a:pt x="20208" y="11206"/>
                  <a:pt x="20408" y="11155"/>
                  <a:pt x="20389" y="11162"/>
                </a:cubicBezTo>
                <a:cubicBezTo>
                  <a:pt x="20340" y="11181"/>
                  <a:pt x="20112" y="11261"/>
                  <a:pt x="20141" y="11261"/>
                </a:cubicBezTo>
                <a:cubicBezTo>
                  <a:pt x="20228" y="11261"/>
                  <a:pt x="20263" y="11256"/>
                  <a:pt x="20315" y="11212"/>
                </a:cubicBezTo>
                <a:cubicBezTo>
                  <a:pt x="20332" y="11212"/>
                  <a:pt x="20348" y="11212"/>
                  <a:pt x="20365" y="11212"/>
                </a:cubicBezTo>
                <a:cubicBezTo>
                  <a:pt x="20262" y="11225"/>
                  <a:pt x="19981" y="11228"/>
                  <a:pt x="20067" y="11286"/>
                </a:cubicBezTo>
                <a:cubicBezTo>
                  <a:pt x="20099" y="11308"/>
                  <a:pt x="20367" y="11234"/>
                  <a:pt x="20290" y="11261"/>
                </a:cubicBezTo>
                <a:cubicBezTo>
                  <a:pt x="20202" y="11292"/>
                  <a:pt x="20107" y="11308"/>
                  <a:pt x="20017" y="11336"/>
                </a:cubicBezTo>
                <a:cubicBezTo>
                  <a:pt x="20107" y="11336"/>
                  <a:pt x="20179" y="11305"/>
                  <a:pt x="20265" y="11286"/>
                </a:cubicBezTo>
                <a:cubicBezTo>
                  <a:pt x="20273" y="11286"/>
                  <a:pt x="20282" y="11286"/>
                  <a:pt x="2029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04120" y="133992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23564" y="4217"/>
                </a:moveTo>
                <a:cubicBezTo>
                  <a:pt x="23513" y="4243"/>
                  <a:pt x="23513" y="4277"/>
                  <a:pt x="23490" y="4341"/>
                </a:cubicBezTo>
                <a:cubicBezTo>
                  <a:pt x="23538" y="4346"/>
                  <a:pt x="23666" y="4288"/>
                  <a:pt x="23589" y="4266"/>
                </a:cubicBezTo>
                <a:cubicBezTo>
                  <a:pt x="23544" y="4253"/>
                  <a:pt x="23565" y="4283"/>
                  <a:pt x="23589" y="4291"/>
                </a:cubicBezTo>
              </a:path>
              <a:path w="1291" h="646">
                <a:moveTo>
                  <a:pt x="23763" y="3870"/>
                </a:moveTo>
                <a:cubicBezTo>
                  <a:pt x="23847" y="3766"/>
                  <a:pt x="23835" y="3760"/>
                  <a:pt x="23961" y="3770"/>
                </a:cubicBezTo>
                <a:cubicBezTo>
                  <a:pt x="23989" y="3909"/>
                  <a:pt x="23930" y="3941"/>
                  <a:pt x="23862" y="4043"/>
                </a:cubicBezTo>
                <a:cubicBezTo>
                  <a:pt x="23842" y="4073"/>
                  <a:pt x="23862" y="4056"/>
                  <a:pt x="23862" y="4018"/>
                </a:cubicBezTo>
                <a:cubicBezTo>
                  <a:pt x="23967" y="4003"/>
                  <a:pt x="24154" y="4016"/>
                  <a:pt x="24085" y="4192"/>
                </a:cubicBezTo>
                <a:cubicBezTo>
                  <a:pt x="24060" y="4255"/>
                  <a:pt x="23829" y="4436"/>
                  <a:pt x="23763" y="4341"/>
                </a:cubicBezTo>
                <a:cubicBezTo>
                  <a:pt x="23763" y="4324"/>
                  <a:pt x="23763" y="4308"/>
                  <a:pt x="23763" y="4291"/>
                </a:cubicBezTo>
              </a:path>
              <a:path w="1291" h="646">
                <a:moveTo>
                  <a:pt x="24135" y="3721"/>
                </a:moveTo>
                <a:cubicBezTo>
                  <a:pt x="24135" y="3829"/>
                  <a:pt x="24170" y="4008"/>
                  <a:pt x="24160" y="4093"/>
                </a:cubicBezTo>
                <a:cubicBezTo>
                  <a:pt x="24138" y="4136"/>
                  <a:pt x="24134" y="4148"/>
                  <a:pt x="24110" y="4167"/>
                </a:cubicBezTo>
                <a:cubicBezTo>
                  <a:pt x="24182" y="4167"/>
                  <a:pt x="24222" y="4153"/>
                  <a:pt x="24284" y="4118"/>
                </a:cubicBezTo>
                <a:cubicBezTo>
                  <a:pt x="24341" y="4086"/>
                  <a:pt x="24344" y="4061"/>
                  <a:pt x="24358" y="3994"/>
                </a:cubicBezTo>
                <a:cubicBezTo>
                  <a:pt x="24332" y="3987"/>
                  <a:pt x="24267" y="3942"/>
                  <a:pt x="24234" y="3969"/>
                </a:cubicBezTo>
                <a:cubicBezTo>
                  <a:pt x="24206" y="3992"/>
                  <a:pt x="24155" y="4111"/>
                  <a:pt x="24160" y="4142"/>
                </a:cubicBezTo>
                <a:cubicBezTo>
                  <a:pt x="24183" y="4165"/>
                  <a:pt x="24191" y="4169"/>
                  <a:pt x="24185" y="4192"/>
                </a:cubicBezTo>
              </a:path>
              <a:path w="1291" h="646">
                <a:moveTo>
                  <a:pt x="23267" y="3919"/>
                </a:moveTo>
                <a:cubicBezTo>
                  <a:pt x="23219" y="3938"/>
                  <a:pt x="23161" y="3979"/>
                  <a:pt x="23118" y="4018"/>
                </a:cubicBezTo>
                <a:cubicBezTo>
                  <a:pt x="23084" y="4048"/>
                  <a:pt x="23071" y="4145"/>
                  <a:pt x="23068" y="4192"/>
                </a:cubicBezTo>
                <a:cubicBezTo>
                  <a:pt x="23064" y="4246"/>
                  <a:pt x="23062" y="4295"/>
                  <a:pt x="23093" y="4341"/>
                </a:cubicBezTo>
                <a:cubicBezTo>
                  <a:pt x="23111" y="4368"/>
                  <a:pt x="23161" y="4377"/>
                  <a:pt x="23192" y="4366"/>
                </a:cubicBezTo>
                <a:cubicBezTo>
                  <a:pt x="23293" y="4330"/>
                  <a:pt x="23291" y="4320"/>
                  <a:pt x="23341" y="4242"/>
                </a:cubicBezTo>
                <a:cubicBezTo>
                  <a:pt x="23365" y="4204"/>
                  <a:pt x="23388" y="4168"/>
                  <a:pt x="23391" y="4118"/>
                </a:cubicBezTo>
                <a:cubicBezTo>
                  <a:pt x="23396" y="4039"/>
                  <a:pt x="23372" y="4066"/>
                  <a:pt x="23366" y="4018"/>
                </a:cubicBezTo>
                <a:cubicBezTo>
                  <a:pt x="23361" y="3977"/>
                  <a:pt x="23334" y="3949"/>
                  <a:pt x="23292" y="3944"/>
                </a:cubicBezTo>
                <a:cubicBezTo>
                  <a:pt x="23267" y="3944"/>
                  <a:pt x="23259" y="3944"/>
                  <a:pt x="23242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8880" y="4822920"/>
            <a:ext cx="1535040" cy="1187280"/>
          </a:xfrm>
          <a:custGeom>
            <a:avLst/>
            <a:gdLst/>
            <a:ahLst/>
            <a:rect l="l" t="t" r="r" b="b"/>
            <a:pathLst>
              <a:path w="4267" h="3300">
                <a:moveTo>
                  <a:pt x="16123" y="13395"/>
                </a:moveTo>
                <a:lnTo>
                  <a:pt x="16123" y="13395"/>
                </a:lnTo>
              </a:path>
              <a:path w="4267" h="3300">
                <a:moveTo>
                  <a:pt x="11857" y="16694"/>
                </a:moveTo>
                <a:lnTo>
                  <a:pt x="11857" y="166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8040" y="5946840"/>
            <a:ext cx="536760" cy="108000"/>
          </a:xfrm>
          <a:custGeom>
            <a:avLst/>
            <a:gdLst/>
            <a:ahLst/>
            <a:rect l="l" t="t" r="r" b="b"/>
            <a:pathLst>
              <a:path w="1489" h="299">
                <a:moveTo>
                  <a:pt x="10691" y="16743"/>
                </a:moveTo>
                <a:cubicBezTo>
                  <a:pt x="10739" y="16719"/>
                  <a:pt x="10827" y="16725"/>
                  <a:pt x="10914" y="16718"/>
                </a:cubicBezTo>
                <a:cubicBezTo>
                  <a:pt x="11191" y="16695"/>
                  <a:pt x="11461" y="16644"/>
                  <a:pt x="11733" y="16594"/>
                </a:cubicBezTo>
                <a:cubicBezTo>
                  <a:pt x="11862" y="16570"/>
                  <a:pt x="11999" y="16527"/>
                  <a:pt x="12129" y="16520"/>
                </a:cubicBezTo>
                <a:cubicBezTo>
                  <a:pt x="12154" y="16520"/>
                  <a:pt x="12162" y="16520"/>
                  <a:pt x="12179" y="16520"/>
                </a:cubicBezTo>
                <a:cubicBezTo>
                  <a:pt x="12021" y="16580"/>
                  <a:pt x="11881" y="16617"/>
                  <a:pt x="11708" y="16644"/>
                </a:cubicBezTo>
                <a:cubicBezTo>
                  <a:pt x="11485" y="16678"/>
                  <a:pt x="11260" y="16703"/>
                  <a:pt x="11038" y="16743"/>
                </a:cubicBezTo>
                <a:cubicBezTo>
                  <a:pt x="10955" y="16758"/>
                  <a:pt x="10930" y="16762"/>
                  <a:pt x="10864" y="16768"/>
                </a:cubicBezTo>
                <a:cubicBezTo>
                  <a:pt x="11047" y="16759"/>
                  <a:pt x="11228" y="16738"/>
                  <a:pt x="11410" y="16718"/>
                </a:cubicBezTo>
                <a:cubicBezTo>
                  <a:pt x="11656" y="16692"/>
                  <a:pt x="11887" y="16693"/>
                  <a:pt x="12129" y="16718"/>
                </a:cubicBezTo>
                <a:cubicBezTo>
                  <a:pt x="12146" y="16718"/>
                  <a:pt x="12162" y="16718"/>
                  <a:pt x="12179" y="16718"/>
                </a:cubicBezTo>
                <a:cubicBezTo>
                  <a:pt x="11954" y="16718"/>
                  <a:pt x="11733" y="16734"/>
                  <a:pt x="11509" y="16743"/>
                </a:cubicBezTo>
                <a:cubicBezTo>
                  <a:pt x="11288" y="16752"/>
                  <a:pt x="11053" y="16713"/>
                  <a:pt x="10840" y="16793"/>
                </a:cubicBezTo>
                <a:cubicBezTo>
                  <a:pt x="10832" y="16801"/>
                  <a:pt x="10823" y="16810"/>
                  <a:pt x="10815" y="16818"/>
                </a:cubicBezTo>
                <a:cubicBezTo>
                  <a:pt x="10986" y="16818"/>
                  <a:pt x="11114" y="16790"/>
                  <a:pt x="11286" y="16768"/>
                </a:cubicBezTo>
                <a:cubicBezTo>
                  <a:pt x="11472" y="16744"/>
                  <a:pt x="11648" y="16711"/>
                  <a:pt x="11832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6010200"/>
            <a:ext cx="330480" cy="44640"/>
          </a:xfrm>
          <a:custGeom>
            <a:avLst/>
            <a:gdLst/>
            <a:ahLst/>
            <a:rect l="l" t="t" r="r" b="b"/>
            <a:pathLst>
              <a:path w="918" h="125">
                <a:moveTo>
                  <a:pt x="16297" y="16793"/>
                </a:moveTo>
                <a:cubicBezTo>
                  <a:pt x="16514" y="16793"/>
                  <a:pt x="16726" y="16778"/>
                  <a:pt x="16942" y="16768"/>
                </a:cubicBezTo>
                <a:cubicBezTo>
                  <a:pt x="17015" y="16765"/>
                  <a:pt x="17353" y="16739"/>
                  <a:pt x="17066" y="16793"/>
                </a:cubicBezTo>
                <a:cubicBezTo>
                  <a:pt x="16900" y="16824"/>
                  <a:pt x="16738" y="16818"/>
                  <a:pt x="16570" y="16818"/>
                </a:cubicBezTo>
                <a:cubicBezTo>
                  <a:pt x="16353" y="16779"/>
                  <a:pt x="16364" y="16825"/>
                  <a:pt x="16594" y="16818"/>
                </a:cubicBezTo>
                <a:cubicBezTo>
                  <a:pt x="16808" y="16812"/>
                  <a:pt x="17017" y="16775"/>
                  <a:pt x="17214" y="16694"/>
                </a:cubicBezTo>
                <a:cubicBezTo>
                  <a:pt x="17032" y="16694"/>
                  <a:pt x="16849" y="16719"/>
                  <a:pt x="16669" y="16743"/>
                </a:cubicBezTo>
                <a:cubicBezTo>
                  <a:pt x="16578" y="16755"/>
                  <a:pt x="16444" y="16835"/>
                  <a:pt x="16520" y="16793"/>
                </a:cubicBezTo>
                <a:cubicBezTo>
                  <a:pt x="16556" y="16773"/>
                  <a:pt x="16584" y="16773"/>
                  <a:pt x="16594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raction to a deci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 it can then be written as a percent)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check to see if th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denominator is a factor of 100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, if it is multiply the numerator and denominator so that the new fraction is “per hundred” </a:t>
            </a:r>
            <a:r>
              <a:rPr b="1" lang="en-US" sz="2300" spc="-1" strike="noStrike">
                <a:solidFill>
                  <a:srgbClr val="00cc66"/>
                </a:solidFill>
                <a:latin typeface="Arial"/>
              </a:rPr>
              <a:t>(what are all of the factors of 100?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If that doesn’t work, you’ll need to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divide the numerator by the denominator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, annexing zeros if need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9000" y="3813120"/>
            <a:ext cx="6064200" cy="1973160"/>
          </a:xfrm>
          <a:custGeom>
            <a:avLst/>
            <a:gdLst/>
            <a:ahLst/>
            <a:rect l="l" t="t" r="r" b="b"/>
            <a:pathLst>
              <a:path w="16844" h="5482">
                <a:moveTo>
                  <a:pt x="5234" y="10592"/>
                </a:moveTo>
                <a:cubicBezTo>
                  <a:pt x="5242" y="10592"/>
                  <a:pt x="5251" y="10592"/>
                  <a:pt x="5259" y="10592"/>
                </a:cubicBezTo>
              </a:path>
              <a:path w="16844" h="5482">
                <a:moveTo>
                  <a:pt x="16346" y="11708"/>
                </a:moveTo>
                <a:lnTo>
                  <a:pt x="16346" y="11708"/>
                </a:lnTo>
              </a:path>
              <a:path w="16844" h="5482">
                <a:moveTo>
                  <a:pt x="19496" y="13295"/>
                </a:moveTo>
                <a:cubicBezTo>
                  <a:pt x="19532" y="13261"/>
                  <a:pt x="19554" y="13248"/>
                  <a:pt x="19596" y="13246"/>
                </a:cubicBezTo>
              </a:path>
              <a:path w="16844" h="5482">
                <a:moveTo>
                  <a:pt x="19844" y="13866"/>
                </a:moveTo>
                <a:cubicBezTo>
                  <a:pt x="19852" y="13866"/>
                  <a:pt x="19861" y="13866"/>
                  <a:pt x="19869" y="13866"/>
                </a:cubicBezTo>
              </a:path>
              <a:path w="16844" h="5482">
                <a:moveTo>
                  <a:pt x="3026" y="15701"/>
                </a:moveTo>
                <a:cubicBezTo>
                  <a:pt x="3079" y="15824"/>
                  <a:pt x="3159" y="15952"/>
                  <a:pt x="3200" y="16073"/>
                </a:cubicBezTo>
              </a:path>
              <a:path w="16844" h="5482">
                <a:moveTo>
                  <a:pt x="4142" y="12576"/>
                </a:moveTo>
                <a:lnTo>
                  <a:pt x="4142" y="12576"/>
                </a:lnTo>
                <a:lnTo>
                  <a:pt x="4142" y="1257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7840" y="2214720"/>
            <a:ext cx="2411280" cy="795240"/>
          </a:xfrm>
          <a:custGeom>
            <a:avLst/>
            <a:gdLst/>
            <a:ahLst/>
            <a:rect l="l" t="t" r="r" b="b"/>
            <a:pathLst>
              <a:path w="6698" h="2208">
                <a:moveTo>
                  <a:pt x="1042" y="6747"/>
                </a:moveTo>
                <a:cubicBezTo>
                  <a:pt x="975" y="6747"/>
                  <a:pt x="1264" y="6747"/>
                  <a:pt x="1265" y="6747"/>
                </a:cubicBezTo>
                <a:cubicBezTo>
                  <a:pt x="1373" y="6725"/>
                  <a:pt x="1399" y="6722"/>
                  <a:pt x="1463" y="6697"/>
                </a:cubicBezTo>
                <a:cubicBezTo>
                  <a:pt x="1352" y="6697"/>
                  <a:pt x="1370" y="6811"/>
                  <a:pt x="1339" y="6921"/>
                </a:cubicBezTo>
                <a:cubicBezTo>
                  <a:pt x="1317" y="7001"/>
                  <a:pt x="1290" y="7063"/>
                  <a:pt x="1290" y="7144"/>
                </a:cubicBezTo>
              </a:path>
              <a:path w="6698" h="2208">
                <a:moveTo>
                  <a:pt x="670" y="7392"/>
                </a:moveTo>
                <a:cubicBezTo>
                  <a:pt x="900" y="7343"/>
                  <a:pt x="1132" y="7331"/>
                  <a:pt x="1364" y="7293"/>
                </a:cubicBezTo>
                <a:cubicBezTo>
                  <a:pt x="1465" y="7277"/>
                  <a:pt x="1502" y="7243"/>
                  <a:pt x="1414" y="7243"/>
                </a:cubicBezTo>
              </a:path>
              <a:path w="6698" h="2208">
                <a:moveTo>
                  <a:pt x="620" y="7739"/>
                </a:moveTo>
                <a:cubicBezTo>
                  <a:pt x="649" y="7681"/>
                  <a:pt x="745" y="7632"/>
                  <a:pt x="819" y="7615"/>
                </a:cubicBezTo>
                <a:cubicBezTo>
                  <a:pt x="835" y="7615"/>
                  <a:pt x="852" y="7615"/>
                  <a:pt x="868" y="7615"/>
                </a:cubicBezTo>
                <a:cubicBezTo>
                  <a:pt x="934" y="7729"/>
                  <a:pt x="937" y="7820"/>
                  <a:pt x="868" y="7938"/>
                </a:cubicBezTo>
                <a:cubicBezTo>
                  <a:pt x="802" y="8051"/>
                  <a:pt x="686" y="8118"/>
                  <a:pt x="595" y="8210"/>
                </a:cubicBezTo>
                <a:cubicBezTo>
                  <a:pt x="541" y="8265"/>
                  <a:pt x="522" y="8287"/>
                  <a:pt x="496" y="8334"/>
                </a:cubicBezTo>
                <a:cubicBezTo>
                  <a:pt x="583" y="8337"/>
                  <a:pt x="567" y="8225"/>
                  <a:pt x="645" y="8186"/>
                </a:cubicBezTo>
                <a:cubicBezTo>
                  <a:pt x="747" y="8135"/>
                  <a:pt x="803" y="8163"/>
                  <a:pt x="893" y="8210"/>
                </a:cubicBezTo>
                <a:cubicBezTo>
                  <a:pt x="914" y="8221"/>
                  <a:pt x="986" y="8285"/>
                  <a:pt x="1017" y="8260"/>
                </a:cubicBezTo>
                <a:cubicBezTo>
                  <a:pt x="1042" y="8235"/>
                  <a:pt x="1066" y="8211"/>
                  <a:pt x="1091" y="8186"/>
                </a:cubicBezTo>
              </a:path>
              <a:path w="6698" h="2208">
                <a:moveTo>
                  <a:pt x="1215" y="7665"/>
                </a:moveTo>
                <a:cubicBezTo>
                  <a:pt x="1164" y="7776"/>
                  <a:pt x="1118" y="7911"/>
                  <a:pt x="1166" y="8037"/>
                </a:cubicBezTo>
                <a:cubicBezTo>
                  <a:pt x="1202" y="8130"/>
                  <a:pt x="1237" y="8147"/>
                  <a:pt x="1315" y="8186"/>
                </a:cubicBezTo>
                <a:cubicBezTo>
                  <a:pt x="1355" y="8153"/>
                  <a:pt x="1463" y="8015"/>
                  <a:pt x="1463" y="7938"/>
                </a:cubicBezTo>
                <a:cubicBezTo>
                  <a:pt x="1463" y="7802"/>
                  <a:pt x="1382" y="7776"/>
                  <a:pt x="1290" y="7714"/>
                </a:cubicBezTo>
                <a:cubicBezTo>
                  <a:pt x="1282" y="7706"/>
                  <a:pt x="1273" y="7697"/>
                  <a:pt x="1265" y="7689"/>
                </a:cubicBezTo>
              </a:path>
              <a:path w="6698" h="2208">
                <a:moveTo>
                  <a:pt x="1414" y="7342"/>
                </a:moveTo>
                <a:cubicBezTo>
                  <a:pt x="1439" y="7342"/>
                  <a:pt x="1463" y="7342"/>
                  <a:pt x="1488" y="7342"/>
                </a:cubicBezTo>
                <a:cubicBezTo>
                  <a:pt x="1518" y="7269"/>
                  <a:pt x="1577" y="7232"/>
                  <a:pt x="1662" y="7218"/>
                </a:cubicBezTo>
                <a:cubicBezTo>
                  <a:pt x="1685" y="7214"/>
                  <a:pt x="1713" y="7218"/>
                  <a:pt x="1736" y="7218"/>
                </a:cubicBezTo>
              </a:path>
              <a:path w="6698" h="2208">
                <a:moveTo>
                  <a:pt x="3299" y="7392"/>
                </a:moveTo>
                <a:cubicBezTo>
                  <a:pt x="3322" y="7369"/>
                  <a:pt x="3330" y="7365"/>
                  <a:pt x="3324" y="7342"/>
                </a:cubicBezTo>
                <a:cubicBezTo>
                  <a:pt x="3349" y="7468"/>
                  <a:pt x="3335" y="7556"/>
                  <a:pt x="3324" y="7689"/>
                </a:cubicBezTo>
                <a:cubicBezTo>
                  <a:pt x="3324" y="7714"/>
                  <a:pt x="3324" y="7739"/>
                  <a:pt x="3324" y="7764"/>
                </a:cubicBezTo>
              </a:path>
              <a:path w="6698" h="2208">
                <a:moveTo>
                  <a:pt x="3621" y="7367"/>
                </a:moveTo>
                <a:cubicBezTo>
                  <a:pt x="3587" y="7469"/>
                  <a:pt x="3534" y="7551"/>
                  <a:pt x="3522" y="7665"/>
                </a:cubicBezTo>
                <a:cubicBezTo>
                  <a:pt x="3507" y="7804"/>
                  <a:pt x="3758" y="7630"/>
                  <a:pt x="3770" y="7615"/>
                </a:cubicBezTo>
                <a:cubicBezTo>
                  <a:pt x="3836" y="7532"/>
                  <a:pt x="3773" y="7459"/>
                  <a:pt x="3721" y="7417"/>
                </a:cubicBezTo>
                <a:cubicBezTo>
                  <a:pt x="3698" y="7394"/>
                  <a:pt x="3694" y="7386"/>
                  <a:pt x="3671" y="7392"/>
                </a:cubicBezTo>
              </a:path>
              <a:path w="6698" h="2208">
                <a:moveTo>
                  <a:pt x="4142" y="7268"/>
                </a:moveTo>
                <a:cubicBezTo>
                  <a:pt x="4067" y="7314"/>
                  <a:pt x="3972" y="7437"/>
                  <a:pt x="3969" y="7541"/>
                </a:cubicBezTo>
                <a:cubicBezTo>
                  <a:pt x="3965" y="7661"/>
                  <a:pt x="4108" y="7688"/>
                  <a:pt x="4192" y="7640"/>
                </a:cubicBezTo>
                <a:cubicBezTo>
                  <a:pt x="4302" y="7577"/>
                  <a:pt x="4350" y="7452"/>
                  <a:pt x="4291" y="7342"/>
                </a:cubicBezTo>
                <a:cubicBezTo>
                  <a:pt x="4273" y="7308"/>
                  <a:pt x="4171" y="7257"/>
                  <a:pt x="4142" y="7268"/>
                </a:cubicBezTo>
                <a:cubicBezTo>
                  <a:pt x="4134" y="7276"/>
                  <a:pt x="4126" y="7285"/>
                  <a:pt x="4118" y="7293"/>
                </a:cubicBezTo>
              </a:path>
              <a:path w="6698" h="2208">
                <a:moveTo>
                  <a:pt x="2952" y="6970"/>
                </a:moveTo>
                <a:cubicBezTo>
                  <a:pt x="2952" y="6962"/>
                  <a:pt x="2952" y="6953"/>
                  <a:pt x="2952" y="6945"/>
                </a:cubicBezTo>
                <a:cubicBezTo>
                  <a:pt x="3012" y="6945"/>
                  <a:pt x="3065" y="6925"/>
                  <a:pt x="3125" y="6921"/>
                </a:cubicBezTo>
                <a:cubicBezTo>
                  <a:pt x="3133" y="6921"/>
                  <a:pt x="3142" y="6921"/>
                  <a:pt x="3150" y="6921"/>
                </a:cubicBezTo>
              </a:path>
              <a:path w="6698" h="2208">
                <a:moveTo>
                  <a:pt x="2927" y="7094"/>
                </a:moveTo>
                <a:cubicBezTo>
                  <a:pt x="2992" y="7077"/>
                  <a:pt x="3060" y="7056"/>
                  <a:pt x="3125" y="7045"/>
                </a:cubicBezTo>
              </a:path>
              <a:path w="6698" h="2208">
                <a:moveTo>
                  <a:pt x="1761" y="7218"/>
                </a:moveTo>
                <a:cubicBezTo>
                  <a:pt x="1761" y="7210"/>
                  <a:pt x="1761" y="7201"/>
                  <a:pt x="1761" y="7193"/>
                </a:cubicBezTo>
                <a:cubicBezTo>
                  <a:pt x="1826" y="7237"/>
                  <a:pt x="1860" y="7256"/>
                  <a:pt x="1910" y="7317"/>
                </a:cubicBezTo>
              </a:path>
              <a:path w="6698" h="2208">
                <a:moveTo>
                  <a:pt x="1910" y="7144"/>
                </a:moveTo>
                <a:cubicBezTo>
                  <a:pt x="1898" y="7229"/>
                  <a:pt x="1850" y="7291"/>
                  <a:pt x="1836" y="7367"/>
                </a:cubicBezTo>
                <a:cubicBezTo>
                  <a:pt x="1836" y="7375"/>
                  <a:pt x="1836" y="7384"/>
                  <a:pt x="1836" y="7392"/>
                </a:cubicBezTo>
              </a:path>
              <a:path w="6698" h="2208">
                <a:moveTo>
                  <a:pt x="2505" y="7268"/>
                </a:moveTo>
                <a:cubicBezTo>
                  <a:pt x="2442" y="7268"/>
                  <a:pt x="2359" y="7248"/>
                  <a:pt x="2307" y="7293"/>
                </a:cubicBezTo>
                <a:cubicBezTo>
                  <a:pt x="2295" y="7303"/>
                  <a:pt x="2307" y="7401"/>
                  <a:pt x="2307" y="7417"/>
                </a:cubicBezTo>
                <a:cubicBezTo>
                  <a:pt x="2345" y="7411"/>
                  <a:pt x="2526" y="7319"/>
                  <a:pt x="2555" y="7392"/>
                </a:cubicBezTo>
                <a:cubicBezTo>
                  <a:pt x="2591" y="7484"/>
                  <a:pt x="2481" y="7570"/>
                  <a:pt x="2406" y="7590"/>
                </a:cubicBezTo>
                <a:cubicBezTo>
                  <a:pt x="2348" y="7590"/>
                  <a:pt x="2340" y="7590"/>
                  <a:pt x="2307" y="7590"/>
                </a:cubicBezTo>
              </a:path>
              <a:path w="6698" h="2208">
                <a:moveTo>
                  <a:pt x="2208" y="7169"/>
                </a:moveTo>
                <a:cubicBezTo>
                  <a:pt x="2255" y="7122"/>
                  <a:pt x="2335" y="7118"/>
                  <a:pt x="2406" y="7094"/>
                </a:cubicBezTo>
                <a:cubicBezTo>
                  <a:pt x="2457" y="7077"/>
                  <a:pt x="2501" y="7050"/>
                  <a:pt x="2555" y="7045"/>
                </a:cubicBezTo>
                <a:cubicBezTo>
                  <a:pt x="2580" y="7045"/>
                  <a:pt x="2588" y="7045"/>
                  <a:pt x="2604" y="7045"/>
                </a:cubicBezTo>
              </a:path>
              <a:path w="6698" h="2208">
                <a:moveTo>
                  <a:pt x="2307" y="6722"/>
                </a:moveTo>
                <a:cubicBezTo>
                  <a:pt x="2290" y="6710"/>
                  <a:pt x="2219" y="6711"/>
                  <a:pt x="2183" y="6747"/>
                </a:cubicBezTo>
                <a:cubicBezTo>
                  <a:pt x="2183" y="6755"/>
                  <a:pt x="2183" y="6764"/>
                  <a:pt x="2183" y="6772"/>
                </a:cubicBezTo>
                <a:cubicBezTo>
                  <a:pt x="2203" y="6810"/>
                  <a:pt x="2206" y="6753"/>
                  <a:pt x="2257" y="6747"/>
                </a:cubicBezTo>
                <a:cubicBezTo>
                  <a:pt x="2303" y="6742"/>
                  <a:pt x="2311" y="6717"/>
                  <a:pt x="2356" y="6747"/>
                </a:cubicBezTo>
                <a:cubicBezTo>
                  <a:pt x="2429" y="6796"/>
                  <a:pt x="2366" y="6843"/>
                  <a:pt x="2332" y="6871"/>
                </a:cubicBezTo>
                <a:cubicBezTo>
                  <a:pt x="2294" y="6903"/>
                  <a:pt x="2234" y="6911"/>
                  <a:pt x="2183" y="6921"/>
                </a:cubicBezTo>
              </a:path>
              <a:path w="6698" h="2208">
                <a:moveTo>
                  <a:pt x="2208" y="6747"/>
                </a:moveTo>
                <a:cubicBezTo>
                  <a:pt x="2280" y="6722"/>
                  <a:pt x="2345" y="6674"/>
                  <a:pt x="2406" y="6623"/>
                </a:cubicBezTo>
                <a:cubicBezTo>
                  <a:pt x="2348" y="6659"/>
                  <a:pt x="2302" y="6699"/>
                  <a:pt x="2257" y="6722"/>
                </a:cubicBezTo>
              </a:path>
              <a:path w="6698" h="2208">
                <a:moveTo>
                  <a:pt x="3349" y="7119"/>
                </a:moveTo>
                <a:cubicBezTo>
                  <a:pt x="3489" y="7078"/>
                  <a:pt x="3625" y="7009"/>
                  <a:pt x="3770" y="6970"/>
                </a:cubicBezTo>
                <a:cubicBezTo>
                  <a:pt x="3972" y="6915"/>
                  <a:pt x="4160" y="6834"/>
                  <a:pt x="4366" y="6796"/>
                </a:cubicBezTo>
                <a:cubicBezTo>
                  <a:pt x="4390" y="6796"/>
                  <a:pt x="4399" y="6796"/>
                  <a:pt x="4415" y="6796"/>
                </a:cubicBezTo>
              </a:path>
              <a:path w="6698" h="2208">
                <a:moveTo>
                  <a:pt x="3324" y="6499"/>
                </a:moveTo>
                <a:cubicBezTo>
                  <a:pt x="3374" y="6428"/>
                  <a:pt x="3385" y="6431"/>
                  <a:pt x="3473" y="6400"/>
                </a:cubicBezTo>
                <a:cubicBezTo>
                  <a:pt x="3490" y="6505"/>
                  <a:pt x="3508" y="6583"/>
                  <a:pt x="3423" y="6672"/>
                </a:cubicBezTo>
                <a:cubicBezTo>
                  <a:pt x="3382" y="6692"/>
                  <a:pt x="3366" y="6711"/>
                  <a:pt x="3373" y="6672"/>
                </a:cubicBezTo>
                <a:cubicBezTo>
                  <a:pt x="3460" y="6672"/>
                  <a:pt x="3502" y="6671"/>
                  <a:pt x="3522" y="6772"/>
                </a:cubicBezTo>
                <a:cubicBezTo>
                  <a:pt x="3548" y="6902"/>
                  <a:pt x="3402" y="6942"/>
                  <a:pt x="3299" y="6921"/>
                </a:cubicBezTo>
                <a:cubicBezTo>
                  <a:pt x="3291" y="6913"/>
                  <a:pt x="3282" y="6904"/>
                  <a:pt x="3274" y="6896"/>
                </a:cubicBezTo>
              </a:path>
              <a:path w="6698" h="2208">
                <a:moveTo>
                  <a:pt x="3919" y="6226"/>
                </a:moveTo>
                <a:cubicBezTo>
                  <a:pt x="3851" y="6257"/>
                  <a:pt x="3775" y="6287"/>
                  <a:pt x="3721" y="6325"/>
                </a:cubicBezTo>
                <a:cubicBezTo>
                  <a:pt x="3668" y="6362"/>
                  <a:pt x="3674" y="6467"/>
                  <a:pt x="3671" y="6524"/>
                </a:cubicBezTo>
                <a:cubicBezTo>
                  <a:pt x="3671" y="6548"/>
                  <a:pt x="3671" y="6557"/>
                  <a:pt x="3671" y="6573"/>
                </a:cubicBezTo>
                <a:cubicBezTo>
                  <a:pt x="3731" y="6558"/>
                  <a:pt x="3755" y="6492"/>
                  <a:pt x="3820" y="6474"/>
                </a:cubicBezTo>
                <a:cubicBezTo>
                  <a:pt x="3929" y="6444"/>
                  <a:pt x="3989" y="6591"/>
                  <a:pt x="3944" y="6672"/>
                </a:cubicBezTo>
                <a:cubicBezTo>
                  <a:pt x="3893" y="6764"/>
                  <a:pt x="3811" y="6772"/>
                  <a:pt x="3721" y="6772"/>
                </a:cubicBezTo>
                <a:cubicBezTo>
                  <a:pt x="3713" y="6772"/>
                  <a:pt x="3704" y="6772"/>
                  <a:pt x="3696" y="6772"/>
                </a:cubicBezTo>
              </a:path>
              <a:path w="6698" h="2208">
                <a:moveTo>
                  <a:pt x="4738" y="6796"/>
                </a:moveTo>
                <a:cubicBezTo>
                  <a:pt x="4846" y="6796"/>
                  <a:pt x="4929" y="6760"/>
                  <a:pt x="5035" y="6747"/>
                </a:cubicBezTo>
              </a:path>
              <a:path w="6698" h="2208">
                <a:moveTo>
                  <a:pt x="4738" y="7045"/>
                </a:moveTo>
                <a:cubicBezTo>
                  <a:pt x="4832" y="7010"/>
                  <a:pt x="4946" y="6947"/>
                  <a:pt x="5035" y="6921"/>
                </a:cubicBezTo>
                <a:cubicBezTo>
                  <a:pt x="5052" y="6921"/>
                  <a:pt x="5068" y="6921"/>
                  <a:pt x="5085" y="6921"/>
                </a:cubicBezTo>
              </a:path>
              <a:path w="6698" h="2208">
                <a:moveTo>
                  <a:pt x="5779" y="6524"/>
                </a:moveTo>
                <a:cubicBezTo>
                  <a:pt x="5704" y="6524"/>
                  <a:pt x="5610" y="6502"/>
                  <a:pt x="5556" y="6573"/>
                </a:cubicBezTo>
                <a:cubicBezTo>
                  <a:pt x="5472" y="6683"/>
                  <a:pt x="5449" y="6895"/>
                  <a:pt x="5507" y="7020"/>
                </a:cubicBezTo>
                <a:cubicBezTo>
                  <a:pt x="5575" y="7166"/>
                  <a:pt x="5735" y="7039"/>
                  <a:pt x="5804" y="6970"/>
                </a:cubicBezTo>
                <a:cubicBezTo>
                  <a:pt x="5904" y="6870"/>
                  <a:pt x="5937" y="6728"/>
                  <a:pt x="5904" y="6598"/>
                </a:cubicBezTo>
                <a:cubicBezTo>
                  <a:pt x="5883" y="6514"/>
                  <a:pt x="5838" y="6475"/>
                  <a:pt x="5755" y="6449"/>
                </a:cubicBezTo>
                <a:cubicBezTo>
                  <a:pt x="5675" y="6424"/>
                  <a:pt x="5705" y="6522"/>
                  <a:pt x="5705" y="6573"/>
                </a:cubicBezTo>
              </a:path>
              <a:path w="6698" h="2208">
                <a:moveTo>
                  <a:pt x="6152" y="6821"/>
                </a:moveTo>
                <a:cubicBezTo>
                  <a:pt x="6152" y="6829"/>
                  <a:pt x="6152" y="6838"/>
                  <a:pt x="6152" y="6846"/>
                </a:cubicBezTo>
                <a:cubicBezTo>
                  <a:pt x="6152" y="6912"/>
                  <a:pt x="6178" y="6777"/>
                  <a:pt x="6127" y="6796"/>
                </a:cubicBezTo>
                <a:cubicBezTo>
                  <a:pt x="6088" y="6811"/>
                  <a:pt x="6048" y="6889"/>
                  <a:pt x="6102" y="6896"/>
                </a:cubicBezTo>
                <a:cubicBezTo>
                  <a:pt x="6170" y="6904"/>
                  <a:pt x="6138" y="6848"/>
                  <a:pt x="6127" y="6821"/>
                </a:cubicBezTo>
              </a:path>
              <a:path w="6698" h="2208">
                <a:moveTo>
                  <a:pt x="6350" y="6400"/>
                </a:moveTo>
                <a:cubicBezTo>
                  <a:pt x="6350" y="6325"/>
                  <a:pt x="6444" y="6256"/>
                  <a:pt x="6524" y="6276"/>
                </a:cubicBezTo>
                <a:cubicBezTo>
                  <a:pt x="6659" y="6310"/>
                  <a:pt x="6574" y="6521"/>
                  <a:pt x="6524" y="6573"/>
                </a:cubicBezTo>
                <a:cubicBezTo>
                  <a:pt x="6507" y="6581"/>
                  <a:pt x="6491" y="6590"/>
                  <a:pt x="6474" y="6598"/>
                </a:cubicBezTo>
                <a:cubicBezTo>
                  <a:pt x="6474" y="6510"/>
                  <a:pt x="6584" y="6498"/>
                  <a:pt x="6648" y="6548"/>
                </a:cubicBezTo>
                <a:cubicBezTo>
                  <a:pt x="6751" y="6629"/>
                  <a:pt x="6762" y="6788"/>
                  <a:pt x="6623" y="6821"/>
                </a:cubicBezTo>
                <a:cubicBezTo>
                  <a:pt x="6562" y="6836"/>
                  <a:pt x="6506" y="6806"/>
                  <a:pt x="6449" y="6796"/>
                </a:cubicBezTo>
              </a:path>
              <a:path w="6698" h="2208">
                <a:moveTo>
                  <a:pt x="7069" y="6152"/>
                </a:moveTo>
                <a:cubicBezTo>
                  <a:pt x="6997" y="6182"/>
                  <a:pt x="6853" y="6213"/>
                  <a:pt x="6796" y="6251"/>
                </a:cubicBezTo>
                <a:cubicBezTo>
                  <a:pt x="6753" y="6280"/>
                  <a:pt x="6814" y="6481"/>
                  <a:pt x="6821" y="6524"/>
                </a:cubicBezTo>
                <a:cubicBezTo>
                  <a:pt x="6821" y="6532"/>
                  <a:pt x="6821" y="6540"/>
                  <a:pt x="6821" y="6548"/>
                </a:cubicBezTo>
                <a:cubicBezTo>
                  <a:pt x="6882" y="6524"/>
                  <a:pt x="6927" y="6443"/>
                  <a:pt x="6995" y="6424"/>
                </a:cubicBezTo>
                <a:cubicBezTo>
                  <a:pt x="7124" y="6387"/>
                  <a:pt x="7203" y="6518"/>
                  <a:pt x="7193" y="6623"/>
                </a:cubicBezTo>
                <a:cubicBezTo>
                  <a:pt x="7182" y="6730"/>
                  <a:pt x="7085" y="6771"/>
                  <a:pt x="6995" y="6796"/>
                </a:cubicBezTo>
                <a:cubicBezTo>
                  <a:pt x="6970" y="6796"/>
                  <a:pt x="6962" y="6796"/>
                  <a:pt x="6945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7840" y="4581360"/>
            <a:ext cx="1144440" cy="1446480"/>
          </a:xfrm>
          <a:custGeom>
            <a:avLst/>
            <a:gdLst/>
            <a:ahLst/>
            <a:rect l="l" t="t" r="r" b="b"/>
            <a:pathLst>
              <a:path w="3176" h="4019">
                <a:moveTo>
                  <a:pt x="1141" y="13072"/>
                </a:moveTo>
                <a:cubicBezTo>
                  <a:pt x="1041" y="13082"/>
                  <a:pt x="961" y="13131"/>
                  <a:pt x="868" y="13146"/>
                </a:cubicBezTo>
                <a:cubicBezTo>
                  <a:pt x="813" y="13155"/>
                  <a:pt x="843" y="13369"/>
                  <a:pt x="843" y="13419"/>
                </a:cubicBezTo>
                <a:cubicBezTo>
                  <a:pt x="843" y="13502"/>
                  <a:pt x="843" y="13518"/>
                  <a:pt x="843" y="13568"/>
                </a:cubicBezTo>
                <a:cubicBezTo>
                  <a:pt x="924" y="13472"/>
                  <a:pt x="1034" y="13331"/>
                  <a:pt x="1166" y="13469"/>
                </a:cubicBezTo>
                <a:cubicBezTo>
                  <a:pt x="1254" y="13561"/>
                  <a:pt x="1238" y="13784"/>
                  <a:pt x="1141" y="13866"/>
                </a:cubicBezTo>
                <a:cubicBezTo>
                  <a:pt x="1078" y="13920"/>
                  <a:pt x="949" y="13974"/>
                  <a:pt x="868" y="13990"/>
                </a:cubicBezTo>
              </a:path>
              <a:path w="3176" h="4019">
                <a:moveTo>
                  <a:pt x="595" y="14337"/>
                </a:moveTo>
                <a:cubicBezTo>
                  <a:pt x="787" y="14233"/>
                  <a:pt x="978" y="14145"/>
                  <a:pt x="1191" y="14089"/>
                </a:cubicBezTo>
                <a:cubicBezTo>
                  <a:pt x="1301" y="14070"/>
                  <a:pt x="1324" y="14089"/>
                  <a:pt x="1364" y="14039"/>
                </a:cubicBezTo>
              </a:path>
              <a:path w="3176" h="4019">
                <a:moveTo>
                  <a:pt x="794" y="14511"/>
                </a:moveTo>
                <a:cubicBezTo>
                  <a:pt x="874" y="14511"/>
                  <a:pt x="993" y="14464"/>
                  <a:pt x="1067" y="14436"/>
                </a:cubicBezTo>
                <a:cubicBezTo>
                  <a:pt x="1142" y="14407"/>
                  <a:pt x="1188" y="14375"/>
                  <a:pt x="1265" y="14362"/>
                </a:cubicBezTo>
                <a:cubicBezTo>
                  <a:pt x="1244" y="14547"/>
                  <a:pt x="1183" y="14722"/>
                  <a:pt x="1166" y="14908"/>
                </a:cubicBezTo>
                <a:cubicBezTo>
                  <a:pt x="1161" y="14957"/>
                  <a:pt x="1143" y="15090"/>
                  <a:pt x="1191" y="15106"/>
                </a:cubicBezTo>
              </a:path>
              <a:path w="3176" h="4019">
                <a:moveTo>
                  <a:pt x="496" y="14412"/>
                </a:moveTo>
                <a:cubicBezTo>
                  <a:pt x="532" y="14340"/>
                  <a:pt x="640" y="14282"/>
                  <a:pt x="719" y="14238"/>
                </a:cubicBezTo>
                <a:cubicBezTo>
                  <a:pt x="785" y="14201"/>
                  <a:pt x="875" y="14144"/>
                  <a:pt x="918" y="14114"/>
                </a:cubicBezTo>
                <a:cubicBezTo>
                  <a:pt x="991" y="14063"/>
                  <a:pt x="1067" y="14038"/>
                  <a:pt x="1141" y="13990"/>
                </a:cubicBezTo>
                <a:cubicBezTo>
                  <a:pt x="1196" y="13955"/>
                  <a:pt x="1235" y="13886"/>
                  <a:pt x="1265" y="13841"/>
                </a:cubicBezTo>
                <a:cubicBezTo>
                  <a:pt x="1289" y="13805"/>
                  <a:pt x="1284" y="13801"/>
                  <a:pt x="1315" y="13791"/>
                </a:cubicBezTo>
              </a:path>
              <a:path w="3176" h="4019">
                <a:moveTo>
                  <a:pt x="1463" y="13866"/>
                </a:moveTo>
                <a:cubicBezTo>
                  <a:pt x="1333" y="13931"/>
                  <a:pt x="1196" y="14001"/>
                  <a:pt x="1067" y="14089"/>
                </a:cubicBezTo>
                <a:cubicBezTo>
                  <a:pt x="934" y="14180"/>
                  <a:pt x="834" y="14264"/>
                  <a:pt x="695" y="14337"/>
                </a:cubicBezTo>
                <a:cubicBezTo>
                  <a:pt x="620" y="14377"/>
                  <a:pt x="678" y="14390"/>
                  <a:pt x="744" y="14362"/>
                </a:cubicBezTo>
                <a:cubicBezTo>
                  <a:pt x="962" y="14269"/>
                  <a:pt x="1174" y="14141"/>
                  <a:pt x="1389" y="14039"/>
                </a:cubicBezTo>
                <a:cubicBezTo>
                  <a:pt x="1422" y="14023"/>
                  <a:pt x="1455" y="14006"/>
                  <a:pt x="1488" y="13990"/>
                </a:cubicBezTo>
                <a:cubicBezTo>
                  <a:pt x="1532" y="13990"/>
                  <a:pt x="1489" y="13996"/>
                  <a:pt x="1463" y="14015"/>
                </a:cubicBezTo>
                <a:cubicBezTo>
                  <a:pt x="1240" y="14086"/>
                  <a:pt x="1037" y="14181"/>
                  <a:pt x="819" y="14263"/>
                </a:cubicBezTo>
                <a:cubicBezTo>
                  <a:pt x="728" y="14297"/>
                  <a:pt x="640" y="14323"/>
                  <a:pt x="546" y="14337"/>
                </a:cubicBezTo>
                <a:cubicBezTo>
                  <a:pt x="782" y="14308"/>
                  <a:pt x="971" y="14224"/>
                  <a:pt x="1191" y="14139"/>
                </a:cubicBezTo>
                <a:cubicBezTo>
                  <a:pt x="1244" y="14119"/>
                  <a:pt x="1570" y="14013"/>
                  <a:pt x="1290" y="14089"/>
                </a:cubicBezTo>
                <a:cubicBezTo>
                  <a:pt x="1079" y="14146"/>
                  <a:pt x="874" y="14210"/>
                  <a:pt x="670" y="14288"/>
                </a:cubicBezTo>
                <a:cubicBezTo>
                  <a:pt x="855" y="14288"/>
                  <a:pt x="1045" y="14210"/>
                  <a:pt x="1215" y="14139"/>
                </a:cubicBezTo>
                <a:cubicBezTo>
                  <a:pt x="1293" y="14106"/>
                  <a:pt x="1410" y="14057"/>
                  <a:pt x="1389" y="14015"/>
                </a:cubicBezTo>
                <a:cubicBezTo>
                  <a:pt x="1191" y="14118"/>
                  <a:pt x="1001" y="14206"/>
                  <a:pt x="794" y="14288"/>
                </a:cubicBezTo>
                <a:cubicBezTo>
                  <a:pt x="745" y="14307"/>
                  <a:pt x="711" y="14288"/>
                  <a:pt x="744" y="14288"/>
                </a:cubicBezTo>
                <a:cubicBezTo>
                  <a:pt x="752" y="14288"/>
                  <a:pt x="761" y="14288"/>
                  <a:pt x="769" y="14288"/>
                </a:cubicBezTo>
              </a:path>
              <a:path w="3176" h="4019">
                <a:moveTo>
                  <a:pt x="3200" y="14908"/>
                </a:moveTo>
                <a:cubicBezTo>
                  <a:pt x="3135" y="14955"/>
                  <a:pt x="3033" y="14962"/>
                  <a:pt x="2952" y="14982"/>
                </a:cubicBezTo>
                <a:cubicBezTo>
                  <a:pt x="2834" y="15012"/>
                  <a:pt x="2757" y="15014"/>
                  <a:pt x="2778" y="15156"/>
                </a:cubicBezTo>
                <a:cubicBezTo>
                  <a:pt x="2786" y="15214"/>
                  <a:pt x="2803" y="15228"/>
                  <a:pt x="2803" y="15280"/>
                </a:cubicBezTo>
                <a:cubicBezTo>
                  <a:pt x="2887" y="15224"/>
                  <a:pt x="2933" y="15224"/>
                  <a:pt x="3026" y="15255"/>
                </a:cubicBezTo>
                <a:cubicBezTo>
                  <a:pt x="3054" y="15378"/>
                  <a:pt x="3005" y="15427"/>
                  <a:pt x="2902" y="15503"/>
                </a:cubicBezTo>
                <a:cubicBezTo>
                  <a:pt x="2831" y="15556"/>
                  <a:pt x="2807" y="15553"/>
                  <a:pt x="2729" y="15553"/>
                </a:cubicBezTo>
              </a:path>
              <a:path w="3176" h="4019">
                <a:moveTo>
                  <a:pt x="2480" y="15751"/>
                </a:moveTo>
                <a:cubicBezTo>
                  <a:pt x="2480" y="15647"/>
                  <a:pt x="2477" y="15556"/>
                  <a:pt x="2456" y="15453"/>
                </a:cubicBezTo>
                <a:cubicBezTo>
                  <a:pt x="2431" y="15328"/>
                  <a:pt x="2378" y="15205"/>
                  <a:pt x="2356" y="15081"/>
                </a:cubicBezTo>
                <a:cubicBezTo>
                  <a:pt x="2345" y="15020"/>
                  <a:pt x="2356" y="15005"/>
                  <a:pt x="2381" y="14982"/>
                </a:cubicBezTo>
                <a:cubicBezTo>
                  <a:pt x="2480" y="14892"/>
                  <a:pt x="2613" y="14851"/>
                  <a:pt x="2729" y="14784"/>
                </a:cubicBezTo>
                <a:cubicBezTo>
                  <a:pt x="2883" y="14695"/>
                  <a:pt x="3056" y="14634"/>
                  <a:pt x="3225" y="14585"/>
                </a:cubicBezTo>
                <a:cubicBezTo>
                  <a:pt x="3283" y="14568"/>
                  <a:pt x="3511" y="14484"/>
                  <a:pt x="3572" y="14511"/>
                </a:cubicBezTo>
                <a:cubicBezTo>
                  <a:pt x="3572" y="14519"/>
                  <a:pt x="3572" y="14528"/>
                  <a:pt x="3572" y="14536"/>
                </a:cubicBezTo>
              </a:path>
              <a:path w="3176" h="4019">
                <a:moveTo>
                  <a:pt x="1811" y="15255"/>
                </a:moveTo>
                <a:cubicBezTo>
                  <a:pt x="1899" y="15228"/>
                  <a:pt x="1993" y="15188"/>
                  <a:pt x="2084" y="15180"/>
                </a:cubicBezTo>
                <a:cubicBezTo>
                  <a:pt x="2092" y="15180"/>
                  <a:pt x="2100" y="15180"/>
                  <a:pt x="2108" y="15180"/>
                </a:cubicBezTo>
                <a:cubicBezTo>
                  <a:pt x="2108" y="15322"/>
                  <a:pt x="2149" y="15461"/>
                  <a:pt x="2158" y="15602"/>
                </a:cubicBezTo>
                <a:cubicBezTo>
                  <a:pt x="2162" y="15665"/>
                  <a:pt x="2158" y="15735"/>
                  <a:pt x="2158" y="15801"/>
                </a:cubicBezTo>
              </a:path>
              <a:path w="3176" h="4019">
                <a:moveTo>
                  <a:pt x="521" y="14486"/>
                </a:moveTo>
                <a:cubicBezTo>
                  <a:pt x="587" y="14436"/>
                  <a:pt x="688" y="14398"/>
                  <a:pt x="769" y="14362"/>
                </a:cubicBezTo>
                <a:cubicBezTo>
                  <a:pt x="926" y="14293"/>
                  <a:pt x="1098" y="14290"/>
                  <a:pt x="1240" y="14188"/>
                </a:cubicBezTo>
                <a:cubicBezTo>
                  <a:pt x="1292" y="14151"/>
                  <a:pt x="1322" y="14140"/>
                  <a:pt x="1364" y="14114"/>
                </a:cubicBezTo>
                <a:cubicBezTo>
                  <a:pt x="1424" y="14078"/>
                  <a:pt x="1496" y="14052"/>
                  <a:pt x="1563" y="14015"/>
                </a:cubicBezTo>
                <a:cubicBezTo>
                  <a:pt x="1625" y="13981"/>
                  <a:pt x="1594" y="13979"/>
                  <a:pt x="1637" y="13965"/>
                </a:cubicBezTo>
              </a:path>
              <a:path w="3176" h="4019">
                <a:moveTo>
                  <a:pt x="2530" y="14412"/>
                </a:moveTo>
                <a:cubicBezTo>
                  <a:pt x="2473" y="14412"/>
                  <a:pt x="2419" y="14408"/>
                  <a:pt x="2381" y="14461"/>
                </a:cubicBezTo>
                <a:cubicBezTo>
                  <a:pt x="2322" y="14543"/>
                  <a:pt x="2310" y="14712"/>
                  <a:pt x="2332" y="14808"/>
                </a:cubicBezTo>
                <a:cubicBezTo>
                  <a:pt x="2344" y="14860"/>
                  <a:pt x="2429" y="14914"/>
                  <a:pt x="2480" y="14908"/>
                </a:cubicBezTo>
                <a:cubicBezTo>
                  <a:pt x="2563" y="14899"/>
                  <a:pt x="2663" y="14797"/>
                  <a:pt x="2704" y="14734"/>
                </a:cubicBezTo>
                <a:cubicBezTo>
                  <a:pt x="2737" y="14683"/>
                  <a:pt x="2746" y="14572"/>
                  <a:pt x="2729" y="14511"/>
                </a:cubicBezTo>
                <a:cubicBezTo>
                  <a:pt x="2718" y="14470"/>
                  <a:pt x="2672" y="14400"/>
                  <a:pt x="2654" y="14387"/>
                </a:cubicBezTo>
                <a:cubicBezTo>
                  <a:pt x="2611" y="14356"/>
                  <a:pt x="2578" y="14362"/>
                  <a:pt x="2530" y="14362"/>
                </a:cubicBezTo>
                <a:cubicBezTo>
                  <a:pt x="2490" y="14362"/>
                  <a:pt x="2464" y="14386"/>
                  <a:pt x="2456" y="14412"/>
                </a:cubicBezTo>
              </a:path>
              <a:path w="3176" h="4019">
                <a:moveTo>
                  <a:pt x="3324" y="15379"/>
                </a:moveTo>
                <a:cubicBezTo>
                  <a:pt x="3293" y="15379"/>
                  <a:pt x="3257" y="15387"/>
                  <a:pt x="3249" y="15404"/>
                </a:cubicBezTo>
                <a:cubicBezTo>
                  <a:pt x="3233" y="15437"/>
                  <a:pt x="3247" y="15475"/>
                  <a:pt x="3274" y="15478"/>
                </a:cubicBezTo>
                <a:cubicBezTo>
                  <a:pt x="3282" y="15478"/>
                  <a:pt x="3291" y="15478"/>
                  <a:pt x="3299" y="15478"/>
                </a:cubicBezTo>
                <a:cubicBezTo>
                  <a:pt x="3283" y="15430"/>
                  <a:pt x="3266" y="15454"/>
                  <a:pt x="3249" y="15478"/>
                </a:cubicBezTo>
                <a:cubicBezTo>
                  <a:pt x="3209" y="15533"/>
                  <a:pt x="3250" y="15559"/>
                  <a:pt x="3299" y="15503"/>
                </a:cubicBezTo>
                <a:cubicBezTo>
                  <a:pt x="3299" y="15470"/>
                  <a:pt x="3299" y="15454"/>
                  <a:pt x="3299" y="15429"/>
                </a:cubicBezTo>
                <a:cubicBezTo>
                  <a:pt x="3292" y="15431"/>
                  <a:pt x="3243" y="15490"/>
                  <a:pt x="3249" y="15503"/>
                </a:cubicBezTo>
                <a:cubicBezTo>
                  <a:pt x="3268" y="15540"/>
                  <a:pt x="3259" y="15465"/>
                  <a:pt x="3299" y="15478"/>
                </a:cubicBezTo>
              </a:path>
              <a:path w="3176" h="4019">
                <a:moveTo>
                  <a:pt x="3448" y="14858"/>
                </a:moveTo>
                <a:cubicBezTo>
                  <a:pt x="3448" y="14850"/>
                  <a:pt x="3448" y="14841"/>
                  <a:pt x="3448" y="14833"/>
                </a:cubicBezTo>
                <a:cubicBezTo>
                  <a:pt x="3398" y="14850"/>
                  <a:pt x="3400" y="14923"/>
                  <a:pt x="3398" y="14982"/>
                </a:cubicBezTo>
                <a:cubicBezTo>
                  <a:pt x="3396" y="15042"/>
                  <a:pt x="3428" y="15226"/>
                  <a:pt x="3497" y="15255"/>
                </a:cubicBezTo>
                <a:cubicBezTo>
                  <a:pt x="3565" y="15284"/>
                  <a:pt x="3607" y="15219"/>
                  <a:pt x="3646" y="15180"/>
                </a:cubicBezTo>
                <a:cubicBezTo>
                  <a:pt x="3694" y="15132"/>
                  <a:pt x="3682" y="15031"/>
                  <a:pt x="3646" y="14982"/>
                </a:cubicBezTo>
                <a:cubicBezTo>
                  <a:pt x="3615" y="14939"/>
                  <a:pt x="3546" y="14913"/>
                  <a:pt x="3497" y="14908"/>
                </a:cubicBezTo>
                <a:cubicBezTo>
                  <a:pt x="3457" y="14904"/>
                  <a:pt x="3459" y="14901"/>
                  <a:pt x="3448" y="14932"/>
                </a:cubicBezTo>
              </a:path>
              <a:path w="3176" h="4019">
                <a:moveTo>
                  <a:pt x="3001" y="14511"/>
                </a:moveTo>
                <a:cubicBezTo>
                  <a:pt x="2982" y="14451"/>
                  <a:pt x="2941" y="14519"/>
                  <a:pt x="2927" y="14560"/>
                </a:cubicBezTo>
                <a:cubicBezTo>
                  <a:pt x="2927" y="14568"/>
                  <a:pt x="2927" y="14577"/>
                  <a:pt x="2927" y="14585"/>
                </a:cubicBezTo>
                <a:cubicBezTo>
                  <a:pt x="2962" y="14637"/>
                  <a:pt x="3011" y="14589"/>
                  <a:pt x="3001" y="14511"/>
                </a:cubicBezTo>
                <a:cubicBezTo>
                  <a:pt x="2990" y="14429"/>
                  <a:pt x="2928" y="14569"/>
                  <a:pt x="2927" y="14585"/>
                </a:cubicBezTo>
                <a:cubicBezTo>
                  <a:pt x="2924" y="14642"/>
                  <a:pt x="2965" y="14662"/>
                  <a:pt x="3001" y="14610"/>
                </a:cubicBezTo>
                <a:cubicBezTo>
                  <a:pt x="3029" y="14569"/>
                  <a:pt x="3011" y="14467"/>
                  <a:pt x="2952" y="14536"/>
                </a:cubicBezTo>
                <a:cubicBezTo>
                  <a:pt x="2913" y="14581"/>
                  <a:pt x="2976" y="14615"/>
                  <a:pt x="3001" y="14635"/>
                </a:cubicBezTo>
                <a:cubicBezTo>
                  <a:pt x="3019" y="14582"/>
                  <a:pt x="3060" y="14506"/>
                  <a:pt x="3001" y="14486"/>
                </a:cubicBezTo>
                <a:cubicBezTo>
                  <a:pt x="2967" y="14548"/>
                  <a:pt x="2939" y="14670"/>
                  <a:pt x="3001" y="14635"/>
                </a:cubicBezTo>
                <a:cubicBezTo>
                  <a:pt x="3074" y="14594"/>
                  <a:pt x="3050" y="14490"/>
                  <a:pt x="3026" y="14585"/>
                </a:cubicBezTo>
              </a:path>
              <a:path w="3176" h="4019">
                <a:moveTo>
                  <a:pt x="3001" y="14238"/>
                </a:moveTo>
                <a:cubicBezTo>
                  <a:pt x="2983" y="14183"/>
                  <a:pt x="2981" y="14177"/>
                  <a:pt x="3101" y="14114"/>
                </a:cubicBezTo>
                <a:cubicBezTo>
                  <a:pt x="3201" y="14061"/>
                  <a:pt x="3302" y="14045"/>
                  <a:pt x="3398" y="13990"/>
                </a:cubicBezTo>
                <a:cubicBezTo>
                  <a:pt x="3398" y="14116"/>
                  <a:pt x="3418" y="14236"/>
                  <a:pt x="3423" y="14362"/>
                </a:cubicBezTo>
                <a:cubicBezTo>
                  <a:pt x="3423" y="14387"/>
                  <a:pt x="3423" y="14395"/>
                  <a:pt x="3423" y="14412"/>
                </a:cubicBezTo>
              </a:path>
              <a:path w="3176" h="4019">
                <a:moveTo>
                  <a:pt x="2952" y="15825"/>
                </a:moveTo>
                <a:cubicBezTo>
                  <a:pt x="2906" y="15840"/>
                  <a:pt x="2927" y="15891"/>
                  <a:pt x="2927" y="15949"/>
                </a:cubicBezTo>
                <a:cubicBezTo>
                  <a:pt x="3001" y="15918"/>
                  <a:pt x="3072" y="15851"/>
                  <a:pt x="3150" y="15825"/>
                </a:cubicBezTo>
              </a:path>
              <a:path w="3176" h="4019">
                <a:moveTo>
                  <a:pt x="3621" y="15602"/>
                </a:moveTo>
                <a:cubicBezTo>
                  <a:pt x="3613" y="15567"/>
                  <a:pt x="3572" y="15501"/>
                  <a:pt x="3522" y="15503"/>
                </a:cubicBezTo>
                <a:cubicBezTo>
                  <a:pt x="3373" y="15510"/>
                  <a:pt x="3371" y="15673"/>
                  <a:pt x="3423" y="15776"/>
                </a:cubicBezTo>
                <a:cubicBezTo>
                  <a:pt x="3460" y="15849"/>
                  <a:pt x="3562" y="15679"/>
                  <a:pt x="3572" y="15652"/>
                </a:cubicBezTo>
                <a:cubicBezTo>
                  <a:pt x="3572" y="15644"/>
                  <a:pt x="3572" y="15635"/>
                  <a:pt x="3572" y="15627"/>
                </a:cubicBezTo>
                <a:cubicBezTo>
                  <a:pt x="3572" y="15727"/>
                  <a:pt x="3594" y="15823"/>
                  <a:pt x="3597" y="15925"/>
                </a:cubicBezTo>
                <a:cubicBezTo>
                  <a:pt x="3598" y="15974"/>
                  <a:pt x="3597" y="16024"/>
                  <a:pt x="3597" y="16073"/>
                </a:cubicBezTo>
              </a:path>
              <a:path w="3176" h="4019">
                <a:moveTo>
                  <a:pt x="2877" y="16247"/>
                </a:moveTo>
                <a:cubicBezTo>
                  <a:pt x="2977" y="16247"/>
                  <a:pt x="3135" y="16174"/>
                  <a:pt x="3225" y="16148"/>
                </a:cubicBezTo>
                <a:cubicBezTo>
                  <a:pt x="3379" y="16104"/>
                  <a:pt x="3511" y="16073"/>
                  <a:pt x="3671" y="16073"/>
                </a:cubicBezTo>
              </a:path>
              <a:path w="3176" h="4019">
                <a:moveTo>
                  <a:pt x="3497" y="16346"/>
                </a:moveTo>
                <a:cubicBezTo>
                  <a:pt x="3497" y="16478"/>
                  <a:pt x="3537" y="16569"/>
                  <a:pt x="3572" y="16694"/>
                </a:cubicBezTo>
                <a:cubicBezTo>
                  <a:pt x="3572" y="16722"/>
                  <a:pt x="3575" y="16732"/>
                  <a:pt x="3597" y="16743"/>
                </a:cubicBezTo>
              </a:path>
              <a:path w="3176" h="4019">
                <a:moveTo>
                  <a:pt x="3125" y="12973"/>
                </a:moveTo>
                <a:cubicBezTo>
                  <a:pt x="3103" y="13018"/>
                  <a:pt x="3113" y="12997"/>
                  <a:pt x="3125" y="13047"/>
                </a:cubicBezTo>
                <a:cubicBezTo>
                  <a:pt x="3116" y="12973"/>
                  <a:pt x="3157" y="12917"/>
                  <a:pt x="3225" y="12874"/>
                </a:cubicBezTo>
                <a:cubicBezTo>
                  <a:pt x="3353" y="12794"/>
                  <a:pt x="3394" y="13176"/>
                  <a:pt x="3398" y="13196"/>
                </a:cubicBezTo>
                <a:cubicBezTo>
                  <a:pt x="3416" y="13287"/>
                  <a:pt x="3425" y="13294"/>
                  <a:pt x="3423" y="13345"/>
                </a:cubicBezTo>
              </a:path>
              <a:path w="3176" h="4019">
                <a:moveTo>
                  <a:pt x="3448" y="12725"/>
                </a:moveTo>
                <a:cubicBezTo>
                  <a:pt x="3483" y="12848"/>
                  <a:pt x="3597" y="13075"/>
                  <a:pt x="3597" y="13196"/>
                </a:cubicBezTo>
                <a:cubicBezTo>
                  <a:pt x="3589" y="13196"/>
                  <a:pt x="3580" y="13196"/>
                  <a:pt x="3572" y="13196"/>
                </a:cubicBezTo>
              </a:path>
              <a:path w="3176" h="4019">
                <a:moveTo>
                  <a:pt x="2431" y="13047"/>
                </a:moveTo>
                <a:cubicBezTo>
                  <a:pt x="2380" y="13223"/>
                  <a:pt x="2353" y="13281"/>
                  <a:pt x="2406" y="13469"/>
                </a:cubicBezTo>
                <a:cubicBezTo>
                  <a:pt x="2446" y="13613"/>
                  <a:pt x="2467" y="13642"/>
                  <a:pt x="2580" y="13717"/>
                </a:cubicBezTo>
                <a:cubicBezTo>
                  <a:pt x="2693" y="13548"/>
                  <a:pt x="2716" y="13397"/>
                  <a:pt x="2629" y="13196"/>
                </a:cubicBezTo>
                <a:cubicBezTo>
                  <a:pt x="2583" y="13090"/>
                  <a:pt x="2532" y="13072"/>
                  <a:pt x="2431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4840" y="4964040"/>
            <a:ext cx="430200" cy="1814760"/>
          </a:xfrm>
          <a:custGeom>
            <a:avLst/>
            <a:gdLst/>
            <a:ahLst/>
            <a:rect l="l" t="t" r="r" b="b"/>
            <a:pathLst>
              <a:path w="1192" h="5037">
                <a:moveTo>
                  <a:pt x="4266" y="14709"/>
                </a:moveTo>
                <a:cubicBezTo>
                  <a:pt x="4167" y="14729"/>
                  <a:pt x="4121" y="14801"/>
                  <a:pt x="4142" y="14908"/>
                </a:cubicBezTo>
                <a:cubicBezTo>
                  <a:pt x="4170" y="15047"/>
                  <a:pt x="4344" y="15250"/>
                  <a:pt x="4440" y="15032"/>
                </a:cubicBezTo>
                <a:cubicBezTo>
                  <a:pt x="4448" y="15014"/>
                  <a:pt x="4454" y="14633"/>
                  <a:pt x="4341" y="14759"/>
                </a:cubicBezTo>
                <a:cubicBezTo>
                  <a:pt x="4341" y="14775"/>
                  <a:pt x="4341" y="14792"/>
                  <a:pt x="4341" y="14808"/>
                </a:cubicBezTo>
              </a:path>
              <a:path w="1192" h="5037">
                <a:moveTo>
                  <a:pt x="4465" y="15180"/>
                </a:moveTo>
                <a:cubicBezTo>
                  <a:pt x="4444" y="15229"/>
                  <a:pt x="4431" y="15364"/>
                  <a:pt x="4440" y="15453"/>
                </a:cubicBezTo>
                <a:cubicBezTo>
                  <a:pt x="4457" y="15632"/>
                  <a:pt x="4487" y="15823"/>
                  <a:pt x="4514" y="15999"/>
                </a:cubicBezTo>
                <a:cubicBezTo>
                  <a:pt x="4529" y="16098"/>
                  <a:pt x="4539" y="16172"/>
                  <a:pt x="4539" y="16272"/>
                </a:cubicBezTo>
                <a:cubicBezTo>
                  <a:pt x="4539" y="16365"/>
                  <a:pt x="4560" y="16459"/>
                  <a:pt x="4589" y="16545"/>
                </a:cubicBezTo>
                <a:cubicBezTo>
                  <a:pt x="4630" y="16667"/>
                  <a:pt x="4657" y="16793"/>
                  <a:pt x="4688" y="16917"/>
                </a:cubicBezTo>
                <a:cubicBezTo>
                  <a:pt x="4715" y="17022"/>
                  <a:pt x="4747" y="17133"/>
                  <a:pt x="4762" y="17239"/>
                </a:cubicBezTo>
                <a:cubicBezTo>
                  <a:pt x="4766" y="17271"/>
                  <a:pt x="4762" y="17306"/>
                  <a:pt x="4762" y="17338"/>
                </a:cubicBezTo>
              </a:path>
              <a:path w="1192" h="5037">
                <a:moveTo>
                  <a:pt x="4713" y="17413"/>
                </a:moveTo>
                <a:cubicBezTo>
                  <a:pt x="4685" y="17408"/>
                  <a:pt x="4618" y="17358"/>
                  <a:pt x="4589" y="17413"/>
                </a:cubicBezTo>
                <a:cubicBezTo>
                  <a:pt x="4554" y="17479"/>
                  <a:pt x="4547" y="17621"/>
                  <a:pt x="4589" y="17686"/>
                </a:cubicBezTo>
                <a:cubicBezTo>
                  <a:pt x="4660" y="17796"/>
                  <a:pt x="4761" y="17736"/>
                  <a:pt x="4787" y="17636"/>
                </a:cubicBezTo>
                <a:cubicBezTo>
                  <a:pt x="4808" y="17555"/>
                  <a:pt x="4757" y="17434"/>
                  <a:pt x="4688" y="17388"/>
                </a:cubicBezTo>
                <a:cubicBezTo>
                  <a:pt x="4680" y="17388"/>
                  <a:pt x="4671" y="17388"/>
                  <a:pt x="4663" y="17388"/>
                </a:cubicBezTo>
              </a:path>
              <a:path w="1192" h="5037">
                <a:moveTo>
                  <a:pt x="3845" y="13965"/>
                </a:moveTo>
                <a:cubicBezTo>
                  <a:pt x="3812" y="14020"/>
                  <a:pt x="3830" y="14064"/>
                  <a:pt x="3820" y="14114"/>
                </a:cubicBezTo>
                <a:cubicBezTo>
                  <a:pt x="3820" y="14122"/>
                  <a:pt x="3820" y="14131"/>
                  <a:pt x="3820" y="14139"/>
                </a:cubicBezTo>
                <a:cubicBezTo>
                  <a:pt x="3863" y="14139"/>
                  <a:pt x="3925" y="14115"/>
                  <a:pt x="3944" y="14089"/>
                </a:cubicBezTo>
                <a:cubicBezTo>
                  <a:pt x="3944" y="14081"/>
                  <a:pt x="3944" y="14072"/>
                  <a:pt x="3944" y="14064"/>
                </a:cubicBezTo>
              </a:path>
              <a:path w="1192" h="5037">
                <a:moveTo>
                  <a:pt x="3944" y="13791"/>
                </a:moveTo>
                <a:cubicBezTo>
                  <a:pt x="3966" y="13925"/>
                  <a:pt x="4003" y="14057"/>
                  <a:pt x="4043" y="14188"/>
                </a:cubicBezTo>
                <a:cubicBezTo>
                  <a:pt x="4065" y="14253"/>
                  <a:pt x="4073" y="14268"/>
                  <a:pt x="4068" y="14312"/>
                </a:cubicBezTo>
              </a:path>
              <a:path w="1192" h="5037">
                <a:moveTo>
                  <a:pt x="4068" y="18107"/>
                </a:moveTo>
                <a:cubicBezTo>
                  <a:pt x="4130" y="18092"/>
                  <a:pt x="4157" y="18022"/>
                  <a:pt x="4217" y="17983"/>
                </a:cubicBezTo>
                <a:cubicBezTo>
                  <a:pt x="4327" y="17912"/>
                  <a:pt x="4349" y="18044"/>
                  <a:pt x="4341" y="18132"/>
                </a:cubicBezTo>
                <a:cubicBezTo>
                  <a:pt x="4334" y="18216"/>
                  <a:pt x="4280" y="18338"/>
                  <a:pt x="4192" y="18355"/>
                </a:cubicBezTo>
                <a:cubicBezTo>
                  <a:pt x="4184" y="18355"/>
                  <a:pt x="4175" y="18355"/>
                  <a:pt x="4167" y="18355"/>
                </a:cubicBezTo>
                <a:cubicBezTo>
                  <a:pt x="4249" y="18355"/>
                  <a:pt x="4304" y="18298"/>
                  <a:pt x="4390" y="18281"/>
                </a:cubicBezTo>
                <a:cubicBezTo>
                  <a:pt x="4442" y="18281"/>
                  <a:pt x="4460" y="18279"/>
                  <a:pt x="4465" y="18231"/>
                </a:cubicBezTo>
              </a:path>
              <a:path w="1192" h="5037">
                <a:moveTo>
                  <a:pt x="4638" y="17785"/>
                </a:moveTo>
                <a:cubicBezTo>
                  <a:pt x="4605" y="17805"/>
                  <a:pt x="4454" y="17910"/>
                  <a:pt x="4514" y="17983"/>
                </a:cubicBezTo>
                <a:cubicBezTo>
                  <a:pt x="4571" y="18052"/>
                  <a:pt x="4705" y="18027"/>
                  <a:pt x="4688" y="18157"/>
                </a:cubicBezTo>
                <a:cubicBezTo>
                  <a:pt x="4680" y="18165"/>
                  <a:pt x="4671" y="18174"/>
                  <a:pt x="4663" y="18182"/>
                </a:cubicBezTo>
                <a:cubicBezTo>
                  <a:pt x="4541" y="18147"/>
                  <a:pt x="4601" y="18095"/>
                  <a:pt x="4638" y="18008"/>
                </a:cubicBezTo>
                <a:cubicBezTo>
                  <a:pt x="4652" y="17976"/>
                  <a:pt x="4659" y="17972"/>
                  <a:pt x="4688" y="17934"/>
                </a:cubicBezTo>
              </a:path>
              <a:path w="1192" h="5037">
                <a:moveTo>
                  <a:pt x="4093" y="18604"/>
                </a:moveTo>
                <a:cubicBezTo>
                  <a:pt x="4256" y="18529"/>
                  <a:pt x="4413" y="18490"/>
                  <a:pt x="4589" y="18455"/>
                </a:cubicBezTo>
                <a:cubicBezTo>
                  <a:pt x="4669" y="18439"/>
                  <a:pt x="4748" y="18437"/>
                  <a:pt x="4812" y="18405"/>
                </a:cubicBezTo>
              </a:path>
              <a:path w="1192" h="5037">
                <a:moveTo>
                  <a:pt x="4713" y="18579"/>
                </a:moveTo>
                <a:cubicBezTo>
                  <a:pt x="4778" y="18525"/>
                  <a:pt x="4806" y="18504"/>
                  <a:pt x="4887" y="18504"/>
                </a:cubicBezTo>
                <a:cubicBezTo>
                  <a:pt x="4876" y="18643"/>
                  <a:pt x="4839" y="18712"/>
                  <a:pt x="4762" y="18827"/>
                </a:cubicBezTo>
                <a:cubicBezTo>
                  <a:pt x="4840" y="18827"/>
                  <a:pt x="4900" y="18774"/>
                  <a:pt x="4961" y="18728"/>
                </a:cubicBezTo>
                <a:cubicBezTo>
                  <a:pt x="4984" y="18705"/>
                  <a:pt x="4988" y="18697"/>
                  <a:pt x="5011" y="18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8120" y="4768920"/>
            <a:ext cx="660600" cy="384120"/>
          </a:xfrm>
          <a:custGeom>
            <a:avLst/>
            <a:gdLst/>
            <a:ahLst/>
            <a:rect l="l" t="t" r="r" b="b"/>
            <a:pathLst>
              <a:path w="1837" h="1067">
                <a:moveTo>
                  <a:pt x="1215" y="14263"/>
                </a:moveTo>
                <a:cubicBezTo>
                  <a:pt x="1215" y="14291"/>
                  <a:pt x="1217" y="14302"/>
                  <a:pt x="1240" y="14312"/>
                </a:cubicBezTo>
              </a:path>
              <a:path w="1837" h="1067">
                <a:moveTo>
                  <a:pt x="3026" y="13271"/>
                </a:moveTo>
                <a:cubicBezTo>
                  <a:pt x="2927" y="13221"/>
                  <a:pt x="2988" y="13385"/>
                  <a:pt x="3001" y="13444"/>
                </a:cubicBezTo>
                <a:cubicBezTo>
                  <a:pt x="3028" y="13403"/>
                  <a:pt x="3043" y="13370"/>
                  <a:pt x="3051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68280" y="5037120"/>
            <a:ext cx="285840" cy="1401840"/>
          </a:xfrm>
          <a:custGeom>
            <a:avLst/>
            <a:gdLst/>
            <a:ahLst/>
            <a:rect l="l" t="t" r="r" b="b"/>
            <a:pathLst>
              <a:path w="795" h="3895">
                <a:moveTo>
                  <a:pt x="3969" y="14784"/>
                </a:moveTo>
                <a:cubicBezTo>
                  <a:pt x="3958" y="14751"/>
                  <a:pt x="3916" y="14744"/>
                  <a:pt x="3870" y="14759"/>
                </a:cubicBezTo>
                <a:cubicBezTo>
                  <a:pt x="3811" y="14779"/>
                  <a:pt x="3781" y="14823"/>
                  <a:pt x="3770" y="14883"/>
                </a:cubicBezTo>
                <a:cubicBezTo>
                  <a:pt x="3762" y="14927"/>
                  <a:pt x="3807" y="15055"/>
                  <a:pt x="3845" y="15081"/>
                </a:cubicBezTo>
                <a:cubicBezTo>
                  <a:pt x="3956" y="15157"/>
                  <a:pt x="4017" y="15047"/>
                  <a:pt x="4043" y="14957"/>
                </a:cubicBezTo>
                <a:cubicBezTo>
                  <a:pt x="4052" y="14925"/>
                  <a:pt x="4016" y="14823"/>
                  <a:pt x="3994" y="14808"/>
                </a:cubicBezTo>
                <a:cubicBezTo>
                  <a:pt x="3969" y="14808"/>
                  <a:pt x="3961" y="14808"/>
                  <a:pt x="3944" y="14808"/>
                </a:cubicBezTo>
              </a:path>
              <a:path w="795" h="3895">
                <a:moveTo>
                  <a:pt x="3894" y="15230"/>
                </a:moveTo>
                <a:cubicBezTo>
                  <a:pt x="3894" y="15167"/>
                  <a:pt x="3915" y="15340"/>
                  <a:pt x="3919" y="15354"/>
                </a:cubicBezTo>
                <a:cubicBezTo>
                  <a:pt x="3944" y="15451"/>
                  <a:pt x="3954" y="15557"/>
                  <a:pt x="3969" y="15652"/>
                </a:cubicBezTo>
                <a:cubicBezTo>
                  <a:pt x="3982" y="15731"/>
                  <a:pt x="3976" y="15799"/>
                  <a:pt x="3994" y="15875"/>
                </a:cubicBezTo>
                <a:cubicBezTo>
                  <a:pt x="3994" y="15883"/>
                  <a:pt x="3994" y="15892"/>
                  <a:pt x="3994" y="15900"/>
                </a:cubicBezTo>
              </a:path>
              <a:path w="795" h="3895">
                <a:moveTo>
                  <a:pt x="3944" y="16197"/>
                </a:moveTo>
                <a:cubicBezTo>
                  <a:pt x="3892" y="16223"/>
                  <a:pt x="3812" y="16260"/>
                  <a:pt x="3795" y="16321"/>
                </a:cubicBezTo>
                <a:cubicBezTo>
                  <a:pt x="3773" y="16400"/>
                  <a:pt x="3802" y="16474"/>
                  <a:pt x="3820" y="16545"/>
                </a:cubicBezTo>
                <a:cubicBezTo>
                  <a:pt x="3827" y="16575"/>
                  <a:pt x="3884" y="16646"/>
                  <a:pt x="3919" y="16644"/>
                </a:cubicBezTo>
                <a:cubicBezTo>
                  <a:pt x="4028" y="16637"/>
                  <a:pt x="4063" y="16566"/>
                  <a:pt x="4068" y="16470"/>
                </a:cubicBezTo>
                <a:cubicBezTo>
                  <a:pt x="4072" y="16392"/>
                  <a:pt x="4018" y="16363"/>
                  <a:pt x="3994" y="16321"/>
                </a:cubicBezTo>
                <a:cubicBezTo>
                  <a:pt x="3976" y="16289"/>
                  <a:pt x="3964" y="16302"/>
                  <a:pt x="3944" y="16272"/>
                </a:cubicBezTo>
              </a:path>
              <a:path w="795" h="3895">
                <a:moveTo>
                  <a:pt x="3522" y="14560"/>
                </a:moveTo>
                <a:cubicBezTo>
                  <a:pt x="3629" y="14560"/>
                  <a:pt x="3740" y="14531"/>
                  <a:pt x="3845" y="14511"/>
                </a:cubicBezTo>
                <a:cubicBezTo>
                  <a:pt x="3928" y="14495"/>
                  <a:pt x="4009" y="14461"/>
                  <a:pt x="4093" y="14461"/>
                </a:cubicBezTo>
              </a:path>
              <a:path w="795" h="3895">
                <a:moveTo>
                  <a:pt x="3621" y="13990"/>
                </a:moveTo>
                <a:cubicBezTo>
                  <a:pt x="3621" y="14108"/>
                  <a:pt x="3652" y="14202"/>
                  <a:pt x="3696" y="14312"/>
                </a:cubicBezTo>
                <a:cubicBezTo>
                  <a:pt x="3704" y="14329"/>
                  <a:pt x="3713" y="14345"/>
                  <a:pt x="3721" y="14362"/>
                </a:cubicBezTo>
              </a:path>
              <a:path w="795" h="3895">
                <a:moveTo>
                  <a:pt x="3894" y="16842"/>
                </a:moveTo>
                <a:cubicBezTo>
                  <a:pt x="3933" y="16814"/>
                  <a:pt x="3993" y="16783"/>
                  <a:pt x="4043" y="16768"/>
                </a:cubicBezTo>
                <a:cubicBezTo>
                  <a:pt x="4071" y="16768"/>
                  <a:pt x="4082" y="16766"/>
                  <a:pt x="4093" y="16743"/>
                </a:cubicBezTo>
                <a:cubicBezTo>
                  <a:pt x="4093" y="16864"/>
                  <a:pt x="4081" y="16972"/>
                  <a:pt x="4068" y="17090"/>
                </a:cubicBezTo>
                <a:cubicBezTo>
                  <a:pt x="4068" y="17107"/>
                  <a:pt x="4068" y="17123"/>
                  <a:pt x="4068" y="17140"/>
                </a:cubicBezTo>
              </a:path>
              <a:path w="795" h="3895">
                <a:moveTo>
                  <a:pt x="3547" y="17289"/>
                </a:moveTo>
                <a:cubicBezTo>
                  <a:pt x="3667" y="17289"/>
                  <a:pt x="3775" y="17282"/>
                  <a:pt x="3894" y="17264"/>
                </a:cubicBezTo>
                <a:cubicBezTo>
                  <a:pt x="4020" y="17245"/>
                  <a:pt x="4138" y="17214"/>
                  <a:pt x="4266" y="17214"/>
                </a:cubicBezTo>
                <a:cubicBezTo>
                  <a:pt x="4291" y="17214"/>
                  <a:pt x="4299" y="17214"/>
                  <a:pt x="4316" y="17214"/>
                </a:cubicBezTo>
              </a:path>
              <a:path w="795" h="3895">
                <a:moveTo>
                  <a:pt x="4018" y="17487"/>
                </a:moveTo>
                <a:cubicBezTo>
                  <a:pt x="4018" y="17547"/>
                  <a:pt x="4075" y="17387"/>
                  <a:pt x="4142" y="17438"/>
                </a:cubicBezTo>
                <a:cubicBezTo>
                  <a:pt x="4229" y="17504"/>
                  <a:pt x="4228" y="17611"/>
                  <a:pt x="4167" y="17686"/>
                </a:cubicBezTo>
                <a:cubicBezTo>
                  <a:pt x="4144" y="17709"/>
                  <a:pt x="4136" y="17720"/>
                  <a:pt x="4142" y="17686"/>
                </a:cubicBezTo>
                <a:cubicBezTo>
                  <a:pt x="4183" y="17665"/>
                  <a:pt x="4297" y="17635"/>
                  <a:pt x="4291" y="17735"/>
                </a:cubicBezTo>
                <a:cubicBezTo>
                  <a:pt x="4287" y="17803"/>
                  <a:pt x="4159" y="17907"/>
                  <a:pt x="4093" y="17884"/>
                </a:cubicBezTo>
                <a:cubicBezTo>
                  <a:pt x="4093" y="17823"/>
                  <a:pt x="4106" y="17781"/>
                  <a:pt x="4142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50080" y="4348080"/>
            <a:ext cx="858960" cy="519120"/>
          </a:xfrm>
          <a:custGeom>
            <a:avLst/>
            <a:gdLst/>
            <a:ahLst/>
            <a:rect l="l" t="t" r="r" b="b"/>
            <a:pathLst>
              <a:path w="2383" h="1440">
                <a:moveTo>
                  <a:pt x="22299" y="12774"/>
                </a:moveTo>
                <a:cubicBezTo>
                  <a:pt x="22172" y="12774"/>
                  <a:pt x="22076" y="12730"/>
                  <a:pt x="22027" y="12849"/>
                </a:cubicBezTo>
                <a:cubicBezTo>
                  <a:pt x="21995" y="12928"/>
                  <a:pt x="21950" y="13017"/>
                  <a:pt x="21927" y="13097"/>
                </a:cubicBezTo>
                <a:cubicBezTo>
                  <a:pt x="21991" y="13081"/>
                  <a:pt x="22075" y="13046"/>
                  <a:pt x="22151" y="13072"/>
                </a:cubicBezTo>
                <a:cubicBezTo>
                  <a:pt x="22328" y="13132"/>
                  <a:pt x="22233" y="13347"/>
                  <a:pt x="22101" y="13395"/>
                </a:cubicBezTo>
                <a:cubicBezTo>
                  <a:pt x="21982" y="13438"/>
                  <a:pt x="21852" y="13419"/>
                  <a:pt x="21828" y="13370"/>
                </a:cubicBezTo>
              </a:path>
              <a:path w="2383" h="1440">
                <a:moveTo>
                  <a:pt x="22523" y="13519"/>
                </a:moveTo>
                <a:cubicBezTo>
                  <a:pt x="22567" y="13334"/>
                  <a:pt x="22587" y="13172"/>
                  <a:pt x="22572" y="12973"/>
                </a:cubicBezTo>
                <a:cubicBezTo>
                  <a:pt x="22565" y="12873"/>
                  <a:pt x="22540" y="12772"/>
                  <a:pt x="22523" y="12675"/>
                </a:cubicBezTo>
                <a:cubicBezTo>
                  <a:pt x="22614" y="12660"/>
                  <a:pt x="22895" y="12700"/>
                  <a:pt x="23019" y="12700"/>
                </a:cubicBezTo>
                <a:cubicBezTo>
                  <a:pt x="23312" y="12700"/>
                  <a:pt x="23599" y="12664"/>
                  <a:pt x="23887" y="12700"/>
                </a:cubicBezTo>
                <a:cubicBezTo>
                  <a:pt x="23895" y="12700"/>
                  <a:pt x="23904" y="12700"/>
                  <a:pt x="23912" y="12700"/>
                </a:cubicBezTo>
              </a:path>
              <a:path w="2383" h="1440">
                <a:moveTo>
                  <a:pt x="22994" y="12998"/>
                </a:moveTo>
                <a:cubicBezTo>
                  <a:pt x="22945" y="12925"/>
                  <a:pt x="23184" y="12980"/>
                  <a:pt x="23242" y="12973"/>
                </a:cubicBezTo>
                <a:cubicBezTo>
                  <a:pt x="23316" y="12954"/>
                  <a:pt x="23323" y="12946"/>
                  <a:pt x="23366" y="12948"/>
                </a:cubicBezTo>
                <a:cubicBezTo>
                  <a:pt x="23314" y="13106"/>
                  <a:pt x="23239" y="13291"/>
                  <a:pt x="23168" y="13444"/>
                </a:cubicBezTo>
                <a:cubicBezTo>
                  <a:pt x="23145" y="13467"/>
                  <a:pt x="23137" y="13471"/>
                  <a:pt x="23143" y="13494"/>
                </a:cubicBezTo>
              </a:path>
              <a:path w="2383" h="1440">
                <a:moveTo>
                  <a:pt x="21530" y="12650"/>
                </a:moveTo>
                <a:cubicBezTo>
                  <a:pt x="21567" y="12635"/>
                  <a:pt x="21579" y="12603"/>
                  <a:pt x="21654" y="12626"/>
                </a:cubicBezTo>
                <a:cubicBezTo>
                  <a:pt x="22033" y="12743"/>
                  <a:pt x="22388" y="12980"/>
                  <a:pt x="22746" y="13146"/>
                </a:cubicBezTo>
                <a:cubicBezTo>
                  <a:pt x="22973" y="13251"/>
                  <a:pt x="23241" y="13371"/>
                  <a:pt x="23490" y="13419"/>
                </a:cubicBezTo>
                <a:cubicBezTo>
                  <a:pt x="23539" y="13429"/>
                  <a:pt x="23539" y="13429"/>
                  <a:pt x="23564" y="13444"/>
                </a:cubicBezTo>
              </a:path>
              <a:path w="2383" h="1440">
                <a:moveTo>
                  <a:pt x="23465" y="12526"/>
                </a:moveTo>
                <a:cubicBezTo>
                  <a:pt x="23477" y="12516"/>
                  <a:pt x="23574" y="12446"/>
                  <a:pt x="23589" y="12427"/>
                </a:cubicBezTo>
                <a:cubicBezTo>
                  <a:pt x="23633" y="12340"/>
                  <a:pt x="23640" y="12317"/>
                  <a:pt x="23688" y="12278"/>
                </a:cubicBezTo>
                <a:cubicBezTo>
                  <a:pt x="23433" y="12467"/>
                  <a:pt x="23163" y="12687"/>
                  <a:pt x="22895" y="12874"/>
                </a:cubicBezTo>
                <a:cubicBezTo>
                  <a:pt x="22571" y="13100"/>
                  <a:pt x="22225" y="13331"/>
                  <a:pt x="21878" y="13519"/>
                </a:cubicBezTo>
                <a:cubicBezTo>
                  <a:pt x="21870" y="13519"/>
                  <a:pt x="21861" y="13519"/>
                  <a:pt x="21853" y="13519"/>
                </a:cubicBezTo>
              </a:path>
              <a:path w="2383" h="1440">
                <a:moveTo>
                  <a:pt x="23242" y="12105"/>
                </a:moveTo>
                <a:cubicBezTo>
                  <a:pt x="23242" y="11999"/>
                  <a:pt x="23174" y="12252"/>
                  <a:pt x="23143" y="12353"/>
                </a:cubicBezTo>
                <a:cubicBezTo>
                  <a:pt x="23123" y="12416"/>
                  <a:pt x="23093" y="12465"/>
                  <a:pt x="23093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xamples of writing fractions as a deci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1:  Write 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2:  Write 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Notice with the second one that we must divide since 8 is not a factor of 10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29000" y="1905120"/>
          <a:ext cx="37152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37152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429000" y="3886200"/>
          <a:ext cx="2970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886200"/>
                    <a:ext cx="297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054920" y="2411280"/>
            <a:ext cx="803160" cy="17640"/>
          </a:xfrm>
          <a:custGeom>
            <a:avLst/>
            <a:gdLst/>
            <a:ahLst/>
            <a:rect l="l" t="t" r="r" b="b"/>
            <a:pathLst>
              <a:path w="2233" h="51">
                <a:moveTo>
                  <a:pt x="19596" y="6722"/>
                </a:moveTo>
                <a:cubicBezTo>
                  <a:pt x="19694" y="6697"/>
                  <a:pt x="19726" y="6689"/>
                  <a:pt x="19794" y="6697"/>
                </a:cubicBezTo>
              </a:path>
              <a:path w="2233" h="51">
                <a:moveTo>
                  <a:pt x="19794" y="6697"/>
                </a:moveTo>
                <a:lnTo>
                  <a:pt x="19794" y="6697"/>
                </a:lnTo>
              </a:path>
              <a:path w="2233" h="51">
                <a:moveTo>
                  <a:pt x="21580" y="6747"/>
                </a:moveTo>
                <a:cubicBezTo>
                  <a:pt x="21666" y="6720"/>
                  <a:pt x="21739" y="6704"/>
                  <a:pt x="21828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13320" y="2081160"/>
            <a:ext cx="768600" cy="588960"/>
          </a:xfrm>
          <a:custGeom>
            <a:avLst/>
            <a:gdLst/>
            <a:ahLst/>
            <a:rect l="l" t="t" r="r" b="b"/>
            <a:pathLst>
              <a:path w="2134" h="1639">
                <a:moveTo>
                  <a:pt x="17760" y="6003"/>
                </a:moveTo>
                <a:cubicBezTo>
                  <a:pt x="17727" y="6047"/>
                  <a:pt x="17735" y="6069"/>
                  <a:pt x="17735" y="6127"/>
                </a:cubicBezTo>
                <a:cubicBezTo>
                  <a:pt x="17735" y="6226"/>
                  <a:pt x="17813" y="6191"/>
                  <a:pt x="17884" y="6176"/>
                </a:cubicBezTo>
                <a:cubicBezTo>
                  <a:pt x="17968" y="6156"/>
                  <a:pt x="17987" y="6154"/>
                  <a:pt x="18033" y="6127"/>
                </a:cubicBezTo>
              </a:path>
              <a:path w="2134" h="1639">
                <a:moveTo>
                  <a:pt x="17959" y="5779"/>
                </a:moveTo>
                <a:cubicBezTo>
                  <a:pt x="17959" y="6035"/>
                  <a:pt x="17918" y="6329"/>
                  <a:pt x="17983" y="6573"/>
                </a:cubicBezTo>
              </a:path>
              <a:path w="2134" h="1639">
                <a:moveTo>
                  <a:pt x="17537" y="6672"/>
                </a:moveTo>
                <a:cubicBezTo>
                  <a:pt x="17726" y="6647"/>
                  <a:pt x="17928" y="6602"/>
                  <a:pt x="18107" y="6623"/>
                </a:cubicBezTo>
                <a:cubicBezTo>
                  <a:pt x="18115" y="6623"/>
                  <a:pt x="18124" y="6623"/>
                  <a:pt x="18132" y="6623"/>
                </a:cubicBezTo>
              </a:path>
              <a:path w="2134" h="1639">
                <a:moveTo>
                  <a:pt x="18083" y="6846"/>
                </a:moveTo>
                <a:cubicBezTo>
                  <a:pt x="18057" y="6849"/>
                  <a:pt x="17923" y="6856"/>
                  <a:pt x="17909" y="6871"/>
                </a:cubicBezTo>
                <a:cubicBezTo>
                  <a:pt x="17865" y="6915"/>
                  <a:pt x="17834" y="7055"/>
                  <a:pt x="17810" y="7119"/>
                </a:cubicBezTo>
                <a:cubicBezTo>
                  <a:pt x="17873" y="7151"/>
                  <a:pt x="17963" y="7061"/>
                  <a:pt x="18058" y="7094"/>
                </a:cubicBezTo>
                <a:cubicBezTo>
                  <a:pt x="18214" y="7149"/>
                  <a:pt x="18099" y="7349"/>
                  <a:pt x="18008" y="7392"/>
                </a:cubicBezTo>
                <a:cubicBezTo>
                  <a:pt x="17884" y="7417"/>
                  <a:pt x="17843" y="7425"/>
                  <a:pt x="17760" y="7392"/>
                </a:cubicBezTo>
              </a:path>
              <a:path w="2134" h="1639">
                <a:moveTo>
                  <a:pt x="19496" y="6573"/>
                </a:moveTo>
                <a:cubicBezTo>
                  <a:pt x="19588" y="6573"/>
                  <a:pt x="19635" y="6552"/>
                  <a:pt x="19670" y="6623"/>
                </a:cubicBezTo>
              </a:path>
              <a:path w="2134" h="1639">
                <a:moveTo>
                  <a:pt x="18306" y="6573"/>
                </a:moveTo>
                <a:cubicBezTo>
                  <a:pt x="18330" y="6634"/>
                  <a:pt x="18400" y="6663"/>
                  <a:pt x="18430" y="6722"/>
                </a:cubicBezTo>
                <a:cubicBezTo>
                  <a:pt x="18430" y="6730"/>
                  <a:pt x="18430" y="6739"/>
                  <a:pt x="18430" y="6747"/>
                </a:cubicBezTo>
              </a:path>
              <a:path w="2134" h="1639">
                <a:moveTo>
                  <a:pt x="18430" y="6548"/>
                </a:moveTo>
                <a:cubicBezTo>
                  <a:pt x="18384" y="6611"/>
                  <a:pt x="18302" y="6724"/>
                  <a:pt x="18281" y="6796"/>
                </a:cubicBezTo>
                <a:cubicBezTo>
                  <a:pt x="18281" y="6846"/>
                  <a:pt x="18281" y="6863"/>
                  <a:pt x="18331" y="6846"/>
                </a:cubicBezTo>
              </a:path>
              <a:path w="2134" h="1639">
                <a:moveTo>
                  <a:pt x="18752" y="6796"/>
                </a:moveTo>
                <a:cubicBezTo>
                  <a:pt x="18777" y="6796"/>
                  <a:pt x="18802" y="6796"/>
                  <a:pt x="18827" y="6796"/>
                </a:cubicBezTo>
                <a:cubicBezTo>
                  <a:pt x="18799" y="6889"/>
                  <a:pt x="18743" y="6966"/>
                  <a:pt x="18678" y="7045"/>
                </a:cubicBezTo>
                <a:cubicBezTo>
                  <a:pt x="18766" y="7045"/>
                  <a:pt x="18821" y="7047"/>
                  <a:pt x="18901" y="7020"/>
                </a:cubicBezTo>
              </a:path>
              <a:path w="2134" h="1639">
                <a:moveTo>
                  <a:pt x="19050" y="6821"/>
                </a:moveTo>
                <a:cubicBezTo>
                  <a:pt x="19008" y="6898"/>
                  <a:pt x="18927" y="6987"/>
                  <a:pt x="19050" y="7045"/>
                </a:cubicBezTo>
                <a:cubicBezTo>
                  <a:pt x="19118" y="7077"/>
                  <a:pt x="19209" y="6990"/>
                  <a:pt x="19174" y="6921"/>
                </a:cubicBezTo>
                <a:cubicBezTo>
                  <a:pt x="19146" y="6893"/>
                  <a:pt x="19133" y="6884"/>
                  <a:pt x="19100" y="6896"/>
                </a:cubicBezTo>
              </a:path>
              <a:path w="2134" h="1639">
                <a:moveTo>
                  <a:pt x="18752" y="6672"/>
                </a:moveTo>
                <a:cubicBezTo>
                  <a:pt x="18727" y="6646"/>
                  <a:pt x="18916" y="6630"/>
                  <a:pt x="18976" y="6623"/>
                </a:cubicBezTo>
                <a:cubicBezTo>
                  <a:pt x="19017" y="6623"/>
                  <a:pt x="19033" y="6615"/>
                  <a:pt x="19025" y="6648"/>
                </a:cubicBezTo>
              </a:path>
              <a:path w="2134" h="1639">
                <a:moveTo>
                  <a:pt x="18703" y="6350"/>
                </a:moveTo>
                <a:cubicBezTo>
                  <a:pt x="18715" y="6314"/>
                  <a:pt x="18740" y="6328"/>
                  <a:pt x="18777" y="6300"/>
                </a:cubicBezTo>
                <a:cubicBezTo>
                  <a:pt x="18777" y="6415"/>
                  <a:pt x="18732" y="6430"/>
                  <a:pt x="18678" y="6524"/>
                </a:cubicBezTo>
                <a:cubicBezTo>
                  <a:pt x="18678" y="6532"/>
                  <a:pt x="18678" y="6540"/>
                  <a:pt x="18678" y="6548"/>
                </a:cubicBezTo>
                <a:cubicBezTo>
                  <a:pt x="18745" y="6524"/>
                  <a:pt x="18814" y="6520"/>
                  <a:pt x="18876" y="6499"/>
                </a:cubicBezTo>
                <a:cubicBezTo>
                  <a:pt x="18920" y="6477"/>
                  <a:pt x="18932" y="6474"/>
                  <a:pt x="18951" y="6449"/>
                </a:cubicBezTo>
              </a:path>
              <a:path w="2134" h="1639">
                <a:moveTo>
                  <a:pt x="19075" y="6226"/>
                </a:moveTo>
                <a:cubicBezTo>
                  <a:pt x="19028" y="6284"/>
                  <a:pt x="19009" y="6328"/>
                  <a:pt x="19000" y="6400"/>
                </a:cubicBezTo>
                <a:cubicBezTo>
                  <a:pt x="19108" y="6382"/>
                  <a:pt x="19137" y="6371"/>
                  <a:pt x="19124" y="6276"/>
                </a:cubicBezTo>
              </a:path>
              <a:path w="2134" h="1639">
                <a:moveTo>
                  <a:pt x="18479" y="6350"/>
                </a:moveTo>
                <a:cubicBezTo>
                  <a:pt x="18527" y="6422"/>
                  <a:pt x="18527" y="6493"/>
                  <a:pt x="18529" y="6623"/>
                </a:cubicBezTo>
                <a:cubicBezTo>
                  <a:pt x="18532" y="6816"/>
                  <a:pt x="18512" y="7002"/>
                  <a:pt x="18504" y="7193"/>
                </a:cubicBezTo>
                <a:cubicBezTo>
                  <a:pt x="18504" y="7210"/>
                  <a:pt x="18504" y="7226"/>
                  <a:pt x="18504" y="7243"/>
                </a:cubicBezTo>
                <a:cubicBezTo>
                  <a:pt x="18571" y="7276"/>
                  <a:pt x="18619" y="7260"/>
                  <a:pt x="18728" y="7243"/>
                </a:cubicBezTo>
                <a:cubicBezTo>
                  <a:pt x="18925" y="7213"/>
                  <a:pt x="19125" y="7179"/>
                  <a:pt x="19323" y="7169"/>
                </a:cubicBezTo>
                <a:cubicBezTo>
                  <a:pt x="19331" y="7169"/>
                  <a:pt x="19340" y="7169"/>
                  <a:pt x="19348" y="7169"/>
                </a:cubicBezTo>
                <a:cubicBezTo>
                  <a:pt x="19348" y="7055"/>
                  <a:pt x="19319" y="6930"/>
                  <a:pt x="19323" y="6821"/>
                </a:cubicBezTo>
                <a:cubicBezTo>
                  <a:pt x="19331" y="6601"/>
                  <a:pt x="19327" y="6396"/>
                  <a:pt x="19323" y="6176"/>
                </a:cubicBezTo>
                <a:cubicBezTo>
                  <a:pt x="19320" y="6039"/>
                  <a:pt x="19332" y="5971"/>
                  <a:pt x="19273" y="5854"/>
                </a:cubicBezTo>
                <a:cubicBezTo>
                  <a:pt x="19250" y="5831"/>
                  <a:pt x="19242" y="5827"/>
                  <a:pt x="19248" y="5804"/>
                </a:cubicBezTo>
                <a:cubicBezTo>
                  <a:pt x="19106" y="5833"/>
                  <a:pt x="19020" y="5920"/>
                  <a:pt x="18901" y="6003"/>
                </a:cubicBezTo>
                <a:cubicBezTo>
                  <a:pt x="18772" y="6093"/>
                  <a:pt x="18569" y="6215"/>
                  <a:pt x="18479" y="6350"/>
                </a:cubicBezTo>
                <a:cubicBezTo>
                  <a:pt x="18438" y="6412"/>
                  <a:pt x="18429" y="6487"/>
                  <a:pt x="18380" y="6548"/>
                </a:cubicBezTo>
                <a:cubicBezTo>
                  <a:pt x="18330" y="6610"/>
                  <a:pt x="18319" y="6614"/>
                  <a:pt x="18430" y="6573"/>
                </a:cubicBezTo>
                <a:cubicBezTo>
                  <a:pt x="18500" y="6547"/>
                  <a:pt x="18469" y="6558"/>
                  <a:pt x="18529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86760" y="2116080"/>
            <a:ext cx="1268280" cy="519120"/>
          </a:xfrm>
          <a:custGeom>
            <a:avLst/>
            <a:gdLst/>
            <a:ahLst/>
            <a:rect l="l" t="t" r="r" b="b"/>
            <a:pathLst>
              <a:path w="3523" h="1439">
                <a:moveTo>
                  <a:pt x="20489" y="6921"/>
                </a:moveTo>
                <a:cubicBezTo>
                  <a:pt x="20464" y="7017"/>
                  <a:pt x="20422" y="7140"/>
                  <a:pt x="20389" y="7243"/>
                </a:cubicBezTo>
                <a:cubicBezTo>
                  <a:pt x="20370" y="7284"/>
                  <a:pt x="20362" y="7290"/>
                  <a:pt x="20365" y="7317"/>
                </a:cubicBezTo>
              </a:path>
              <a:path w="3523" h="1439">
                <a:moveTo>
                  <a:pt x="20712" y="6896"/>
                </a:moveTo>
                <a:cubicBezTo>
                  <a:pt x="20653" y="7022"/>
                  <a:pt x="20581" y="7140"/>
                  <a:pt x="20613" y="7268"/>
                </a:cubicBezTo>
                <a:cubicBezTo>
                  <a:pt x="20671" y="7254"/>
                  <a:pt x="20909" y="7184"/>
                  <a:pt x="20861" y="7069"/>
                </a:cubicBezTo>
                <a:cubicBezTo>
                  <a:pt x="20816" y="7025"/>
                  <a:pt x="20806" y="7009"/>
                  <a:pt x="20762" y="7020"/>
                </a:cubicBezTo>
              </a:path>
              <a:path w="3523" h="1439">
                <a:moveTo>
                  <a:pt x="21084" y="6921"/>
                </a:moveTo>
                <a:cubicBezTo>
                  <a:pt x="20992" y="7047"/>
                  <a:pt x="20956" y="7111"/>
                  <a:pt x="21034" y="7243"/>
                </a:cubicBezTo>
                <a:cubicBezTo>
                  <a:pt x="21128" y="7220"/>
                  <a:pt x="21297" y="7131"/>
                  <a:pt x="21158" y="7020"/>
                </a:cubicBezTo>
                <a:cubicBezTo>
                  <a:pt x="21062" y="6971"/>
                  <a:pt x="21031" y="6955"/>
                  <a:pt x="20960" y="6945"/>
                </a:cubicBezTo>
              </a:path>
              <a:path w="3523" h="1439">
                <a:moveTo>
                  <a:pt x="20241" y="6772"/>
                </a:moveTo>
                <a:cubicBezTo>
                  <a:pt x="20479" y="6692"/>
                  <a:pt x="20715" y="6679"/>
                  <a:pt x="20960" y="6623"/>
                </a:cubicBezTo>
                <a:cubicBezTo>
                  <a:pt x="21093" y="6593"/>
                  <a:pt x="21118" y="6573"/>
                  <a:pt x="21233" y="6573"/>
                </a:cubicBezTo>
              </a:path>
              <a:path w="3523" h="1439">
                <a:moveTo>
                  <a:pt x="20414" y="6028"/>
                </a:moveTo>
                <a:cubicBezTo>
                  <a:pt x="20356" y="6036"/>
                  <a:pt x="20313" y="6050"/>
                  <a:pt x="20265" y="6077"/>
                </a:cubicBezTo>
                <a:cubicBezTo>
                  <a:pt x="20310" y="6189"/>
                  <a:pt x="20476" y="6224"/>
                  <a:pt x="20513" y="6350"/>
                </a:cubicBezTo>
                <a:cubicBezTo>
                  <a:pt x="20543" y="6451"/>
                  <a:pt x="20375" y="6489"/>
                  <a:pt x="20315" y="6499"/>
                </a:cubicBezTo>
                <a:cubicBezTo>
                  <a:pt x="20326" y="6318"/>
                  <a:pt x="20370" y="6208"/>
                  <a:pt x="20464" y="6052"/>
                </a:cubicBezTo>
              </a:path>
              <a:path w="3523" h="1439">
                <a:moveTo>
                  <a:pt x="20762" y="5879"/>
                </a:moveTo>
                <a:cubicBezTo>
                  <a:pt x="20730" y="5991"/>
                  <a:pt x="20648" y="6124"/>
                  <a:pt x="20687" y="6251"/>
                </a:cubicBezTo>
                <a:cubicBezTo>
                  <a:pt x="20704" y="6267"/>
                  <a:pt x="20720" y="6284"/>
                  <a:pt x="20737" y="6300"/>
                </a:cubicBezTo>
                <a:cubicBezTo>
                  <a:pt x="20910" y="6266"/>
                  <a:pt x="20930" y="6173"/>
                  <a:pt x="20960" y="6003"/>
                </a:cubicBezTo>
                <a:cubicBezTo>
                  <a:pt x="20970" y="5946"/>
                  <a:pt x="20945" y="5938"/>
                  <a:pt x="20910" y="5904"/>
                </a:cubicBezTo>
              </a:path>
              <a:path w="3523" h="1439">
                <a:moveTo>
                  <a:pt x="21481" y="6573"/>
                </a:moveTo>
                <a:cubicBezTo>
                  <a:pt x="21573" y="6573"/>
                  <a:pt x="21645" y="6561"/>
                  <a:pt x="21729" y="6548"/>
                </a:cubicBezTo>
                <a:cubicBezTo>
                  <a:pt x="21746" y="6548"/>
                  <a:pt x="21762" y="6548"/>
                  <a:pt x="21779" y="6548"/>
                </a:cubicBezTo>
              </a:path>
              <a:path w="3523" h="1439">
                <a:moveTo>
                  <a:pt x="22275" y="6375"/>
                </a:moveTo>
                <a:cubicBezTo>
                  <a:pt x="22209" y="6424"/>
                  <a:pt x="22199" y="6483"/>
                  <a:pt x="22175" y="6573"/>
                </a:cubicBezTo>
                <a:cubicBezTo>
                  <a:pt x="22154" y="6650"/>
                  <a:pt x="22103" y="6836"/>
                  <a:pt x="22250" y="6846"/>
                </a:cubicBezTo>
                <a:cubicBezTo>
                  <a:pt x="22377" y="6854"/>
                  <a:pt x="22527" y="6702"/>
                  <a:pt x="22572" y="6598"/>
                </a:cubicBezTo>
                <a:cubicBezTo>
                  <a:pt x="22601" y="6531"/>
                  <a:pt x="22535" y="6419"/>
                  <a:pt x="22498" y="6375"/>
                </a:cubicBezTo>
                <a:cubicBezTo>
                  <a:pt x="22487" y="6362"/>
                  <a:pt x="22384" y="6315"/>
                  <a:pt x="22374" y="6325"/>
                </a:cubicBezTo>
                <a:cubicBezTo>
                  <a:pt x="22366" y="6342"/>
                  <a:pt x="22357" y="6358"/>
                  <a:pt x="22349" y="6375"/>
                </a:cubicBezTo>
              </a:path>
              <a:path w="3523" h="1439">
                <a:moveTo>
                  <a:pt x="22796" y="6648"/>
                </a:moveTo>
                <a:cubicBezTo>
                  <a:pt x="22771" y="6664"/>
                  <a:pt x="22738" y="6729"/>
                  <a:pt x="22721" y="6772"/>
                </a:cubicBezTo>
                <a:cubicBezTo>
                  <a:pt x="22756" y="6752"/>
                  <a:pt x="22837" y="6719"/>
                  <a:pt x="22771" y="6697"/>
                </a:cubicBezTo>
              </a:path>
              <a:path w="3523" h="1439">
                <a:moveTo>
                  <a:pt x="23192" y="6226"/>
                </a:moveTo>
                <a:cubicBezTo>
                  <a:pt x="23192" y="6144"/>
                  <a:pt x="23163" y="6141"/>
                  <a:pt x="23068" y="6127"/>
                </a:cubicBezTo>
                <a:cubicBezTo>
                  <a:pt x="22982" y="6115"/>
                  <a:pt x="22976" y="6145"/>
                  <a:pt x="22920" y="6201"/>
                </a:cubicBezTo>
                <a:cubicBezTo>
                  <a:pt x="22995" y="6332"/>
                  <a:pt x="23126" y="6416"/>
                  <a:pt x="23217" y="6548"/>
                </a:cubicBezTo>
                <a:cubicBezTo>
                  <a:pt x="23225" y="6565"/>
                  <a:pt x="23234" y="6581"/>
                  <a:pt x="23242" y="6598"/>
                </a:cubicBezTo>
                <a:cubicBezTo>
                  <a:pt x="23211" y="6644"/>
                  <a:pt x="23097" y="6703"/>
                  <a:pt x="23044" y="6623"/>
                </a:cubicBezTo>
                <a:cubicBezTo>
                  <a:pt x="22997" y="6552"/>
                  <a:pt x="23064" y="6371"/>
                  <a:pt x="23093" y="6300"/>
                </a:cubicBezTo>
                <a:cubicBezTo>
                  <a:pt x="23113" y="6260"/>
                  <a:pt x="23122" y="6254"/>
                  <a:pt x="23118" y="6226"/>
                </a:cubicBezTo>
              </a:path>
              <a:path w="3523" h="1439">
                <a:moveTo>
                  <a:pt x="23515" y="6152"/>
                </a:moveTo>
                <a:cubicBezTo>
                  <a:pt x="23466" y="6248"/>
                  <a:pt x="23375" y="6439"/>
                  <a:pt x="23465" y="6548"/>
                </a:cubicBezTo>
                <a:cubicBezTo>
                  <a:pt x="23552" y="6654"/>
                  <a:pt x="23713" y="6460"/>
                  <a:pt x="23738" y="6400"/>
                </a:cubicBezTo>
                <a:cubicBezTo>
                  <a:pt x="23778" y="6303"/>
                  <a:pt x="23776" y="6211"/>
                  <a:pt x="23713" y="6152"/>
                </a:cubicBezTo>
                <a:cubicBezTo>
                  <a:pt x="23655" y="6098"/>
                  <a:pt x="23661" y="6102"/>
                  <a:pt x="23589" y="6102"/>
                </a:cubicBezTo>
              </a:path>
              <a:path w="3523" h="1439">
                <a:moveTo>
                  <a:pt x="22746" y="6722"/>
                </a:moveTo>
                <a:cubicBezTo>
                  <a:pt x="22735" y="6690"/>
                  <a:pt x="22688" y="6754"/>
                  <a:pt x="22721" y="6747"/>
                </a:cubicBezTo>
                <a:cubicBezTo>
                  <a:pt x="22767" y="6738"/>
                  <a:pt x="22770" y="6650"/>
                  <a:pt x="22746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91160" y="3679920"/>
            <a:ext cx="1287720" cy="606240"/>
          </a:xfrm>
          <a:custGeom>
            <a:avLst/>
            <a:gdLst/>
            <a:ahLst/>
            <a:rect l="l" t="t" r="r" b="b"/>
            <a:pathLst>
              <a:path w="3573" h="1687">
                <a:moveTo>
                  <a:pt x="18678" y="10889"/>
                </a:moveTo>
                <a:cubicBezTo>
                  <a:pt x="18718" y="10869"/>
                  <a:pt x="18619" y="10911"/>
                  <a:pt x="18579" y="10988"/>
                </a:cubicBezTo>
                <a:cubicBezTo>
                  <a:pt x="18513" y="11115"/>
                  <a:pt x="18461" y="11270"/>
                  <a:pt x="18529" y="11410"/>
                </a:cubicBezTo>
                <a:cubicBezTo>
                  <a:pt x="18586" y="11527"/>
                  <a:pt x="18685" y="11527"/>
                  <a:pt x="18777" y="11460"/>
                </a:cubicBezTo>
                <a:cubicBezTo>
                  <a:pt x="18873" y="11391"/>
                  <a:pt x="18918" y="11272"/>
                  <a:pt x="18926" y="11162"/>
                </a:cubicBezTo>
                <a:cubicBezTo>
                  <a:pt x="18935" y="11038"/>
                  <a:pt x="18874" y="11069"/>
                  <a:pt x="18802" y="10988"/>
                </a:cubicBezTo>
                <a:cubicBezTo>
                  <a:pt x="18756" y="10936"/>
                  <a:pt x="18730" y="10929"/>
                  <a:pt x="18653" y="10914"/>
                </a:cubicBezTo>
              </a:path>
              <a:path w="3573" h="1687">
                <a:moveTo>
                  <a:pt x="18107" y="11609"/>
                </a:moveTo>
                <a:cubicBezTo>
                  <a:pt x="18233" y="11615"/>
                  <a:pt x="18355" y="11614"/>
                  <a:pt x="18479" y="11633"/>
                </a:cubicBezTo>
                <a:cubicBezTo>
                  <a:pt x="18566" y="11646"/>
                  <a:pt x="18638" y="11656"/>
                  <a:pt x="18728" y="11658"/>
                </a:cubicBezTo>
                <a:cubicBezTo>
                  <a:pt x="18810" y="11660"/>
                  <a:pt x="18883" y="11671"/>
                  <a:pt x="18951" y="11683"/>
                </a:cubicBezTo>
                <a:cubicBezTo>
                  <a:pt x="19029" y="11697"/>
                  <a:pt x="19123" y="11724"/>
                  <a:pt x="19199" y="11733"/>
                </a:cubicBezTo>
                <a:cubicBezTo>
                  <a:pt x="19283" y="11743"/>
                  <a:pt x="19364" y="11745"/>
                  <a:pt x="19447" y="11757"/>
                </a:cubicBezTo>
                <a:cubicBezTo>
                  <a:pt x="19552" y="11772"/>
                  <a:pt x="19664" y="11787"/>
                  <a:pt x="19769" y="11807"/>
                </a:cubicBezTo>
                <a:cubicBezTo>
                  <a:pt x="19884" y="11829"/>
                  <a:pt x="20002" y="11873"/>
                  <a:pt x="20117" y="11881"/>
                </a:cubicBezTo>
                <a:cubicBezTo>
                  <a:pt x="20229" y="11889"/>
                  <a:pt x="20354" y="11915"/>
                  <a:pt x="20464" y="11906"/>
                </a:cubicBezTo>
                <a:cubicBezTo>
                  <a:pt x="20602" y="11895"/>
                  <a:pt x="20754" y="11873"/>
                  <a:pt x="20886" y="11832"/>
                </a:cubicBezTo>
                <a:cubicBezTo>
                  <a:pt x="21011" y="11794"/>
                  <a:pt x="21118" y="11758"/>
                  <a:pt x="21208" y="11683"/>
                </a:cubicBezTo>
                <a:cubicBezTo>
                  <a:pt x="21312" y="11597"/>
                  <a:pt x="21420" y="11509"/>
                  <a:pt x="21481" y="11385"/>
                </a:cubicBezTo>
                <a:cubicBezTo>
                  <a:pt x="21526" y="11292"/>
                  <a:pt x="21590" y="11167"/>
                  <a:pt x="21605" y="11063"/>
                </a:cubicBezTo>
                <a:cubicBezTo>
                  <a:pt x="21620" y="10953"/>
                  <a:pt x="21614" y="10820"/>
                  <a:pt x="21580" y="10716"/>
                </a:cubicBezTo>
                <a:cubicBezTo>
                  <a:pt x="21561" y="10658"/>
                  <a:pt x="21454" y="10546"/>
                  <a:pt x="21406" y="10517"/>
                </a:cubicBezTo>
                <a:cubicBezTo>
                  <a:pt x="21277" y="10440"/>
                  <a:pt x="21103" y="10388"/>
                  <a:pt x="20960" y="10344"/>
                </a:cubicBezTo>
                <a:cubicBezTo>
                  <a:pt x="20747" y="10278"/>
                  <a:pt x="20489" y="10267"/>
                  <a:pt x="20265" y="10244"/>
                </a:cubicBezTo>
                <a:cubicBezTo>
                  <a:pt x="20143" y="10232"/>
                  <a:pt x="20015" y="10223"/>
                  <a:pt x="19893" y="10220"/>
                </a:cubicBezTo>
                <a:cubicBezTo>
                  <a:pt x="19691" y="10215"/>
                  <a:pt x="19515" y="10272"/>
                  <a:pt x="19323" y="10319"/>
                </a:cubicBezTo>
                <a:cubicBezTo>
                  <a:pt x="19158" y="10360"/>
                  <a:pt x="19035" y="10379"/>
                  <a:pt x="18901" y="10492"/>
                </a:cubicBezTo>
                <a:cubicBezTo>
                  <a:pt x="18795" y="10581"/>
                  <a:pt x="18680" y="10643"/>
                  <a:pt x="18579" y="10740"/>
                </a:cubicBezTo>
                <a:cubicBezTo>
                  <a:pt x="18519" y="10798"/>
                  <a:pt x="18453" y="10840"/>
                  <a:pt x="18380" y="10889"/>
                </a:cubicBezTo>
                <a:cubicBezTo>
                  <a:pt x="18292" y="10948"/>
                  <a:pt x="18254" y="10988"/>
                  <a:pt x="18182" y="11063"/>
                </a:cubicBezTo>
                <a:cubicBezTo>
                  <a:pt x="18130" y="11117"/>
                  <a:pt x="18081" y="11163"/>
                  <a:pt x="18058" y="11237"/>
                </a:cubicBezTo>
                <a:cubicBezTo>
                  <a:pt x="18025" y="11342"/>
                  <a:pt x="18044" y="11433"/>
                  <a:pt x="18083" y="11534"/>
                </a:cubicBezTo>
                <a:cubicBezTo>
                  <a:pt x="18102" y="11584"/>
                  <a:pt x="18124" y="11624"/>
                  <a:pt x="18182" y="11658"/>
                </a:cubicBezTo>
                <a:cubicBezTo>
                  <a:pt x="18251" y="11698"/>
                  <a:pt x="18331" y="11679"/>
                  <a:pt x="18405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6320" y="5268960"/>
            <a:ext cx="581040" cy="347760"/>
          </a:xfrm>
          <a:custGeom>
            <a:avLst/>
            <a:gdLst/>
            <a:ahLst/>
            <a:rect l="l" t="t" r="r" b="b"/>
            <a:pathLst>
              <a:path w="1613" h="968">
                <a:moveTo>
                  <a:pt x="20712" y="15007"/>
                </a:moveTo>
                <a:cubicBezTo>
                  <a:pt x="20754" y="15039"/>
                  <a:pt x="20780" y="15032"/>
                  <a:pt x="20836" y="15032"/>
                </a:cubicBezTo>
                <a:cubicBezTo>
                  <a:pt x="20844" y="15032"/>
                  <a:pt x="20853" y="15032"/>
                  <a:pt x="20861" y="15032"/>
                </a:cubicBezTo>
              </a:path>
              <a:path w="1613" h="968">
                <a:moveTo>
                  <a:pt x="21034" y="14908"/>
                </a:moveTo>
                <a:cubicBezTo>
                  <a:pt x="21061" y="14961"/>
                  <a:pt x="21084" y="14997"/>
                  <a:pt x="21084" y="15056"/>
                </a:cubicBezTo>
                <a:cubicBezTo>
                  <a:pt x="21198" y="15049"/>
                  <a:pt x="21219" y="15073"/>
                  <a:pt x="21258" y="14982"/>
                </a:cubicBezTo>
              </a:path>
              <a:path w="1613" h="968">
                <a:moveTo>
                  <a:pt x="21258" y="14808"/>
                </a:moveTo>
                <a:cubicBezTo>
                  <a:pt x="21226" y="14934"/>
                  <a:pt x="21223" y="15055"/>
                  <a:pt x="21258" y="15180"/>
                </a:cubicBezTo>
              </a:path>
              <a:path w="1613" h="968">
                <a:moveTo>
                  <a:pt x="21382" y="14883"/>
                </a:moveTo>
                <a:cubicBezTo>
                  <a:pt x="21339" y="15070"/>
                  <a:pt x="21305" y="15055"/>
                  <a:pt x="21431" y="15180"/>
                </a:cubicBezTo>
                <a:cubicBezTo>
                  <a:pt x="21546" y="15123"/>
                  <a:pt x="21691" y="14989"/>
                  <a:pt x="21506" y="14883"/>
                </a:cubicBezTo>
                <a:cubicBezTo>
                  <a:pt x="21489" y="14883"/>
                  <a:pt x="21473" y="14883"/>
                  <a:pt x="21456" y="14883"/>
                </a:cubicBezTo>
              </a:path>
              <a:path w="1613" h="968">
                <a:moveTo>
                  <a:pt x="22002" y="14635"/>
                </a:moveTo>
                <a:cubicBezTo>
                  <a:pt x="21813" y="14963"/>
                  <a:pt x="21587" y="15935"/>
                  <a:pt x="21406" y="15602"/>
                </a:cubicBezTo>
                <a:cubicBezTo>
                  <a:pt x="21414" y="15586"/>
                  <a:pt x="21423" y="15569"/>
                  <a:pt x="21431" y="15553"/>
                </a:cubicBezTo>
              </a:path>
              <a:path w="1613" h="968">
                <a:moveTo>
                  <a:pt x="22151" y="15081"/>
                </a:moveTo>
                <a:cubicBezTo>
                  <a:pt x="22151" y="15027"/>
                  <a:pt x="22113" y="15127"/>
                  <a:pt x="22101" y="15156"/>
                </a:cubicBezTo>
                <a:cubicBezTo>
                  <a:pt x="22053" y="15271"/>
                  <a:pt x="22035" y="15319"/>
                  <a:pt x="22076" y="15429"/>
                </a:cubicBezTo>
                <a:cubicBezTo>
                  <a:pt x="22219" y="15381"/>
                  <a:pt x="22446" y="15263"/>
                  <a:pt x="22250" y="15081"/>
                </a:cubicBezTo>
                <a:cubicBezTo>
                  <a:pt x="22151" y="15056"/>
                  <a:pt x="22117" y="15048"/>
                  <a:pt x="22051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97320" y="3160800"/>
            <a:ext cx="2286000" cy="2403360"/>
          </a:xfrm>
          <a:custGeom>
            <a:avLst/>
            <a:gdLst/>
            <a:ahLst/>
            <a:rect l="l" t="t" r="r" b="b"/>
            <a:pathLst>
              <a:path w="6351" h="6673">
                <a:moveTo>
                  <a:pt x="14436" y="9525"/>
                </a:moveTo>
                <a:cubicBezTo>
                  <a:pt x="14493" y="9539"/>
                  <a:pt x="14549" y="9555"/>
                  <a:pt x="14610" y="9575"/>
                </a:cubicBezTo>
              </a:path>
              <a:path w="6351" h="6673">
                <a:moveTo>
                  <a:pt x="16917" y="8781"/>
                </a:moveTo>
                <a:lnTo>
                  <a:pt x="16917" y="8781"/>
                </a:lnTo>
              </a:path>
              <a:path w="6351" h="6673">
                <a:moveTo>
                  <a:pt x="19273" y="11336"/>
                </a:moveTo>
                <a:cubicBezTo>
                  <a:pt x="19318" y="11336"/>
                  <a:pt x="19331" y="11333"/>
                  <a:pt x="19348" y="11361"/>
                </a:cubicBezTo>
              </a:path>
              <a:path w="6351" h="6673">
                <a:moveTo>
                  <a:pt x="19298" y="12824"/>
                </a:moveTo>
                <a:cubicBezTo>
                  <a:pt x="19307" y="12921"/>
                  <a:pt x="19311" y="13010"/>
                  <a:pt x="19447" y="12973"/>
                </a:cubicBezTo>
                <a:cubicBezTo>
                  <a:pt x="19480" y="12956"/>
                  <a:pt x="19513" y="12940"/>
                  <a:pt x="19546" y="12923"/>
                </a:cubicBezTo>
              </a:path>
              <a:path w="6351" h="6673">
                <a:moveTo>
                  <a:pt x="20687" y="15453"/>
                </a:moveTo>
                <a:cubicBezTo>
                  <a:pt x="20720" y="15445"/>
                  <a:pt x="20753" y="15437"/>
                  <a:pt x="2078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29120" y="2571840"/>
            <a:ext cx="955800" cy="1160280"/>
          </a:xfrm>
          <a:custGeom>
            <a:avLst/>
            <a:gdLst/>
            <a:ahLst/>
            <a:rect l="l" t="t" r="r" b="b"/>
            <a:pathLst>
              <a:path w="2655" h="3225">
                <a:moveTo>
                  <a:pt x="14784" y="8706"/>
                </a:moveTo>
                <a:cubicBezTo>
                  <a:pt x="14812" y="8807"/>
                  <a:pt x="14771" y="8891"/>
                  <a:pt x="14709" y="8979"/>
                </a:cubicBezTo>
                <a:cubicBezTo>
                  <a:pt x="14838" y="8951"/>
                  <a:pt x="14893" y="8927"/>
                  <a:pt x="15007" y="8954"/>
                </a:cubicBezTo>
                <a:cubicBezTo>
                  <a:pt x="15015" y="8954"/>
                  <a:pt x="15024" y="8954"/>
                  <a:pt x="15032" y="8954"/>
                </a:cubicBezTo>
              </a:path>
              <a:path w="2655" h="3225">
                <a:moveTo>
                  <a:pt x="15056" y="8508"/>
                </a:moveTo>
                <a:cubicBezTo>
                  <a:pt x="15021" y="8750"/>
                  <a:pt x="14966" y="8986"/>
                  <a:pt x="14932" y="9227"/>
                </a:cubicBezTo>
                <a:cubicBezTo>
                  <a:pt x="14932" y="9272"/>
                  <a:pt x="14936" y="9285"/>
                  <a:pt x="14908" y="9302"/>
                </a:cubicBezTo>
              </a:path>
              <a:path w="2655" h="3225">
                <a:moveTo>
                  <a:pt x="14585" y="9351"/>
                </a:moveTo>
                <a:cubicBezTo>
                  <a:pt x="14487" y="9177"/>
                  <a:pt x="14473" y="8957"/>
                  <a:pt x="14461" y="8756"/>
                </a:cubicBezTo>
                <a:cubicBezTo>
                  <a:pt x="14449" y="8561"/>
                  <a:pt x="14444" y="8504"/>
                  <a:pt x="14635" y="8483"/>
                </a:cubicBezTo>
                <a:cubicBezTo>
                  <a:pt x="14954" y="8448"/>
                  <a:pt x="15332" y="8438"/>
                  <a:pt x="15652" y="8458"/>
                </a:cubicBezTo>
                <a:cubicBezTo>
                  <a:pt x="15713" y="8462"/>
                  <a:pt x="15786" y="8478"/>
                  <a:pt x="15850" y="8483"/>
                </a:cubicBezTo>
              </a:path>
              <a:path w="2655" h="3225">
                <a:moveTo>
                  <a:pt x="14188" y="8533"/>
                </a:moveTo>
                <a:cubicBezTo>
                  <a:pt x="14111" y="8560"/>
                  <a:pt x="13919" y="8586"/>
                  <a:pt x="13866" y="8632"/>
                </a:cubicBezTo>
                <a:cubicBezTo>
                  <a:pt x="13824" y="8668"/>
                  <a:pt x="13829" y="8825"/>
                  <a:pt x="13816" y="8880"/>
                </a:cubicBezTo>
                <a:cubicBezTo>
                  <a:pt x="13922" y="8854"/>
                  <a:pt x="13966" y="8795"/>
                  <a:pt x="14089" y="8880"/>
                </a:cubicBezTo>
                <a:cubicBezTo>
                  <a:pt x="14271" y="9005"/>
                  <a:pt x="14002" y="9173"/>
                  <a:pt x="13891" y="9178"/>
                </a:cubicBezTo>
                <a:cubicBezTo>
                  <a:pt x="13813" y="9181"/>
                  <a:pt x="13760" y="9142"/>
                  <a:pt x="13692" y="9128"/>
                </a:cubicBezTo>
              </a:path>
              <a:path w="2655" h="3225">
                <a:moveTo>
                  <a:pt x="14908" y="7888"/>
                </a:moveTo>
                <a:cubicBezTo>
                  <a:pt x="14955" y="7872"/>
                  <a:pt x="14910" y="7834"/>
                  <a:pt x="14883" y="7913"/>
                </a:cubicBezTo>
                <a:cubicBezTo>
                  <a:pt x="14845" y="8024"/>
                  <a:pt x="14808" y="8136"/>
                  <a:pt x="14833" y="8235"/>
                </a:cubicBezTo>
                <a:cubicBezTo>
                  <a:pt x="15001" y="8176"/>
                  <a:pt x="15131" y="8122"/>
                  <a:pt x="15131" y="7913"/>
                </a:cubicBezTo>
                <a:cubicBezTo>
                  <a:pt x="15131" y="7724"/>
                  <a:pt x="14987" y="7726"/>
                  <a:pt x="14858" y="7739"/>
                </a:cubicBezTo>
                <a:cubicBezTo>
                  <a:pt x="14804" y="7744"/>
                  <a:pt x="14844" y="7792"/>
                  <a:pt x="14858" y="7838"/>
                </a:cubicBezTo>
              </a:path>
              <a:path w="2655" h="3225">
                <a:moveTo>
                  <a:pt x="15180" y="9178"/>
                </a:moveTo>
                <a:cubicBezTo>
                  <a:pt x="15138" y="9178"/>
                  <a:pt x="15143" y="9168"/>
                  <a:pt x="15131" y="9203"/>
                </a:cubicBezTo>
                <a:cubicBezTo>
                  <a:pt x="15160" y="9193"/>
                  <a:pt x="15229" y="9063"/>
                  <a:pt x="15131" y="9103"/>
                </a:cubicBezTo>
                <a:cubicBezTo>
                  <a:pt x="15131" y="9111"/>
                  <a:pt x="15131" y="9120"/>
                  <a:pt x="15131" y="9128"/>
                </a:cubicBezTo>
              </a:path>
              <a:path w="2655" h="3225">
                <a:moveTo>
                  <a:pt x="15230" y="8285"/>
                </a:moveTo>
                <a:cubicBezTo>
                  <a:pt x="15222" y="8285"/>
                  <a:pt x="15213" y="8285"/>
                  <a:pt x="15205" y="8285"/>
                </a:cubicBezTo>
                <a:cubicBezTo>
                  <a:pt x="15233" y="8396"/>
                  <a:pt x="15259" y="8244"/>
                  <a:pt x="15255" y="8210"/>
                </a:cubicBezTo>
                <a:cubicBezTo>
                  <a:pt x="15248" y="8153"/>
                  <a:pt x="15210" y="8206"/>
                  <a:pt x="15230" y="8260"/>
                </a:cubicBezTo>
                <a:cubicBezTo>
                  <a:pt x="15230" y="8323"/>
                  <a:pt x="15237" y="8351"/>
                  <a:pt x="15280" y="8384"/>
                </a:cubicBezTo>
              </a:path>
              <a:path w="2655" h="3225">
                <a:moveTo>
                  <a:pt x="15528" y="8731"/>
                </a:moveTo>
                <a:cubicBezTo>
                  <a:pt x="15520" y="8723"/>
                  <a:pt x="15511" y="8714"/>
                  <a:pt x="15503" y="8706"/>
                </a:cubicBezTo>
                <a:cubicBezTo>
                  <a:pt x="15392" y="8706"/>
                  <a:pt x="15411" y="8822"/>
                  <a:pt x="15404" y="8930"/>
                </a:cubicBezTo>
                <a:cubicBezTo>
                  <a:pt x="15404" y="9042"/>
                  <a:pt x="15398" y="9074"/>
                  <a:pt x="15453" y="9128"/>
                </a:cubicBezTo>
                <a:cubicBezTo>
                  <a:pt x="15613" y="9148"/>
                  <a:pt x="15665" y="9045"/>
                  <a:pt x="15652" y="8880"/>
                </a:cubicBezTo>
                <a:cubicBezTo>
                  <a:pt x="15641" y="8735"/>
                  <a:pt x="15571" y="8756"/>
                  <a:pt x="15453" y="8756"/>
                </a:cubicBezTo>
              </a:path>
              <a:path w="2655" h="3225">
                <a:moveTo>
                  <a:pt x="15627" y="7789"/>
                </a:moveTo>
                <a:cubicBezTo>
                  <a:pt x="15652" y="7789"/>
                  <a:pt x="15660" y="7789"/>
                  <a:pt x="15652" y="7764"/>
                </a:cubicBezTo>
                <a:cubicBezTo>
                  <a:pt x="15633" y="7633"/>
                  <a:pt x="15506" y="7678"/>
                  <a:pt x="15429" y="7764"/>
                </a:cubicBezTo>
                <a:cubicBezTo>
                  <a:pt x="15281" y="7929"/>
                  <a:pt x="15493" y="7974"/>
                  <a:pt x="15602" y="8037"/>
                </a:cubicBezTo>
                <a:cubicBezTo>
                  <a:pt x="15689" y="8087"/>
                  <a:pt x="15690" y="8098"/>
                  <a:pt x="15701" y="8186"/>
                </a:cubicBezTo>
                <a:cubicBezTo>
                  <a:pt x="15587" y="8205"/>
                  <a:pt x="15478" y="8195"/>
                  <a:pt x="15478" y="8037"/>
                </a:cubicBezTo>
                <a:cubicBezTo>
                  <a:pt x="15478" y="7923"/>
                  <a:pt x="15619" y="7805"/>
                  <a:pt x="15652" y="7689"/>
                </a:cubicBezTo>
                <a:cubicBezTo>
                  <a:pt x="15675" y="7609"/>
                  <a:pt x="15575" y="7656"/>
                  <a:pt x="15553" y="7665"/>
                </a:cubicBezTo>
              </a:path>
              <a:path w="2655" h="3225">
                <a:moveTo>
                  <a:pt x="14883" y="9401"/>
                </a:moveTo>
                <a:cubicBezTo>
                  <a:pt x="14970" y="9445"/>
                  <a:pt x="14930" y="9526"/>
                  <a:pt x="14883" y="9599"/>
                </a:cubicBezTo>
                <a:cubicBezTo>
                  <a:pt x="14855" y="9642"/>
                  <a:pt x="14917" y="9592"/>
                  <a:pt x="14982" y="9575"/>
                </a:cubicBezTo>
                <a:cubicBezTo>
                  <a:pt x="15051" y="9557"/>
                  <a:pt x="15072" y="9550"/>
                  <a:pt x="15131" y="9550"/>
                </a:cubicBezTo>
              </a:path>
              <a:path w="2655" h="3225">
                <a:moveTo>
                  <a:pt x="15106" y="9351"/>
                </a:moveTo>
                <a:cubicBezTo>
                  <a:pt x="15093" y="9312"/>
                  <a:pt x="15094" y="9341"/>
                  <a:pt x="15081" y="9302"/>
                </a:cubicBezTo>
                <a:cubicBezTo>
                  <a:pt x="15069" y="9427"/>
                  <a:pt x="15046" y="9550"/>
                  <a:pt x="15032" y="9674"/>
                </a:cubicBezTo>
                <a:cubicBezTo>
                  <a:pt x="15029" y="9698"/>
                  <a:pt x="15015" y="9831"/>
                  <a:pt x="15032" y="9823"/>
                </a:cubicBezTo>
                <a:cubicBezTo>
                  <a:pt x="15032" y="9815"/>
                  <a:pt x="15032" y="9806"/>
                  <a:pt x="15032" y="9798"/>
                </a:cubicBezTo>
              </a:path>
              <a:path w="2655" h="3225">
                <a:moveTo>
                  <a:pt x="15429" y="9376"/>
                </a:moveTo>
                <a:cubicBezTo>
                  <a:pt x="15404" y="9431"/>
                  <a:pt x="15284" y="9643"/>
                  <a:pt x="15354" y="9699"/>
                </a:cubicBezTo>
                <a:cubicBezTo>
                  <a:pt x="15371" y="9699"/>
                  <a:pt x="15387" y="9699"/>
                  <a:pt x="15404" y="9699"/>
                </a:cubicBezTo>
                <a:cubicBezTo>
                  <a:pt x="15455" y="9658"/>
                  <a:pt x="15604" y="9479"/>
                  <a:pt x="15478" y="9401"/>
                </a:cubicBezTo>
                <a:cubicBezTo>
                  <a:pt x="15466" y="9394"/>
                  <a:pt x="15399" y="9401"/>
                  <a:pt x="15379" y="9401"/>
                </a:cubicBezTo>
              </a:path>
              <a:path w="2655" h="3225">
                <a:moveTo>
                  <a:pt x="14536" y="9947"/>
                </a:moveTo>
                <a:cubicBezTo>
                  <a:pt x="14808" y="9843"/>
                  <a:pt x="15086" y="9812"/>
                  <a:pt x="15379" y="9798"/>
                </a:cubicBezTo>
                <a:cubicBezTo>
                  <a:pt x="15519" y="9791"/>
                  <a:pt x="15661" y="9798"/>
                  <a:pt x="15801" y="9798"/>
                </a:cubicBezTo>
              </a:path>
              <a:path w="2655" h="3225">
                <a:moveTo>
                  <a:pt x="15503" y="9996"/>
                </a:moveTo>
                <a:cubicBezTo>
                  <a:pt x="15415" y="10018"/>
                  <a:pt x="15379" y="10161"/>
                  <a:pt x="15379" y="10244"/>
                </a:cubicBezTo>
                <a:cubicBezTo>
                  <a:pt x="15398" y="10322"/>
                  <a:pt x="15390" y="10339"/>
                  <a:pt x="15429" y="10368"/>
                </a:cubicBezTo>
                <a:cubicBezTo>
                  <a:pt x="15521" y="10318"/>
                  <a:pt x="15639" y="10203"/>
                  <a:pt x="15577" y="10071"/>
                </a:cubicBezTo>
                <a:cubicBezTo>
                  <a:pt x="15558" y="10030"/>
                  <a:pt x="15462" y="10046"/>
                  <a:pt x="15429" y="10046"/>
                </a:cubicBezTo>
              </a:path>
              <a:path w="2655" h="3225">
                <a:moveTo>
                  <a:pt x="14412" y="8260"/>
                </a:moveTo>
                <a:cubicBezTo>
                  <a:pt x="14495" y="8312"/>
                  <a:pt x="14531" y="8350"/>
                  <a:pt x="14610" y="8409"/>
                </a:cubicBezTo>
                <a:cubicBezTo>
                  <a:pt x="14764" y="8524"/>
                  <a:pt x="15017" y="8546"/>
                  <a:pt x="15205" y="8558"/>
                </a:cubicBezTo>
                <a:cubicBezTo>
                  <a:pt x="15411" y="8571"/>
                  <a:pt x="15658" y="8523"/>
                  <a:pt x="15850" y="8458"/>
                </a:cubicBezTo>
                <a:cubicBezTo>
                  <a:pt x="16043" y="8393"/>
                  <a:pt x="16233" y="8234"/>
                  <a:pt x="16297" y="8037"/>
                </a:cubicBezTo>
                <a:cubicBezTo>
                  <a:pt x="16345" y="7889"/>
                  <a:pt x="16361" y="7712"/>
                  <a:pt x="16297" y="7565"/>
                </a:cubicBezTo>
                <a:cubicBezTo>
                  <a:pt x="16229" y="7407"/>
                  <a:pt x="16090" y="7272"/>
                  <a:pt x="15925" y="7218"/>
                </a:cubicBezTo>
                <a:cubicBezTo>
                  <a:pt x="15703" y="7145"/>
                  <a:pt x="15432" y="7145"/>
                  <a:pt x="15205" y="7169"/>
                </a:cubicBezTo>
                <a:cubicBezTo>
                  <a:pt x="14930" y="7198"/>
                  <a:pt x="14651" y="7276"/>
                  <a:pt x="14412" y="7417"/>
                </a:cubicBezTo>
                <a:cubicBezTo>
                  <a:pt x="14180" y="7554"/>
                  <a:pt x="14038" y="7755"/>
                  <a:pt x="14089" y="8037"/>
                </a:cubicBezTo>
                <a:cubicBezTo>
                  <a:pt x="14149" y="8369"/>
                  <a:pt x="14375" y="8468"/>
                  <a:pt x="14660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96040" y="3911760"/>
            <a:ext cx="1401840" cy="1589040"/>
          </a:xfrm>
          <a:custGeom>
            <a:avLst/>
            <a:gdLst/>
            <a:ahLst/>
            <a:rect l="l" t="t" r="r" b="b"/>
            <a:pathLst>
              <a:path w="3896" h="4417">
                <a:moveTo>
                  <a:pt x="18554" y="12055"/>
                </a:moveTo>
                <a:cubicBezTo>
                  <a:pt x="18641" y="12033"/>
                  <a:pt x="18703" y="11917"/>
                  <a:pt x="18802" y="11906"/>
                </a:cubicBezTo>
                <a:cubicBezTo>
                  <a:pt x="19052" y="11878"/>
                  <a:pt x="18848" y="12179"/>
                  <a:pt x="18802" y="12254"/>
                </a:cubicBezTo>
                <a:cubicBezTo>
                  <a:pt x="18794" y="12262"/>
                  <a:pt x="18785" y="12270"/>
                  <a:pt x="18777" y="12278"/>
                </a:cubicBezTo>
                <a:cubicBezTo>
                  <a:pt x="18777" y="12152"/>
                  <a:pt x="18898" y="12267"/>
                  <a:pt x="18926" y="12328"/>
                </a:cubicBezTo>
                <a:cubicBezTo>
                  <a:pt x="19042" y="12580"/>
                  <a:pt x="18756" y="12705"/>
                  <a:pt x="18554" y="12675"/>
                </a:cubicBezTo>
                <a:cubicBezTo>
                  <a:pt x="18521" y="12659"/>
                  <a:pt x="18488" y="12642"/>
                  <a:pt x="18455" y="12626"/>
                </a:cubicBezTo>
              </a:path>
              <a:path w="3896" h="4417">
                <a:moveTo>
                  <a:pt x="18256" y="12799"/>
                </a:moveTo>
                <a:cubicBezTo>
                  <a:pt x="18323" y="12534"/>
                  <a:pt x="18345" y="12255"/>
                  <a:pt x="18331" y="11981"/>
                </a:cubicBezTo>
                <a:cubicBezTo>
                  <a:pt x="18327" y="11902"/>
                  <a:pt x="18263" y="11749"/>
                  <a:pt x="18306" y="11708"/>
                </a:cubicBezTo>
                <a:cubicBezTo>
                  <a:pt x="18427" y="11593"/>
                  <a:pt x="18757" y="11658"/>
                  <a:pt x="18901" y="11658"/>
                </a:cubicBezTo>
                <a:cubicBezTo>
                  <a:pt x="19242" y="11658"/>
                  <a:pt x="19606" y="11631"/>
                  <a:pt x="19943" y="11683"/>
                </a:cubicBezTo>
                <a:cubicBezTo>
                  <a:pt x="19984" y="11703"/>
                  <a:pt x="20000" y="11701"/>
                  <a:pt x="19993" y="11733"/>
                </a:cubicBezTo>
              </a:path>
              <a:path w="3896" h="4417">
                <a:moveTo>
                  <a:pt x="17959" y="11906"/>
                </a:moveTo>
                <a:cubicBezTo>
                  <a:pt x="18002" y="11860"/>
                  <a:pt x="17743" y="11862"/>
                  <a:pt x="17686" y="11881"/>
                </a:cubicBezTo>
                <a:cubicBezTo>
                  <a:pt x="17566" y="11941"/>
                  <a:pt x="17539" y="11944"/>
                  <a:pt x="17487" y="12005"/>
                </a:cubicBezTo>
                <a:cubicBezTo>
                  <a:pt x="17567" y="12148"/>
                  <a:pt x="17883" y="12266"/>
                  <a:pt x="17909" y="12427"/>
                </a:cubicBezTo>
                <a:cubicBezTo>
                  <a:pt x="17932" y="12570"/>
                  <a:pt x="17734" y="12567"/>
                  <a:pt x="17661" y="12576"/>
                </a:cubicBezTo>
                <a:cubicBezTo>
                  <a:pt x="17594" y="12338"/>
                  <a:pt x="17682" y="12219"/>
                  <a:pt x="17810" y="12005"/>
                </a:cubicBezTo>
                <a:cubicBezTo>
                  <a:pt x="17863" y="11915"/>
                  <a:pt x="17888" y="11914"/>
                  <a:pt x="17884" y="11857"/>
                </a:cubicBezTo>
              </a:path>
              <a:path w="3896" h="4417">
                <a:moveTo>
                  <a:pt x="19124" y="12601"/>
                </a:moveTo>
                <a:cubicBezTo>
                  <a:pt x="19094" y="12580"/>
                  <a:pt x="19070" y="12601"/>
                  <a:pt x="19100" y="12601"/>
                </a:cubicBezTo>
                <a:cubicBezTo>
                  <a:pt x="19154" y="12601"/>
                  <a:pt x="19110" y="12536"/>
                  <a:pt x="19100" y="12502"/>
                </a:cubicBezTo>
              </a:path>
              <a:path w="3896" h="4417">
                <a:moveTo>
                  <a:pt x="19372" y="11385"/>
                </a:moveTo>
                <a:cubicBezTo>
                  <a:pt x="19334" y="11442"/>
                  <a:pt x="19294" y="11498"/>
                  <a:pt x="19273" y="11559"/>
                </a:cubicBezTo>
                <a:cubicBezTo>
                  <a:pt x="19323" y="11564"/>
                  <a:pt x="19500" y="11486"/>
                  <a:pt x="19372" y="11410"/>
                </a:cubicBezTo>
                <a:cubicBezTo>
                  <a:pt x="19309" y="11373"/>
                  <a:pt x="19305" y="11442"/>
                  <a:pt x="19323" y="11460"/>
                </a:cubicBezTo>
              </a:path>
              <a:path w="3896" h="4417">
                <a:moveTo>
                  <a:pt x="19943" y="12005"/>
                </a:moveTo>
                <a:cubicBezTo>
                  <a:pt x="19892" y="11993"/>
                  <a:pt x="19847" y="11952"/>
                  <a:pt x="19794" y="11931"/>
                </a:cubicBezTo>
                <a:cubicBezTo>
                  <a:pt x="19674" y="11884"/>
                  <a:pt x="19519" y="12030"/>
                  <a:pt x="19496" y="12154"/>
                </a:cubicBezTo>
                <a:cubicBezTo>
                  <a:pt x="19504" y="12187"/>
                  <a:pt x="19513" y="12221"/>
                  <a:pt x="19521" y="12254"/>
                </a:cubicBezTo>
                <a:cubicBezTo>
                  <a:pt x="19659" y="12342"/>
                  <a:pt x="19816" y="12363"/>
                  <a:pt x="19893" y="12154"/>
                </a:cubicBezTo>
                <a:cubicBezTo>
                  <a:pt x="19934" y="12042"/>
                  <a:pt x="19872" y="11938"/>
                  <a:pt x="19769" y="11906"/>
                </a:cubicBezTo>
                <a:cubicBezTo>
                  <a:pt x="19723" y="11906"/>
                  <a:pt x="19697" y="11918"/>
                  <a:pt x="19670" y="11956"/>
                </a:cubicBezTo>
              </a:path>
              <a:path w="3896" h="4417">
                <a:moveTo>
                  <a:pt x="19745" y="10988"/>
                </a:moveTo>
                <a:cubicBezTo>
                  <a:pt x="19728" y="10938"/>
                  <a:pt x="19720" y="10980"/>
                  <a:pt x="19695" y="11013"/>
                </a:cubicBezTo>
                <a:cubicBezTo>
                  <a:pt x="19758" y="10951"/>
                  <a:pt x="19803" y="10889"/>
                  <a:pt x="19893" y="10864"/>
                </a:cubicBezTo>
                <a:cubicBezTo>
                  <a:pt x="19998" y="10835"/>
                  <a:pt x="20006" y="11033"/>
                  <a:pt x="19968" y="11088"/>
                </a:cubicBezTo>
                <a:cubicBezTo>
                  <a:pt x="19928" y="11146"/>
                  <a:pt x="19824" y="11182"/>
                  <a:pt x="19794" y="11137"/>
                </a:cubicBezTo>
                <a:cubicBezTo>
                  <a:pt x="19889" y="11113"/>
                  <a:pt x="20017" y="11084"/>
                  <a:pt x="20017" y="11237"/>
                </a:cubicBezTo>
                <a:cubicBezTo>
                  <a:pt x="20017" y="11392"/>
                  <a:pt x="19874" y="11461"/>
                  <a:pt x="19745" y="11410"/>
                </a:cubicBezTo>
                <a:cubicBezTo>
                  <a:pt x="19724" y="11402"/>
                  <a:pt x="19708" y="11353"/>
                  <a:pt x="19695" y="11336"/>
                </a:cubicBezTo>
              </a:path>
              <a:path w="3896" h="4417">
                <a:moveTo>
                  <a:pt x="19050" y="12874"/>
                </a:moveTo>
                <a:cubicBezTo>
                  <a:pt x="19050" y="12849"/>
                  <a:pt x="19050" y="12841"/>
                  <a:pt x="19025" y="12849"/>
                </a:cubicBezTo>
                <a:cubicBezTo>
                  <a:pt x="19177" y="12805"/>
                  <a:pt x="19203" y="12911"/>
                  <a:pt x="19124" y="13047"/>
                </a:cubicBezTo>
                <a:cubicBezTo>
                  <a:pt x="19094" y="13099"/>
                  <a:pt x="18904" y="13328"/>
                  <a:pt x="18852" y="13171"/>
                </a:cubicBezTo>
                <a:cubicBezTo>
                  <a:pt x="18852" y="13163"/>
                  <a:pt x="18852" y="13154"/>
                  <a:pt x="18852" y="13146"/>
                </a:cubicBezTo>
                <a:cubicBezTo>
                  <a:pt x="18942" y="13127"/>
                  <a:pt x="19002" y="13157"/>
                  <a:pt x="19100" y="13171"/>
                </a:cubicBezTo>
              </a:path>
              <a:path w="3896" h="4417">
                <a:moveTo>
                  <a:pt x="19546" y="12675"/>
                </a:moveTo>
                <a:cubicBezTo>
                  <a:pt x="19524" y="12858"/>
                  <a:pt x="19532" y="13043"/>
                  <a:pt x="19496" y="13221"/>
                </a:cubicBezTo>
              </a:path>
              <a:path w="3896" h="4417">
                <a:moveTo>
                  <a:pt x="18579" y="13295"/>
                </a:moveTo>
                <a:cubicBezTo>
                  <a:pt x="18940" y="13282"/>
                  <a:pt x="19310" y="13238"/>
                  <a:pt x="19670" y="13246"/>
                </a:cubicBezTo>
                <a:cubicBezTo>
                  <a:pt x="19844" y="13268"/>
                  <a:pt x="19884" y="13276"/>
                  <a:pt x="19993" y="13271"/>
                </a:cubicBezTo>
              </a:path>
              <a:path w="3896" h="4417">
                <a:moveTo>
                  <a:pt x="19447" y="13643"/>
                </a:moveTo>
                <a:cubicBezTo>
                  <a:pt x="19400" y="13775"/>
                  <a:pt x="19362" y="13899"/>
                  <a:pt x="19348" y="14039"/>
                </a:cubicBezTo>
                <a:cubicBezTo>
                  <a:pt x="19476" y="14078"/>
                  <a:pt x="19582" y="14049"/>
                  <a:pt x="19695" y="13965"/>
                </a:cubicBezTo>
                <a:cubicBezTo>
                  <a:pt x="19762" y="13898"/>
                  <a:pt x="19787" y="13883"/>
                  <a:pt x="19769" y="13816"/>
                </a:cubicBezTo>
                <a:cubicBezTo>
                  <a:pt x="19645" y="13788"/>
                  <a:pt x="19608" y="13839"/>
                  <a:pt x="19571" y="13965"/>
                </a:cubicBezTo>
                <a:cubicBezTo>
                  <a:pt x="19571" y="13990"/>
                  <a:pt x="19571" y="13998"/>
                  <a:pt x="19571" y="14015"/>
                </a:cubicBezTo>
              </a:path>
              <a:path w="3896" h="4417">
                <a:moveTo>
                  <a:pt x="20042" y="11733"/>
                </a:moveTo>
                <a:cubicBezTo>
                  <a:pt x="20042" y="11757"/>
                  <a:pt x="20042" y="11765"/>
                  <a:pt x="20017" y="11757"/>
                </a:cubicBezTo>
                <a:cubicBezTo>
                  <a:pt x="20210" y="11757"/>
                  <a:pt x="20398" y="11749"/>
                  <a:pt x="20588" y="11733"/>
                </a:cubicBezTo>
                <a:cubicBezTo>
                  <a:pt x="20702" y="11724"/>
                  <a:pt x="20820" y="11733"/>
                  <a:pt x="20935" y="11733"/>
                </a:cubicBezTo>
              </a:path>
              <a:path w="3896" h="4417">
                <a:moveTo>
                  <a:pt x="20439" y="11881"/>
                </a:moveTo>
                <a:cubicBezTo>
                  <a:pt x="20338" y="11949"/>
                  <a:pt x="20269" y="11952"/>
                  <a:pt x="20216" y="12080"/>
                </a:cubicBezTo>
                <a:cubicBezTo>
                  <a:pt x="20195" y="12164"/>
                  <a:pt x="20180" y="12183"/>
                  <a:pt x="20216" y="12229"/>
                </a:cubicBezTo>
                <a:cubicBezTo>
                  <a:pt x="20335" y="12269"/>
                  <a:pt x="20464" y="12233"/>
                  <a:pt x="20489" y="12080"/>
                </a:cubicBezTo>
                <a:cubicBezTo>
                  <a:pt x="20496" y="12036"/>
                  <a:pt x="20409" y="11928"/>
                  <a:pt x="20365" y="11931"/>
                </a:cubicBezTo>
                <a:cubicBezTo>
                  <a:pt x="20348" y="11939"/>
                  <a:pt x="20332" y="11948"/>
                  <a:pt x="20315" y="11956"/>
                </a:cubicBezTo>
              </a:path>
              <a:path w="3896" h="4417">
                <a:moveTo>
                  <a:pt x="20290" y="12254"/>
                </a:moveTo>
                <a:cubicBezTo>
                  <a:pt x="20234" y="12309"/>
                  <a:pt x="20207" y="12528"/>
                  <a:pt x="20191" y="12626"/>
                </a:cubicBezTo>
                <a:cubicBezTo>
                  <a:pt x="20161" y="12808"/>
                  <a:pt x="20141" y="12990"/>
                  <a:pt x="20117" y="13171"/>
                </a:cubicBezTo>
                <a:cubicBezTo>
                  <a:pt x="20109" y="13228"/>
                  <a:pt x="20099" y="13289"/>
                  <a:pt x="20092" y="13345"/>
                </a:cubicBezTo>
                <a:cubicBezTo>
                  <a:pt x="20092" y="13413"/>
                  <a:pt x="20095" y="13432"/>
                  <a:pt x="20067" y="13469"/>
                </a:cubicBezTo>
              </a:path>
              <a:path w="3896" h="4417">
                <a:moveTo>
                  <a:pt x="20117" y="13519"/>
                </a:moveTo>
                <a:cubicBezTo>
                  <a:pt x="20096" y="13512"/>
                  <a:pt x="20058" y="13467"/>
                  <a:pt x="20017" y="13494"/>
                </a:cubicBezTo>
                <a:cubicBezTo>
                  <a:pt x="19911" y="13564"/>
                  <a:pt x="19898" y="13704"/>
                  <a:pt x="19893" y="13816"/>
                </a:cubicBezTo>
                <a:cubicBezTo>
                  <a:pt x="19890" y="13891"/>
                  <a:pt x="19957" y="13966"/>
                  <a:pt x="20042" y="13940"/>
                </a:cubicBezTo>
                <a:cubicBezTo>
                  <a:pt x="20148" y="13908"/>
                  <a:pt x="20255" y="13765"/>
                  <a:pt x="20216" y="13667"/>
                </a:cubicBezTo>
                <a:cubicBezTo>
                  <a:pt x="20197" y="13620"/>
                  <a:pt x="20124" y="13549"/>
                  <a:pt x="20067" y="13568"/>
                </a:cubicBezTo>
                <a:cubicBezTo>
                  <a:pt x="20059" y="13576"/>
                  <a:pt x="20050" y="13585"/>
                  <a:pt x="20042" y="13593"/>
                </a:cubicBezTo>
              </a:path>
              <a:path w="3896" h="4417">
                <a:moveTo>
                  <a:pt x="20241" y="10939"/>
                </a:moveTo>
                <a:cubicBezTo>
                  <a:pt x="20306" y="10852"/>
                  <a:pt x="20431" y="10906"/>
                  <a:pt x="20538" y="10889"/>
                </a:cubicBezTo>
                <a:cubicBezTo>
                  <a:pt x="20596" y="10870"/>
                  <a:pt x="20603" y="10861"/>
                  <a:pt x="20638" y="10864"/>
                </a:cubicBezTo>
                <a:cubicBezTo>
                  <a:pt x="20638" y="10955"/>
                  <a:pt x="20578" y="11032"/>
                  <a:pt x="20538" y="11112"/>
                </a:cubicBezTo>
                <a:cubicBezTo>
                  <a:pt x="20528" y="11131"/>
                  <a:pt x="20461" y="11246"/>
                  <a:pt x="20464" y="11261"/>
                </a:cubicBezTo>
                <a:cubicBezTo>
                  <a:pt x="20472" y="11269"/>
                  <a:pt x="20481" y="11278"/>
                  <a:pt x="20489" y="11286"/>
                </a:cubicBezTo>
              </a:path>
              <a:path w="3896" h="4417">
                <a:moveTo>
                  <a:pt x="19621" y="14213"/>
                </a:moveTo>
                <a:cubicBezTo>
                  <a:pt x="19680" y="14192"/>
                  <a:pt x="19626" y="14195"/>
                  <a:pt x="19596" y="14213"/>
                </a:cubicBezTo>
                <a:cubicBezTo>
                  <a:pt x="19550" y="14240"/>
                  <a:pt x="19470" y="14306"/>
                  <a:pt x="19447" y="14238"/>
                </a:cubicBezTo>
                <a:cubicBezTo>
                  <a:pt x="19432" y="14296"/>
                  <a:pt x="19388" y="14324"/>
                  <a:pt x="19372" y="14387"/>
                </a:cubicBezTo>
                <a:cubicBezTo>
                  <a:pt x="19390" y="14441"/>
                  <a:pt x="19458" y="14395"/>
                  <a:pt x="19521" y="14412"/>
                </a:cubicBezTo>
                <a:cubicBezTo>
                  <a:pt x="19619" y="14438"/>
                  <a:pt x="19609" y="14535"/>
                  <a:pt x="19546" y="14585"/>
                </a:cubicBezTo>
                <a:cubicBezTo>
                  <a:pt x="19496" y="14626"/>
                  <a:pt x="19431" y="14610"/>
                  <a:pt x="19372" y="14610"/>
                </a:cubicBezTo>
              </a:path>
              <a:path w="3896" h="4417">
                <a:moveTo>
                  <a:pt x="19893" y="14238"/>
                </a:moveTo>
                <a:cubicBezTo>
                  <a:pt x="19835" y="14345"/>
                  <a:pt x="19824" y="14423"/>
                  <a:pt x="19794" y="14536"/>
                </a:cubicBezTo>
                <a:cubicBezTo>
                  <a:pt x="19771" y="14622"/>
                  <a:pt x="19828" y="14707"/>
                  <a:pt x="19943" y="14660"/>
                </a:cubicBezTo>
                <a:cubicBezTo>
                  <a:pt x="20012" y="14632"/>
                  <a:pt x="20067" y="14535"/>
                  <a:pt x="20042" y="14461"/>
                </a:cubicBezTo>
                <a:cubicBezTo>
                  <a:pt x="20034" y="14453"/>
                  <a:pt x="20025" y="14444"/>
                  <a:pt x="20017" y="14436"/>
                </a:cubicBezTo>
                <a:cubicBezTo>
                  <a:pt x="19931" y="14447"/>
                  <a:pt x="19896" y="14470"/>
                  <a:pt x="19869" y="14560"/>
                </a:cubicBezTo>
                <a:cubicBezTo>
                  <a:pt x="19869" y="14568"/>
                  <a:pt x="19869" y="14577"/>
                  <a:pt x="19869" y="14585"/>
                </a:cubicBezTo>
              </a:path>
              <a:path w="3896" h="4417">
                <a:moveTo>
                  <a:pt x="19149" y="14734"/>
                </a:moveTo>
                <a:cubicBezTo>
                  <a:pt x="19301" y="14734"/>
                  <a:pt x="19447" y="14747"/>
                  <a:pt x="19596" y="14759"/>
                </a:cubicBezTo>
                <a:cubicBezTo>
                  <a:pt x="19767" y="14773"/>
                  <a:pt x="19945" y="14759"/>
                  <a:pt x="20117" y="14759"/>
                </a:cubicBezTo>
              </a:path>
              <a:path w="3896" h="4417">
                <a:moveTo>
                  <a:pt x="19794" y="14932"/>
                </a:moveTo>
                <a:cubicBezTo>
                  <a:pt x="19794" y="14889"/>
                  <a:pt x="19751" y="15022"/>
                  <a:pt x="19745" y="15056"/>
                </a:cubicBezTo>
                <a:cubicBezTo>
                  <a:pt x="19745" y="15064"/>
                  <a:pt x="19745" y="15073"/>
                  <a:pt x="19745" y="15081"/>
                </a:cubicBezTo>
                <a:cubicBezTo>
                  <a:pt x="19848" y="15091"/>
                  <a:pt x="19914" y="15096"/>
                  <a:pt x="20017" y="15081"/>
                </a:cubicBezTo>
              </a:path>
              <a:path w="3896" h="4417">
                <a:moveTo>
                  <a:pt x="19993" y="14883"/>
                </a:moveTo>
                <a:cubicBezTo>
                  <a:pt x="19978" y="15000"/>
                  <a:pt x="19961" y="15116"/>
                  <a:pt x="19943" y="15230"/>
                </a:cubicBezTo>
                <a:cubicBezTo>
                  <a:pt x="19935" y="15278"/>
                  <a:pt x="19968" y="15294"/>
                  <a:pt x="19968" y="15230"/>
                </a:cubicBezTo>
              </a:path>
              <a:path w="3896" h="4417">
                <a:moveTo>
                  <a:pt x="20861" y="12055"/>
                </a:moveTo>
                <a:cubicBezTo>
                  <a:pt x="20847" y="12013"/>
                  <a:pt x="20832" y="11983"/>
                  <a:pt x="20786" y="12055"/>
                </a:cubicBezTo>
                <a:cubicBezTo>
                  <a:pt x="20696" y="12196"/>
                  <a:pt x="20726" y="12329"/>
                  <a:pt x="20811" y="12452"/>
                </a:cubicBezTo>
                <a:cubicBezTo>
                  <a:pt x="20976" y="12419"/>
                  <a:pt x="21059" y="12324"/>
                  <a:pt x="21059" y="12129"/>
                </a:cubicBezTo>
                <a:cubicBezTo>
                  <a:pt x="21059" y="11990"/>
                  <a:pt x="20900" y="12053"/>
                  <a:pt x="20836" y="12080"/>
                </a:cubicBezTo>
              </a:path>
              <a:path w="3896" h="4417">
                <a:moveTo>
                  <a:pt x="20836" y="12502"/>
                </a:moveTo>
                <a:cubicBezTo>
                  <a:pt x="20813" y="12598"/>
                  <a:pt x="20804" y="12697"/>
                  <a:pt x="20786" y="12799"/>
                </a:cubicBezTo>
                <a:cubicBezTo>
                  <a:pt x="20758" y="12957"/>
                  <a:pt x="20722" y="13115"/>
                  <a:pt x="20687" y="13271"/>
                </a:cubicBezTo>
                <a:cubicBezTo>
                  <a:pt x="20660" y="13389"/>
                  <a:pt x="20621" y="13502"/>
                  <a:pt x="20588" y="13618"/>
                </a:cubicBezTo>
                <a:cubicBezTo>
                  <a:pt x="20562" y="13710"/>
                  <a:pt x="20532" y="13801"/>
                  <a:pt x="20513" y="13891"/>
                </a:cubicBezTo>
                <a:cubicBezTo>
                  <a:pt x="20489" y="14008"/>
                  <a:pt x="20464" y="14093"/>
                  <a:pt x="20464" y="14213"/>
                </a:cubicBezTo>
                <a:cubicBezTo>
                  <a:pt x="20464" y="14299"/>
                  <a:pt x="20427" y="14380"/>
                  <a:pt x="20414" y="14461"/>
                </a:cubicBezTo>
                <a:cubicBezTo>
                  <a:pt x="20408" y="14500"/>
                  <a:pt x="20414" y="14545"/>
                  <a:pt x="20414" y="14585"/>
                </a:cubicBezTo>
              </a:path>
              <a:path w="3896" h="4417">
                <a:moveTo>
                  <a:pt x="20265" y="14908"/>
                </a:moveTo>
                <a:cubicBezTo>
                  <a:pt x="20265" y="14900"/>
                  <a:pt x="20265" y="14891"/>
                  <a:pt x="20265" y="14883"/>
                </a:cubicBezTo>
                <a:cubicBezTo>
                  <a:pt x="20195" y="14883"/>
                  <a:pt x="20177" y="14935"/>
                  <a:pt x="20166" y="15007"/>
                </a:cubicBezTo>
                <a:cubicBezTo>
                  <a:pt x="20155" y="15079"/>
                  <a:pt x="20176" y="15183"/>
                  <a:pt x="20265" y="15180"/>
                </a:cubicBezTo>
                <a:cubicBezTo>
                  <a:pt x="20348" y="15177"/>
                  <a:pt x="20417" y="15121"/>
                  <a:pt x="20464" y="15056"/>
                </a:cubicBezTo>
                <a:cubicBezTo>
                  <a:pt x="20508" y="14995"/>
                  <a:pt x="20491" y="14909"/>
                  <a:pt x="20414" y="14883"/>
                </a:cubicBezTo>
                <a:cubicBezTo>
                  <a:pt x="20361" y="14865"/>
                  <a:pt x="20209" y="14941"/>
                  <a:pt x="20265" y="14932"/>
                </a:cubicBezTo>
                <a:cubicBezTo>
                  <a:pt x="20282" y="14924"/>
                  <a:pt x="20298" y="14916"/>
                  <a:pt x="20315" y="14908"/>
                </a:cubicBezTo>
              </a:path>
              <a:path w="3896" h="4417">
                <a:moveTo>
                  <a:pt x="20687" y="11807"/>
                </a:moveTo>
                <a:cubicBezTo>
                  <a:pt x="20704" y="11755"/>
                  <a:pt x="20830" y="11782"/>
                  <a:pt x="20886" y="11782"/>
                </a:cubicBezTo>
                <a:cubicBezTo>
                  <a:pt x="21016" y="11782"/>
                  <a:pt x="21132" y="11801"/>
                  <a:pt x="21258" y="11807"/>
                </a:cubicBezTo>
                <a:cubicBezTo>
                  <a:pt x="21299" y="11809"/>
                  <a:pt x="21341" y="11807"/>
                  <a:pt x="21382" y="11807"/>
                </a:cubicBezTo>
              </a:path>
              <a:path w="3896" h="4417">
                <a:moveTo>
                  <a:pt x="21208" y="10889"/>
                </a:moveTo>
                <a:cubicBezTo>
                  <a:pt x="21146" y="10889"/>
                  <a:pt x="21117" y="10921"/>
                  <a:pt x="21059" y="10939"/>
                </a:cubicBezTo>
                <a:cubicBezTo>
                  <a:pt x="21000" y="10957"/>
                  <a:pt x="20970" y="10922"/>
                  <a:pt x="20960" y="11013"/>
                </a:cubicBezTo>
                <a:cubicBezTo>
                  <a:pt x="20952" y="11084"/>
                  <a:pt x="20947" y="11143"/>
                  <a:pt x="20935" y="11212"/>
                </a:cubicBezTo>
                <a:cubicBezTo>
                  <a:pt x="20989" y="11201"/>
                  <a:pt x="21107" y="11149"/>
                  <a:pt x="21158" y="11187"/>
                </a:cubicBezTo>
                <a:cubicBezTo>
                  <a:pt x="21269" y="11269"/>
                  <a:pt x="21201" y="11408"/>
                  <a:pt x="21109" y="11460"/>
                </a:cubicBezTo>
                <a:cubicBezTo>
                  <a:pt x="21046" y="11495"/>
                  <a:pt x="20978" y="11485"/>
                  <a:pt x="20910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ecimal as a fr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Just write the digits in your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numerator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and the place value of the last digit as your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enominator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3657600"/>
          <a:ext cx="17208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657600"/>
                    <a:ext cx="1720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91320" y="3657600"/>
          <a:ext cx="22860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2286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429000" y="4191120"/>
          <a:ext cx="164448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6444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820800" y="4348080"/>
            <a:ext cx="563400" cy="36720"/>
          </a:xfrm>
          <a:custGeom>
            <a:avLst/>
            <a:gdLst/>
            <a:ahLst/>
            <a:rect l="l" t="t" r="r" b="b"/>
            <a:pathLst>
              <a:path w="1564" h="100">
                <a:moveTo>
                  <a:pt x="2282" y="12179"/>
                </a:moveTo>
                <a:cubicBezTo>
                  <a:pt x="2282" y="12083"/>
                  <a:pt x="2404" y="12129"/>
                  <a:pt x="2480" y="12129"/>
                </a:cubicBezTo>
                <a:cubicBezTo>
                  <a:pt x="2639" y="12129"/>
                  <a:pt x="2792" y="12172"/>
                  <a:pt x="2952" y="12154"/>
                </a:cubicBezTo>
                <a:cubicBezTo>
                  <a:pt x="3101" y="12137"/>
                  <a:pt x="3248" y="12109"/>
                  <a:pt x="3398" y="12105"/>
                </a:cubicBezTo>
                <a:cubicBezTo>
                  <a:pt x="3502" y="12102"/>
                  <a:pt x="3596" y="12084"/>
                  <a:pt x="3696" y="12080"/>
                </a:cubicBezTo>
                <a:cubicBezTo>
                  <a:pt x="3745" y="12078"/>
                  <a:pt x="3796" y="12080"/>
                  <a:pt x="3845" y="12080"/>
                </a:cubicBezTo>
                <a:cubicBezTo>
                  <a:pt x="3645" y="12109"/>
                  <a:pt x="3452" y="12115"/>
                  <a:pt x="3249" y="12129"/>
                </a:cubicBezTo>
                <a:cubicBezTo>
                  <a:pt x="3048" y="12143"/>
                  <a:pt x="2855" y="12179"/>
                  <a:pt x="2654" y="12179"/>
                </a:cubicBezTo>
                <a:cubicBezTo>
                  <a:pt x="2471" y="12179"/>
                  <a:pt x="2563" y="12190"/>
                  <a:pt x="2704" y="12179"/>
                </a:cubicBezTo>
                <a:cubicBezTo>
                  <a:pt x="3081" y="12151"/>
                  <a:pt x="3422" y="12111"/>
                  <a:pt x="3795" y="12179"/>
                </a:cubicBezTo>
                <a:cubicBezTo>
                  <a:pt x="3803" y="12179"/>
                  <a:pt x="3812" y="12179"/>
                  <a:pt x="3820" y="12179"/>
                </a:cubicBezTo>
                <a:cubicBezTo>
                  <a:pt x="3503" y="12121"/>
                  <a:pt x="3177" y="12092"/>
                  <a:pt x="2853" y="12105"/>
                </a:cubicBezTo>
                <a:cubicBezTo>
                  <a:pt x="2654" y="12126"/>
                  <a:pt x="2605" y="12134"/>
                  <a:pt x="2480" y="12129"/>
                </a:cubicBezTo>
                <a:cubicBezTo>
                  <a:pt x="2782" y="12154"/>
                  <a:pt x="3068" y="12150"/>
                  <a:pt x="3373" y="12129"/>
                </a:cubicBezTo>
                <a:cubicBezTo>
                  <a:pt x="3541" y="12117"/>
                  <a:pt x="3681" y="12097"/>
                  <a:pt x="3795" y="12154"/>
                </a:cubicBezTo>
                <a:cubicBezTo>
                  <a:pt x="3803" y="12154"/>
                  <a:pt x="3812" y="12154"/>
                  <a:pt x="3820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40280" y="4438800"/>
            <a:ext cx="839880" cy="44280"/>
          </a:xfrm>
          <a:custGeom>
            <a:avLst/>
            <a:gdLst/>
            <a:ahLst/>
            <a:rect l="l" t="t" r="r" b="b"/>
            <a:pathLst>
              <a:path w="2333" h="125">
                <a:moveTo>
                  <a:pt x="16247" y="12378"/>
                </a:moveTo>
                <a:cubicBezTo>
                  <a:pt x="16232" y="12288"/>
                  <a:pt x="16275" y="12318"/>
                  <a:pt x="16446" y="12328"/>
                </a:cubicBezTo>
                <a:cubicBezTo>
                  <a:pt x="16868" y="12354"/>
                  <a:pt x="17289" y="12390"/>
                  <a:pt x="17711" y="12402"/>
                </a:cubicBezTo>
                <a:cubicBezTo>
                  <a:pt x="17887" y="12407"/>
                  <a:pt x="18020" y="12409"/>
                  <a:pt x="18182" y="12452"/>
                </a:cubicBezTo>
                <a:cubicBezTo>
                  <a:pt x="18006" y="12438"/>
                  <a:pt x="17839" y="12436"/>
                  <a:pt x="17661" y="12427"/>
                </a:cubicBezTo>
                <a:cubicBezTo>
                  <a:pt x="17279" y="12408"/>
                  <a:pt x="16903" y="12378"/>
                  <a:pt x="16520" y="12378"/>
                </a:cubicBezTo>
                <a:cubicBezTo>
                  <a:pt x="16611" y="12378"/>
                  <a:pt x="16669" y="12378"/>
                  <a:pt x="16743" y="12378"/>
                </a:cubicBezTo>
                <a:cubicBezTo>
                  <a:pt x="17306" y="12370"/>
                  <a:pt x="17867" y="12353"/>
                  <a:pt x="18430" y="12353"/>
                </a:cubicBezTo>
                <a:cubicBezTo>
                  <a:pt x="18471" y="12353"/>
                  <a:pt x="18513" y="12353"/>
                  <a:pt x="18554" y="12353"/>
                </a:cubicBezTo>
                <a:cubicBezTo>
                  <a:pt x="18344" y="12377"/>
                  <a:pt x="18108" y="12420"/>
                  <a:pt x="17884" y="12427"/>
                </a:cubicBezTo>
                <a:cubicBezTo>
                  <a:pt x="17536" y="12427"/>
                  <a:pt x="17453" y="12432"/>
                  <a:pt x="17239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6120" y="4394160"/>
            <a:ext cx="608040" cy="749520"/>
          </a:xfrm>
          <a:custGeom>
            <a:avLst/>
            <a:gdLst/>
            <a:ahLst/>
            <a:rect l="l" t="t" r="r" b="b"/>
            <a:pathLst>
              <a:path w="1687" h="2085">
                <a:moveTo>
                  <a:pt x="15056" y="12204"/>
                </a:moveTo>
                <a:cubicBezTo>
                  <a:pt x="15128" y="12365"/>
                  <a:pt x="15080" y="12527"/>
                  <a:pt x="15106" y="12700"/>
                </a:cubicBezTo>
                <a:cubicBezTo>
                  <a:pt x="15114" y="12717"/>
                  <a:pt x="15123" y="12733"/>
                  <a:pt x="15131" y="12750"/>
                </a:cubicBezTo>
              </a:path>
              <a:path w="1687" h="2085">
                <a:moveTo>
                  <a:pt x="15329" y="13395"/>
                </a:moveTo>
                <a:cubicBezTo>
                  <a:pt x="15303" y="13399"/>
                  <a:pt x="15119" y="13420"/>
                  <a:pt x="15106" y="13444"/>
                </a:cubicBezTo>
                <a:cubicBezTo>
                  <a:pt x="15077" y="13497"/>
                  <a:pt x="15106" y="13629"/>
                  <a:pt x="15106" y="13692"/>
                </a:cubicBezTo>
                <a:cubicBezTo>
                  <a:pt x="15205" y="13692"/>
                  <a:pt x="15359" y="13625"/>
                  <a:pt x="15429" y="13717"/>
                </a:cubicBezTo>
                <a:cubicBezTo>
                  <a:pt x="15534" y="13856"/>
                  <a:pt x="15319" y="13924"/>
                  <a:pt x="15230" y="13940"/>
                </a:cubicBezTo>
                <a:cubicBezTo>
                  <a:pt x="15162" y="13940"/>
                  <a:pt x="15143" y="13937"/>
                  <a:pt x="15106" y="13965"/>
                </a:cubicBezTo>
              </a:path>
              <a:path w="1687" h="2085">
                <a:moveTo>
                  <a:pt x="13791" y="12824"/>
                </a:moveTo>
                <a:cubicBezTo>
                  <a:pt x="13832" y="12824"/>
                  <a:pt x="13874" y="12824"/>
                  <a:pt x="13915" y="12824"/>
                </a:cubicBezTo>
              </a:path>
              <a:path w="1687" h="2085">
                <a:moveTo>
                  <a:pt x="14139" y="12601"/>
                </a:moveTo>
                <a:cubicBezTo>
                  <a:pt x="14204" y="12579"/>
                  <a:pt x="14219" y="12571"/>
                  <a:pt x="14263" y="12576"/>
                </a:cubicBezTo>
                <a:cubicBezTo>
                  <a:pt x="14263" y="12717"/>
                  <a:pt x="14229" y="12793"/>
                  <a:pt x="14188" y="12923"/>
                </a:cubicBezTo>
                <a:cubicBezTo>
                  <a:pt x="14188" y="12931"/>
                  <a:pt x="14188" y="12940"/>
                  <a:pt x="14188" y="12948"/>
                </a:cubicBezTo>
                <a:cubicBezTo>
                  <a:pt x="14274" y="12936"/>
                  <a:pt x="14347" y="12923"/>
                  <a:pt x="14436" y="12923"/>
                </a:cubicBezTo>
              </a:path>
              <a:path w="1687" h="2085">
                <a:moveTo>
                  <a:pt x="13965" y="14089"/>
                </a:moveTo>
                <a:cubicBezTo>
                  <a:pt x="13965" y="14069"/>
                  <a:pt x="14069" y="14004"/>
                  <a:pt x="14139" y="13965"/>
                </a:cubicBezTo>
              </a:path>
              <a:path w="1687" h="2085">
                <a:moveTo>
                  <a:pt x="14064" y="14213"/>
                </a:moveTo>
                <a:cubicBezTo>
                  <a:pt x="14076" y="14164"/>
                  <a:pt x="14113" y="14112"/>
                  <a:pt x="14139" y="14064"/>
                </a:cubicBezTo>
              </a:path>
              <a:path w="1687" h="2085">
                <a:moveTo>
                  <a:pt x="14288" y="13767"/>
                </a:moveTo>
                <a:cubicBezTo>
                  <a:pt x="14325" y="13706"/>
                  <a:pt x="14337" y="13667"/>
                  <a:pt x="14412" y="13667"/>
                </a:cubicBezTo>
                <a:cubicBezTo>
                  <a:pt x="14406" y="13768"/>
                  <a:pt x="14392" y="13843"/>
                  <a:pt x="14362" y="13940"/>
                </a:cubicBezTo>
                <a:cubicBezTo>
                  <a:pt x="14421" y="13923"/>
                  <a:pt x="14479" y="13895"/>
                  <a:pt x="14536" y="13866"/>
                </a:cubicBezTo>
              </a:path>
              <a:path w="1687" h="2085">
                <a:moveTo>
                  <a:pt x="13767" y="12452"/>
                </a:moveTo>
                <a:cubicBezTo>
                  <a:pt x="13857" y="12716"/>
                  <a:pt x="13939" y="12967"/>
                  <a:pt x="13990" y="13246"/>
                </a:cubicBezTo>
                <a:cubicBezTo>
                  <a:pt x="14048" y="13563"/>
                  <a:pt x="14080" y="13892"/>
                  <a:pt x="14089" y="14213"/>
                </a:cubicBezTo>
                <a:cubicBezTo>
                  <a:pt x="14089" y="14258"/>
                  <a:pt x="14086" y="14271"/>
                  <a:pt x="14114" y="14288"/>
                </a:cubicBezTo>
                <a:cubicBezTo>
                  <a:pt x="14247" y="14275"/>
                  <a:pt x="14379" y="14240"/>
                  <a:pt x="14511" y="14213"/>
                </a:cubicBezTo>
                <a:cubicBezTo>
                  <a:pt x="14630" y="14189"/>
                  <a:pt x="14685" y="14198"/>
                  <a:pt x="14784" y="14238"/>
                </a:cubicBezTo>
                <a:cubicBezTo>
                  <a:pt x="14784" y="14085"/>
                  <a:pt x="14775" y="13974"/>
                  <a:pt x="14734" y="13816"/>
                </a:cubicBezTo>
                <a:cubicBezTo>
                  <a:pt x="14637" y="13443"/>
                  <a:pt x="14494" y="13139"/>
                  <a:pt x="14486" y="12750"/>
                </a:cubicBezTo>
                <a:cubicBezTo>
                  <a:pt x="14483" y="12627"/>
                  <a:pt x="14472" y="12523"/>
                  <a:pt x="14461" y="12402"/>
                </a:cubicBezTo>
                <a:cubicBezTo>
                  <a:pt x="14454" y="12328"/>
                  <a:pt x="14449" y="12275"/>
                  <a:pt x="14436" y="12204"/>
                </a:cubicBezTo>
                <a:cubicBezTo>
                  <a:pt x="14324" y="12221"/>
                  <a:pt x="14256" y="12248"/>
                  <a:pt x="14163" y="12328"/>
                </a:cubicBezTo>
                <a:cubicBezTo>
                  <a:pt x="14084" y="12396"/>
                  <a:pt x="13956" y="12486"/>
                  <a:pt x="13915" y="12576"/>
                </a:cubicBezTo>
                <a:cubicBezTo>
                  <a:pt x="13884" y="12644"/>
                  <a:pt x="13915" y="12799"/>
                  <a:pt x="13915" y="12874"/>
                </a:cubicBezTo>
              </a:path>
              <a:path w="1687" h="2085">
                <a:moveTo>
                  <a:pt x="13816" y="12725"/>
                </a:moveTo>
                <a:cubicBezTo>
                  <a:pt x="13791" y="12775"/>
                  <a:pt x="13791" y="12813"/>
                  <a:pt x="13791" y="12874"/>
                </a:cubicBezTo>
                <a:cubicBezTo>
                  <a:pt x="13855" y="12848"/>
                  <a:pt x="13936" y="12769"/>
                  <a:pt x="13990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5027760"/>
            <a:ext cx="544680" cy="44280"/>
          </a:xfrm>
          <a:custGeom>
            <a:avLst/>
            <a:gdLst/>
            <a:ahLst/>
            <a:rect l="l" t="t" r="r" b="b"/>
            <a:pathLst>
              <a:path w="1514" h="125">
                <a:moveTo>
                  <a:pt x="9897" y="14039"/>
                </a:moveTo>
                <a:cubicBezTo>
                  <a:pt x="10105" y="14039"/>
                  <a:pt x="10309" y="14021"/>
                  <a:pt x="10517" y="14015"/>
                </a:cubicBezTo>
                <a:cubicBezTo>
                  <a:pt x="10682" y="14010"/>
                  <a:pt x="11129" y="14015"/>
                  <a:pt x="10964" y="14015"/>
                </a:cubicBezTo>
                <a:cubicBezTo>
                  <a:pt x="10680" y="14015"/>
                  <a:pt x="10403" y="14051"/>
                  <a:pt x="10120" y="14064"/>
                </a:cubicBezTo>
                <a:cubicBezTo>
                  <a:pt x="10054" y="14064"/>
                  <a:pt x="9988" y="14064"/>
                  <a:pt x="9922" y="14064"/>
                </a:cubicBezTo>
                <a:cubicBezTo>
                  <a:pt x="9905" y="14064"/>
                  <a:pt x="9889" y="14064"/>
                  <a:pt x="9872" y="14064"/>
                </a:cubicBezTo>
                <a:cubicBezTo>
                  <a:pt x="10271" y="14051"/>
                  <a:pt x="10666" y="13998"/>
                  <a:pt x="11063" y="13965"/>
                </a:cubicBezTo>
                <a:cubicBezTo>
                  <a:pt x="11266" y="13948"/>
                  <a:pt x="10669" y="14055"/>
                  <a:pt x="10468" y="14089"/>
                </a:cubicBezTo>
                <a:cubicBezTo>
                  <a:pt x="10451" y="14089"/>
                  <a:pt x="10435" y="14089"/>
                  <a:pt x="10418" y="14089"/>
                </a:cubicBezTo>
                <a:cubicBezTo>
                  <a:pt x="10740" y="14039"/>
                  <a:pt x="11062" y="14005"/>
                  <a:pt x="11385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99040" y="4616280"/>
            <a:ext cx="473040" cy="169920"/>
          </a:xfrm>
          <a:custGeom>
            <a:avLst/>
            <a:gdLst/>
            <a:ahLst/>
            <a:rect l="l" t="t" r="r" b="b"/>
            <a:pathLst>
              <a:path w="1316" h="472">
                <a:moveTo>
                  <a:pt x="14858" y="12898"/>
                </a:moveTo>
                <a:cubicBezTo>
                  <a:pt x="15057" y="12863"/>
                  <a:pt x="15254" y="12846"/>
                  <a:pt x="15453" y="12824"/>
                </a:cubicBezTo>
                <a:cubicBezTo>
                  <a:pt x="15461" y="12824"/>
                  <a:pt x="15470" y="12824"/>
                  <a:pt x="15478" y="12824"/>
                </a:cubicBezTo>
              </a:path>
              <a:path w="1316" h="472">
                <a:moveTo>
                  <a:pt x="14163" y="13295"/>
                </a:moveTo>
                <a:cubicBezTo>
                  <a:pt x="14271" y="13237"/>
                  <a:pt x="14384" y="13197"/>
                  <a:pt x="14486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73760" y="4010040"/>
            <a:ext cx="2965320" cy="660240"/>
          </a:xfrm>
          <a:custGeom>
            <a:avLst/>
            <a:gdLst/>
            <a:ahLst/>
            <a:rect l="l" t="t" r="r" b="b"/>
            <a:pathLst>
              <a:path w="8236" h="1837">
                <a:moveTo>
                  <a:pt x="13816" y="12551"/>
                </a:moveTo>
                <a:lnTo>
                  <a:pt x="13816" y="12551"/>
                </a:lnTo>
                <a:lnTo>
                  <a:pt x="13816" y="12551"/>
                </a:lnTo>
              </a:path>
              <a:path w="8236" h="1837">
                <a:moveTo>
                  <a:pt x="13816" y="12551"/>
                </a:moveTo>
                <a:lnTo>
                  <a:pt x="13816" y="12551"/>
                </a:lnTo>
              </a:path>
              <a:path w="8236" h="1837">
                <a:moveTo>
                  <a:pt x="13866" y="12973"/>
                </a:moveTo>
                <a:lnTo>
                  <a:pt x="13866" y="12973"/>
                </a:lnTo>
              </a:path>
              <a:path w="8236" h="1837">
                <a:moveTo>
                  <a:pt x="22051" y="11137"/>
                </a:moveTo>
                <a:cubicBezTo>
                  <a:pt x="22051" y="11145"/>
                  <a:pt x="22051" y="11154"/>
                  <a:pt x="22051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18040" y="4241880"/>
            <a:ext cx="3054240" cy="822240"/>
          </a:xfrm>
          <a:custGeom>
            <a:avLst/>
            <a:gdLst/>
            <a:ahLst/>
            <a:rect l="l" t="t" r="r" b="b"/>
            <a:pathLst>
              <a:path w="8484" h="2283">
                <a:moveTo>
                  <a:pt x="13965" y="13816"/>
                </a:moveTo>
                <a:cubicBezTo>
                  <a:pt x="13897" y="13816"/>
                  <a:pt x="13975" y="13873"/>
                  <a:pt x="13990" y="13891"/>
                </a:cubicBezTo>
              </a:path>
              <a:path w="8484" h="2283">
                <a:moveTo>
                  <a:pt x="14139" y="14064"/>
                </a:moveTo>
                <a:lnTo>
                  <a:pt x="14139" y="14064"/>
                </a:lnTo>
              </a:path>
              <a:path w="8484" h="2283">
                <a:moveTo>
                  <a:pt x="22399" y="11782"/>
                </a:moveTo>
                <a:cubicBezTo>
                  <a:pt x="22399" y="11841"/>
                  <a:pt x="22405" y="11882"/>
                  <a:pt x="22423" y="11931"/>
                </a:cubicBezTo>
              </a:path>
              <a:path w="8484" h="2283">
                <a:moveTo>
                  <a:pt x="22423" y="12154"/>
                </a:moveTo>
                <a:lnTo>
                  <a:pt x="22423" y="12154"/>
                </a:lnTo>
                <a:lnTo>
                  <a:pt x="22423" y="12154"/>
                </a:lnTo>
              </a:path>
              <a:path w="8484" h="2283">
                <a:moveTo>
                  <a:pt x="22423" y="12154"/>
                </a:moveTo>
                <a:lnTo>
                  <a:pt x="22423" y="121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12080" y="3795840"/>
            <a:ext cx="857160" cy="606240"/>
          </a:xfrm>
          <a:custGeom>
            <a:avLst/>
            <a:gdLst/>
            <a:ahLst/>
            <a:rect l="l" t="t" r="r" b="b"/>
            <a:pathLst>
              <a:path w="2382" h="1688">
                <a:moveTo>
                  <a:pt x="21977" y="10939"/>
                </a:moveTo>
                <a:cubicBezTo>
                  <a:pt x="21977" y="10900"/>
                  <a:pt x="22041" y="10910"/>
                  <a:pt x="22076" y="10889"/>
                </a:cubicBezTo>
              </a:path>
              <a:path w="2382" h="1688">
                <a:moveTo>
                  <a:pt x="22027" y="10765"/>
                </a:moveTo>
                <a:cubicBezTo>
                  <a:pt x="22007" y="10865"/>
                  <a:pt x="22011" y="10828"/>
                  <a:pt x="22027" y="10964"/>
                </a:cubicBezTo>
              </a:path>
              <a:path w="2382" h="1688">
                <a:moveTo>
                  <a:pt x="22473" y="10666"/>
                </a:moveTo>
                <a:cubicBezTo>
                  <a:pt x="22452" y="10623"/>
                  <a:pt x="22572" y="10564"/>
                  <a:pt x="22647" y="10542"/>
                </a:cubicBezTo>
                <a:cubicBezTo>
                  <a:pt x="22655" y="10542"/>
                  <a:pt x="22663" y="10542"/>
                  <a:pt x="22671" y="10542"/>
                </a:cubicBezTo>
                <a:cubicBezTo>
                  <a:pt x="22671" y="10687"/>
                  <a:pt x="22639" y="10772"/>
                  <a:pt x="22547" y="10889"/>
                </a:cubicBezTo>
                <a:cubicBezTo>
                  <a:pt x="22531" y="10906"/>
                  <a:pt x="22514" y="10922"/>
                  <a:pt x="22498" y="10939"/>
                </a:cubicBezTo>
                <a:cubicBezTo>
                  <a:pt x="22559" y="10939"/>
                  <a:pt x="22597" y="10920"/>
                  <a:pt x="22647" y="10914"/>
                </a:cubicBezTo>
                <a:cubicBezTo>
                  <a:pt x="22655" y="10914"/>
                  <a:pt x="22663" y="10914"/>
                  <a:pt x="22671" y="10914"/>
                </a:cubicBezTo>
              </a:path>
              <a:path w="2382" h="1688">
                <a:moveTo>
                  <a:pt x="22299" y="11981"/>
                </a:moveTo>
                <a:cubicBezTo>
                  <a:pt x="22291" y="11973"/>
                  <a:pt x="22283" y="11964"/>
                  <a:pt x="22275" y="11956"/>
                </a:cubicBezTo>
                <a:cubicBezTo>
                  <a:pt x="22330" y="11942"/>
                  <a:pt x="22381" y="11912"/>
                  <a:pt x="22448" y="11906"/>
                </a:cubicBezTo>
                <a:cubicBezTo>
                  <a:pt x="22473" y="11906"/>
                  <a:pt x="22481" y="11906"/>
                  <a:pt x="22498" y="11906"/>
                </a:cubicBezTo>
              </a:path>
              <a:path w="2382" h="1688">
                <a:moveTo>
                  <a:pt x="22572" y="11881"/>
                </a:moveTo>
                <a:cubicBezTo>
                  <a:pt x="22638" y="11860"/>
                  <a:pt x="22653" y="11852"/>
                  <a:pt x="22696" y="11857"/>
                </a:cubicBezTo>
                <a:cubicBezTo>
                  <a:pt x="22705" y="11985"/>
                  <a:pt x="22680" y="12014"/>
                  <a:pt x="22622" y="12129"/>
                </a:cubicBezTo>
                <a:cubicBezTo>
                  <a:pt x="22724" y="12129"/>
                  <a:pt x="22765" y="12118"/>
                  <a:pt x="22845" y="12055"/>
                </a:cubicBezTo>
              </a:path>
              <a:path w="2382" h="1688">
                <a:moveTo>
                  <a:pt x="22969" y="11485"/>
                </a:moveTo>
                <a:cubicBezTo>
                  <a:pt x="23002" y="11485"/>
                  <a:pt x="23035" y="11485"/>
                  <a:pt x="23068" y="11485"/>
                </a:cubicBezTo>
              </a:path>
              <a:path w="2382" h="1688">
                <a:moveTo>
                  <a:pt x="22994" y="11609"/>
                </a:moveTo>
                <a:cubicBezTo>
                  <a:pt x="23035" y="11609"/>
                  <a:pt x="23077" y="11609"/>
                  <a:pt x="23118" y="11609"/>
                </a:cubicBezTo>
              </a:path>
              <a:path w="2382" h="1688">
                <a:moveTo>
                  <a:pt x="23515" y="11534"/>
                </a:moveTo>
                <a:cubicBezTo>
                  <a:pt x="23691" y="11534"/>
                  <a:pt x="23861" y="11517"/>
                  <a:pt x="24036" y="11509"/>
                </a:cubicBezTo>
                <a:cubicBezTo>
                  <a:pt x="24143" y="11504"/>
                  <a:pt x="24251" y="11509"/>
                  <a:pt x="24358" y="11509"/>
                </a:cubicBezTo>
              </a:path>
              <a:path w="2382" h="1688">
                <a:moveTo>
                  <a:pt x="23688" y="11832"/>
                </a:moveTo>
                <a:cubicBezTo>
                  <a:pt x="23676" y="11881"/>
                  <a:pt x="23640" y="11933"/>
                  <a:pt x="23614" y="11981"/>
                </a:cubicBezTo>
                <a:cubicBezTo>
                  <a:pt x="23668" y="12013"/>
                  <a:pt x="23730" y="12017"/>
                  <a:pt x="23788" y="12055"/>
                </a:cubicBezTo>
                <a:cubicBezTo>
                  <a:pt x="23748" y="12164"/>
                  <a:pt x="23687" y="12274"/>
                  <a:pt x="23540" y="12229"/>
                </a:cubicBezTo>
                <a:cubicBezTo>
                  <a:pt x="23489" y="12178"/>
                  <a:pt x="23473" y="12160"/>
                  <a:pt x="23490" y="12105"/>
                </a:cubicBezTo>
              </a:path>
              <a:path w="2382" h="1688">
                <a:moveTo>
                  <a:pt x="23614" y="11931"/>
                </a:moveTo>
                <a:cubicBezTo>
                  <a:pt x="23721" y="11898"/>
                  <a:pt x="23826" y="11864"/>
                  <a:pt x="23937" y="11857"/>
                </a:cubicBezTo>
                <a:cubicBezTo>
                  <a:pt x="23945" y="11857"/>
                  <a:pt x="23953" y="11857"/>
                  <a:pt x="23961" y="11857"/>
                </a:cubicBezTo>
              </a:path>
              <a:path w="2382" h="1688">
                <a:moveTo>
                  <a:pt x="23986" y="11857"/>
                </a:moveTo>
                <a:cubicBezTo>
                  <a:pt x="23973" y="11932"/>
                  <a:pt x="23943" y="12003"/>
                  <a:pt x="23937" y="12080"/>
                </a:cubicBezTo>
                <a:cubicBezTo>
                  <a:pt x="23937" y="12088"/>
                  <a:pt x="23937" y="12097"/>
                  <a:pt x="23937" y="12105"/>
                </a:cubicBezTo>
                <a:cubicBezTo>
                  <a:pt x="23987" y="12073"/>
                  <a:pt x="24138" y="11973"/>
                  <a:pt x="24061" y="11881"/>
                </a:cubicBezTo>
                <a:cubicBezTo>
                  <a:pt x="24053" y="11881"/>
                  <a:pt x="24044" y="11881"/>
                  <a:pt x="24036" y="11881"/>
                </a:cubicBezTo>
              </a:path>
              <a:path w="2382" h="1688">
                <a:moveTo>
                  <a:pt x="24085" y="11782"/>
                </a:moveTo>
                <a:cubicBezTo>
                  <a:pt x="24085" y="11874"/>
                  <a:pt x="24065" y="11980"/>
                  <a:pt x="24110" y="12055"/>
                </a:cubicBezTo>
                <a:cubicBezTo>
                  <a:pt x="24219" y="12028"/>
                  <a:pt x="24246" y="11970"/>
                  <a:pt x="24259" y="11857"/>
                </a:cubicBezTo>
                <a:cubicBezTo>
                  <a:pt x="24259" y="11811"/>
                  <a:pt x="24241" y="11790"/>
                  <a:pt x="24185" y="11782"/>
                </a:cubicBezTo>
              </a:path>
              <a:path w="2382" h="1688">
                <a:moveTo>
                  <a:pt x="23639" y="10864"/>
                </a:moveTo>
                <a:cubicBezTo>
                  <a:pt x="23665" y="10943"/>
                  <a:pt x="23617" y="10981"/>
                  <a:pt x="23589" y="11063"/>
                </a:cubicBezTo>
                <a:cubicBezTo>
                  <a:pt x="23626" y="11059"/>
                  <a:pt x="23794" y="10998"/>
                  <a:pt x="23812" y="11013"/>
                </a:cubicBezTo>
                <a:cubicBezTo>
                  <a:pt x="23812" y="11021"/>
                  <a:pt x="23812" y="11030"/>
                  <a:pt x="23812" y="11038"/>
                </a:cubicBezTo>
              </a:path>
              <a:path w="2382" h="1688">
                <a:moveTo>
                  <a:pt x="23812" y="10815"/>
                </a:moveTo>
                <a:cubicBezTo>
                  <a:pt x="23803" y="10940"/>
                  <a:pt x="23788" y="11060"/>
                  <a:pt x="23788" y="11187"/>
                </a:cubicBezTo>
                <a:cubicBezTo>
                  <a:pt x="23788" y="11212"/>
                  <a:pt x="23788" y="11220"/>
                  <a:pt x="23788" y="11237"/>
                </a:cubicBezTo>
              </a:path>
              <a:path w="2382" h="1688">
                <a:moveTo>
                  <a:pt x="24036" y="10740"/>
                </a:moveTo>
                <a:cubicBezTo>
                  <a:pt x="24036" y="10859"/>
                  <a:pt x="24018" y="10970"/>
                  <a:pt x="24011" y="11088"/>
                </a:cubicBezTo>
                <a:cubicBezTo>
                  <a:pt x="24002" y="11231"/>
                  <a:pt x="24007" y="11178"/>
                  <a:pt x="23986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2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handle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a decimal that has repeating dig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You will use ‘bar notation’ lik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555555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you would writ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87187187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929292929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ould be express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2240" y="3214800"/>
            <a:ext cx="928800" cy="420480"/>
          </a:xfrm>
          <a:custGeom>
            <a:avLst/>
            <a:gdLst/>
            <a:ahLst/>
            <a:rect l="l" t="t" r="r" b="b"/>
            <a:pathLst>
              <a:path w="2581" h="1167">
                <a:moveTo>
                  <a:pt x="18132" y="9376"/>
                </a:moveTo>
                <a:cubicBezTo>
                  <a:pt x="18053" y="9255"/>
                  <a:pt x="17905" y="9561"/>
                  <a:pt x="17884" y="9599"/>
                </a:cubicBezTo>
                <a:cubicBezTo>
                  <a:pt x="17811" y="9728"/>
                  <a:pt x="17653" y="10149"/>
                  <a:pt x="17983" y="10096"/>
                </a:cubicBezTo>
                <a:cubicBezTo>
                  <a:pt x="18208" y="10060"/>
                  <a:pt x="18355" y="9779"/>
                  <a:pt x="18281" y="9575"/>
                </a:cubicBezTo>
                <a:cubicBezTo>
                  <a:pt x="18265" y="9530"/>
                  <a:pt x="18111" y="9324"/>
                  <a:pt x="18033" y="9376"/>
                </a:cubicBezTo>
                <a:cubicBezTo>
                  <a:pt x="18033" y="9384"/>
                  <a:pt x="18033" y="9393"/>
                  <a:pt x="18033" y="9401"/>
                </a:cubicBezTo>
              </a:path>
              <a:path w="2581" h="1167">
                <a:moveTo>
                  <a:pt x="18554" y="9897"/>
                </a:moveTo>
                <a:cubicBezTo>
                  <a:pt x="18538" y="9902"/>
                  <a:pt x="18478" y="9944"/>
                  <a:pt x="18529" y="9947"/>
                </a:cubicBezTo>
                <a:cubicBezTo>
                  <a:pt x="18587" y="9947"/>
                  <a:pt x="18612" y="9964"/>
                  <a:pt x="18604" y="9922"/>
                </a:cubicBezTo>
                <a:cubicBezTo>
                  <a:pt x="18559" y="9928"/>
                  <a:pt x="18510" y="9966"/>
                  <a:pt x="18554" y="9922"/>
                </a:cubicBezTo>
              </a:path>
              <a:path w="2581" h="1167">
                <a:moveTo>
                  <a:pt x="19397" y="9302"/>
                </a:moveTo>
                <a:cubicBezTo>
                  <a:pt x="19322" y="9327"/>
                  <a:pt x="19244" y="9330"/>
                  <a:pt x="19174" y="9351"/>
                </a:cubicBezTo>
                <a:cubicBezTo>
                  <a:pt x="19081" y="9378"/>
                  <a:pt x="19075" y="9543"/>
                  <a:pt x="19050" y="9624"/>
                </a:cubicBezTo>
                <a:cubicBezTo>
                  <a:pt x="19115" y="9646"/>
                  <a:pt x="19176" y="9609"/>
                  <a:pt x="19273" y="9599"/>
                </a:cubicBezTo>
                <a:cubicBezTo>
                  <a:pt x="19400" y="9587"/>
                  <a:pt x="19668" y="9698"/>
                  <a:pt x="19521" y="9872"/>
                </a:cubicBezTo>
                <a:cubicBezTo>
                  <a:pt x="19401" y="10015"/>
                  <a:pt x="19214" y="9996"/>
                  <a:pt x="19050" y="9996"/>
                </a:cubicBezTo>
              </a:path>
              <a:path w="2581" h="1167">
                <a:moveTo>
                  <a:pt x="20191" y="9277"/>
                </a:moveTo>
                <a:cubicBezTo>
                  <a:pt x="20128" y="9277"/>
                  <a:pt x="19938" y="9254"/>
                  <a:pt x="19893" y="9327"/>
                </a:cubicBezTo>
                <a:cubicBezTo>
                  <a:pt x="19843" y="9408"/>
                  <a:pt x="19869" y="9533"/>
                  <a:pt x="19869" y="9624"/>
                </a:cubicBezTo>
                <a:cubicBezTo>
                  <a:pt x="19946" y="9624"/>
                  <a:pt x="19972" y="9582"/>
                  <a:pt x="20042" y="9550"/>
                </a:cubicBezTo>
                <a:cubicBezTo>
                  <a:pt x="20147" y="9502"/>
                  <a:pt x="20290" y="9542"/>
                  <a:pt x="20340" y="9649"/>
                </a:cubicBezTo>
                <a:cubicBezTo>
                  <a:pt x="20401" y="9778"/>
                  <a:pt x="20334" y="9960"/>
                  <a:pt x="20191" y="9996"/>
                </a:cubicBezTo>
                <a:cubicBezTo>
                  <a:pt x="20141" y="10009"/>
                  <a:pt x="20032" y="10015"/>
                  <a:pt x="20017" y="9971"/>
                </a:cubicBezTo>
              </a:path>
              <a:path w="2581" h="1167">
                <a:moveTo>
                  <a:pt x="20017" y="8954"/>
                </a:moveTo>
                <a:cubicBezTo>
                  <a:pt x="20110" y="8945"/>
                  <a:pt x="20195" y="8930"/>
                  <a:pt x="20290" y="8930"/>
                </a:cubicBezTo>
                <a:cubicBezTo>
                  <a:pt x="20364" y="8930"/>
                  <a:pt x="20167" y="8979"/>
                  <a:pt x="20166" y="8979"/>
                </a:cubicBezTo>
                <a:cubicBezTo>
                  <a:pt x="20079" y="8988"/>
                  <a:pt x="20004" y="8992"/>
                  <a:pt x="19918" y="9004"/>
                </a:cubicBezTo>
                <a:cubicBezTo>
                  <a:pt x="19995" y="9004"/>
                  <a:pt x="20092" y="8991"/>
                  <a:pt x="20166" y="8979"/>
                </a:cubicBezTo>
                <a:cubicBezTo>
                  <a:pt x="20199" y="8971"/>
                  <a:pt x="20232" y="8962"/>
                  <a:pt x="20265" y="8954"/>
                </a:cubicBezTo>
                <a:cubicBezTo>
                  <a:pt x="20351" y="8997"/>
                  <a:pt x="20138" y="9002"/>
                  <a:pt x="20042" y="9004"/>
                </a:cubicBezTo>
                <a:cubicBezTo>
                  <a:pt x="19839" y="9008"/>
                  <a:pt x="19707" y="9002"/>
                  <a:pt x="19993" y="8979"/>
                </a:cubicBezTo>
                <a:cubicBezTo>
                  <a:pt x="20077" y="8972"/>
                  <a:pt x="20157" y="8965"/>
                  <a:pt x="20241" y="8954"/>
                </a:cubicBezTo>
                <a:cubicBezTo>
                  <a:pt x="20175" y="8964"/>
                  <a:pt x="19994" y="9021"/>
                  <a:pt x="19943" y="9004"/>
                </a:cubicBezTo>
                <a:cubicBezTo>
                  <a:pt x="19868" y="8979"/>
                  <a:pt x="20088" y="8963"/>
                  <a:pt x="20166" y="8954"/>
                </a:cubicBezTo>
                <a:cubicBezTo>
                  <a:pt x="20208" y="8954"/>
                  <a:pt x="20216" y="8954"/>
                  <a:pt x="20241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73760" y="4464000"/>
            <a:ext cx="812520" cy="331920"/>
          </a:xfrm>
          <a:custGeom>
            <a:avLst/>
            <a:gdLst/>
            <a:ahLst/>
            <a:rect l="l" t="t" r="r" b="b"/>
            <a:pathLst>
              <a:path w="2258" h="919">
                <a:moveTo>
                  <a:pt x="14089" y="12700"/>
                </a:moveTo>
                <a:cubicBezTo>
                  <a:pt x="14146" y="12623"/>
                  <a:pt x="14242" y="12618"/>
                  <a:pt x="14337" y="12626"/>
                </a:cubicBezTo>
                <a:cubicBezTo>
                  <a:pt x="14337" y="12797"/>
                  <a:pt x="14235" y="12934"/>
                  <a:pt x="14039" y="12973"/>
                </a:cubicBezTo>
                <a:cubicBezTo>
                  <a:pt x="14031" y="12965"/>
                  <a:pt x="14023" y="12956"/>
                  <a:pt x="14015" y="12948"/>
                </a:cubicBezTo>
                <a:cubicBezTo>
                  <a:pt x="14113" y="12905"/>
                  <a:pt x="14331" y="12919"/>
                  <a:pt x="14312" y="13097"/>
                </a:cubicBezTo>
                <a:cubicBezTo>
                  <a:pt x="14288" y="13317"/>
                  <a:pt x="13962" y="13324"/>
                  <a:pt x="13816" y="13271"/>
                </a:cubicBezTo>
                <a:cubicBezTo>
                  <a:pt x="13751" y="13248"/>
                  <a:pt x="13923" y="13212"/>
                  <a:pt x="13990" y="13196"/>
                </a:cubicBezTo>
              </a:path>
              <a:path w="2258" h="919">
                <a:moveTo>
                  <a:pt x="14560" y="13246"/>
                </a:moveTo>
                <a:cubicBezTo>
                  <a:pt x="14560" y="13287"/>
                  <a:pt x="14560" y="13295"/>
                  <a:pt x="14560" y="13320"/>
                </a:cubicBezTo>
              </a:path>
              <a:path w="2258" h="919">
                <a:moveTo>
                  <a:pt x="14957" y="12750"/>
                </a:moveTo>
                <a:cubicBezTo>
                  <a:pt x="14948" y="12916"/>
                  <a:pt x="14932" y="13078"/>
                  <a:pt x="14932" y="13246"/>
                </a:cubicBezTo>
                <a:cubicBezTo>
                  <a:pt x="14932" y="13254"/>
                  <a:pt x="14932" y="13263"/>
                  <a:pt x="14932" y="13271"/>
                </a:cubicBezTo>
              </a:path>
              <a:path w="2258" h="919">
                <a:moveTo>
                  <a:pt x="15453" y="12675"/>
                </a:moveTo>
                <a:cubicBezTo>
                  <a:pt x="15340" y="12675"/>
                  <a:pt x="15292" y="12705"/>
                  <a:pt x="15205" y="12774"/>
                </a:cubicBezTo>
                <a:cubicBezTo>
                  <a:pt x="15240" y="12923"/>
                  <a:pt x="15448" y="13005"/>
                  <a:pt x="15453" y="13146"/>
                </a:cubicBezTo>
                <a:cubicBezTo>
                  <a:pt x="15458" y="13283"/>
                  <a:pt x="15292" y="13250"/>
                  <a:pt x="15230" y="13246"/>
                </a:cubicBezTo>
                <a:cubicBezTo>
                  <a:pt x="15202" y="13054"/>
                  <a:pt x="15278" y="12984"/>
                  <a:pt x="15379" y="12824"/>
                </a:cubicBezTo>
                <a:cubicBezTo>
                  <a:pt x="15412" y="12771"/>
                  <a:pt x="15416" y="12749"/>
                  <a:pt x="15379" y="12725"/>
                </a:cubicBezTo>
              </a:path>
              <a:path w="2258" h="919">
                <a:moveTo>
                  <a:pt x="15627" y="12725"/>
                </a:moveTo>
                <a:cubicBezTo>
                  <a:pt x="15717" y="12702"/>
                  <a:pt x="15793" y="12712"/>
                  <a:pt x="15900" y="12700"/>
                </a:cubicBezTo>
                <a:cubicBezTo>
                  <a:pt x="15976" y="12692"/>
                  <a:pt x="16008" y="12675"/>
                  <a:pt x="16073" y="12675"/>
                </a:cubicBezTo>
                <a:cubicBezTo>
                  <a:pt x="16062" y="12843"/>
                  <a:pt x="16025" y="13004"/>
                  <a:pt x="15999" y="13171"/>
                </a:cubicBezTo>
                <a:cubicBezTo>
                  <a:pt x="15999" y="13196"/>
                  <a:pt x="15999" y="13204"/>
                  <a:pt x="15999" y="13221"/>
                </a:cubicBezTo>
              </a:path>
              <a:path w="2258" h="919">
                <a:moveTo>
                  <a:pt x="14883" y="12402"/>
                </a:moveTo>
                <a:cubicBezTo>
                  <a:pt x="14875" y="12410"/>
                  <a:pt x="14866" y="12419"/>
                  <a:pt x="14858" y="12427"/>
                </a:cubicBezTo>
                <a:cubicBezTo>
                  <a:pt x="15247" y="12427"/>
                  <a:pt x="16290" y="12201"/>
                  <a:pt x="15974" y="12427"/>
                </a:cubicBezTo>
                <a:cubicBezTo>
                  <a:pt x="15966" y="12435"/>
                  <a:pt x="15957" y="12444"/>
                  <a:pt x="15949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22920" y="5402160"/>
            <a:ext cx="1778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3618" y="15453"/>
                </a:moveTo>
                <a:cubicBezTo>
                  <a:pt x="13618" y="15551"/>
                  <a:pt x="13600" y="15695"/>
                  <a:pt x="13643" y="15751"/>
                </a:cubicBezTo>
              </a:path>
              <a:path w="497" h="770">
                <a:moveTo>
                  <a:pt x="13643" y="15106"/>
                </a:moveTo>
                <a:cubicBezTo>
                  <a:pt x="13623" y="15080"/>
                  <a:pt x="13618" y="15013"/>
                  <a:pt x="13618" y="15056"/>
                </a:cubicBezTo>
                <a:cubicBezTo>
                  <a:pt x="13618" y="15196"/>
                  <a:pt x="13634" y="15355"/>
                  <a:pt x="13593" y="15478"/>
                </a:cubicBezTo>
                <a:cubicBezTo>
                  <a:pt x="13667" y="15478"/>
                  <a:pt x="13700" y="15441"/>
                  <a:pt x="13767" y="15429"/>
                </a:cubicBezTo>
                <a:cubicBezTo>
                  <a:pt x="13827" y="15418"/>
                  <a:pt x="13832" y="15421"/>
                  <a:pt x="13841" y="15329"/>
                </a:cubicBezTo>
                <a:cubicBezTo>
                  <a:pt x="13853" y="15214"/>
                  <a:pt x="13841" y="15148"/>
                  <a:pt x="13841" y="15032"/>
                </a:cubicBezTo>
                <a:cubicBezTo>
                  <a:pt x="13841" y="15274"/>
                  <a:pt x="13826" y="15511"/>
                  <a:pt x="13816" y="15751"/>
                </a:cubicBezTo>
                <a:cubicBezTo>
                  <a:pt x="13816" y="15759"/>
                  <a:pt x="13816" y="15768"/>
                  <a:pt x="13816" y="15776"/>
                </a:cubicBezTo>
              </a:path>
              <a:path w="497" h="770">
                <a:moveTo>
                  <a:pt x="13767" y="15180"/>
                </a:moveTo>
                <a:cubicBezTo>
                  <a:pt x="13650" y="15207"/>
                  <a:pt x="13586" y="15195"/>
                  <a:pt x="13519" y="15280"/>
                </a:cubicBezTo>
                <a:cubicBezTo>
                  <a:pt x="13606" y="15258"/>
                  <a:pt x="14042" y="15112"/>
                  <a:pt x="13791" y="15280"/>
                </a:cubicBezTo>
                <a:cubicBezTo>
                  <a:pt x="13527" y="15456"/>
                  <a:pt x="13198" y="15535"/>
                  <a:pt x="13667" y="15453"/>
                </a:cubicBezTo>
                <a:cubicBezTo>
                  <a:pt x="13708" y="15453"/>
                  <a:pt x="13750" y="15453"/>
                  <a:pt x="13791" y="15453"/>
                </a:cubicBezTo>
                <a:cubicBezTo>
                  <a:pt x="13676" y="15506"/>
                  <a:pt x="13574" y="15553"/>
                  <a:pt x="13469" y="15627"/>
                </a:cubicBezTo>
                <a:cubicBezTo>
                  <a:pt x="13644" y="15592"/>
                  <a:pt x="13998" y="15441"/>
                  <a:pt x="13593" y="15652"/>
                </a:cubicBezTo>
                <a:cubicBezTo>
                  <a:pt x="13585" y="15660"/>
                  <a:pt x="13576" y="15669"/>
                  <a:pt x="13568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40240" y="5180040"/>
            <a:ext cx="366840" cy="384120"/>
          </a:xfrm>
          <a:custGeom>
            <a:avLst/>
            <a:gdLst/>
            <a:ahLst/>
            <a:rect l="l" t="t" r="r" b="b"/>
            <a:pathLst>
              <a:path w="1018" h="1067">
                <a:moveTo>
                  <a:pt x="15032" y="14660"/>
                </a:moveTo>
                <a:cubicBezTo>
                  <a:pt x="14955" y="14791"/>
                  <a:pt x="14982" y="14804"/>
                  <a:pt x="14833" y="14833"/>
                </a:cubicBezTo>
                <a:cubicBezTo>
                  <a:pt x="14894" y="14713"/>
                  <a:pt x="15149" y="14805"/>
                  <a:pt x="15280" y="14833"/>
                </a:cubicBezTo>
                <a:cubicBezTo>
                  <a:pt x="15392" y="14857"/>
                  <a:pt x="15390" y="14893"/>
                  <a:pt x="15404" y="14808"/>
                </a:cubicBezTo>
              </a:path>
              <a:path w="1018" h="1067">
                <a:moveTo>
                  <a:pt x="15354" y="14387"/>
                </a:moveTo>
                <a:cubicBezTo>
                  <a:pt x="15354" y="14678"/>
                  <a:pt x="15363" y="14966"/>
                  <a:pt x="15329" y="15255"/>
                </a:cubicBezTo>
                <a:cubicBezTo>
                  <a:pt x="15320" y="15329"/>
                  <a:pt x="15304" y="15504"/>
                  <a:pt x="15304" y="15429"/>
                </a:cubicBezTo>
              </a:path>
              <a:path w="1018" h="1067">
                <a:moveTo>
                  <a:pt x="15801" y="15156"/>
                </a:moveTo>
                <a:cubicBezTo>
                  <a:pt x="15773" y="15071"/>
                  <a:pt x="15706" y="15262"/>
                  <a:pt x="15701" y="15280"/>
                </a:cubicBezTo>
                <a:cubicBezTo>
                  <a:pt x="15663" y="15409"/>
                  <a:pt x="15828" y="15250"/>
                  <a:pt x="15850" y="15230"/>
                </a:cubicBezTo>
                <a:cubicBezTo>
                  <a:pt x="15791" y="15200"/>
                  <a:pt x="15764" y="15198"/>
                  <a:pt x="15726" y="15255"/>
                </a:cubicBezTo>
                <a:cubicBezTo>
                  <a:pt x="15642" y="15366"/>
                  <a:pt x="15847" y="15283"/>
                  <a:pt x="15825" y="15230"/>
                </a:cubicBezTo>
                <a:cubicBezTo>
                  <a:pt x="15784" y="15230"/>
                  <a:pt x="15768" y="15222"/>
                  <a:pt x="15776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84920" y="5089680"/>
            <a:ext cx="339840" cy="376200"/>
          </a:xfrm>
          <a:custGeom>
            <a:avLst/>
            <a:gdLst/>
            <a:ahLst/>
            <a:rect l="l" t="t" r="r" b="b"/>
            <a:pathLst>
              <a:path w="944" h="1042">
                <a:moveTo>
                  <a:pt x="16594" y="14709"/>
                </a:moveTo>
                <a:cubicBezTo>
                  <a:pt x="16671" y="14652"/>
                  <a:pt x="16643" y="14537"/>
                  <a:pt x="16570" y="14461"/>
                </a:cubicBezTo>
                <a:cubicBezTo>
                  <a:pt x="16545" y="14445"/>
                  <a:pt x="16520" y="14428"/>
                  <a:pt x="16495" y="14412"/>
                </a:cubicBezTo>
                <a:cubicBezTo>
                  <a:pt x="16391" y="14504"/>
                  <a:pt x="16267" y="14672"/>
                  <a:pt x="16396" y="14808"/>
                </a:cubicBezTo>
                <a:cubicBezTo>
                  <a:pt x="16510" y="14928"/>
                  <a:pt x="16610" y="14653"/>
                  <a:pt x="16644" y="14585"/>
                </a:cubicBezTo>
                <a:cubicBezTo>
                  <a:pt x="16644" y="14577"/>
                  <a:pt x="16644" y="14568"/>
                  <a:pt x="16644" y="14560"/>
                </a:cubicBezTo>
                <a:cubicBezTo>
                  <a:pt x="16669" y="14734"/>
                  <a:pt x="16669" y="14904"/>
                  <a:pt x="16669" y="15081"/>
                </a:cubicBezTo>
                <a:cubicBezTo>
                  <a:pt x="16669" y="15139"/>
                  <a:pt x="16669" y="15181"/>
                  <a:pt x="16669" y="15131"/>
                </a:cubicBezTo>
              </a:path>
              <a:path w="944" h="1042">
                <a:moveTo>
                  <a:pt x="16892" y="14610"/>
                </a:moveTo>
                <a:cubicBezTo>
                  <a:pt x="16904" y="14573"/>
                  <a:pt x="16989" y="14554"/>
                  <a:pt x="17016" y="14610"/>
                </a:cubicBezTo>
                <a:cubicBezTo>
                  <a:pt x="17108" y="14802"/>
                  <a:pt x="16958" y="14976"/>
                  <a:pt x="16842" y="15106"/>
                </a:cubicBezTo>
                <a:cubicBezTo>
                  <a:pt x="16826" y="15123"/>
                  <a:pt x="16809" y="15139"/>
                  <a:pt x="16793" y="15156"/>
                </a:cubicBezTo>
                <a:cubicBezTo>
                  <a:pt x="16945" y="15156"/>
                  <a:pt x="17091" y="15117"/>
                  <a:pt x="17239" y="15156"/>
                </a:cubicBezTo>
                <a:cubicBezTo>
                  <a:pt x="17262" y="15178"/>
                  <a:pt x="17267" y="15186"/>
                  <a:pt x="17289" y="15180"/>
                </a:cubicBezTo>
              </a:path>
              <a:path w="944" h="1042">
                <a:moveTo>
                  <a:pt x="16421" y="14163"/>
                </a:moveTo>
                <a:cubicBezTo>
                  <a:pt x="16437" y="14133"/>
                  <a:pt x="16766" y="14186"/>
                  <a:pt x="16818" y="14188"/>
                </a:cubicBezTo>
                <a:cubicBezTo>
                  <a:pt x="16899" y="14192"/>
                  <a:pt x="16984" y="14188"/>
                  <a:pt x="17066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3776760"/>
            <a:ext cx="4483080" cy="2384280"/>
          </a:xfrm>
          <a:custGeom>
            <a:avLst/>
            <a:gdLst/>
            <a:ahLst/>
            <a:rect l="l" t="t" r="r" b="b"/>
            <a:pathLst>
              <a:path w="12453" h="6624">
                <a:moveTo>
                  <a:pt x="14957" y="12725"/>
                </a:moveTo>
                <a:lnTo>
                  <a:pt x="14957" y="12725"/>
                </a:lnTo>
              </a:path>
              <a:path w="12453" h="6624">
                <a:moveTo>
                  <a:pt x="8830" y="10492"/>
                </a:moveTo>
                <a:cubicBezTo>
                  <a:pt x="8855" y="10500"/>
                  <a:pt x="8880" y="10509"/>
                  <a:pt x="8905" y="10517"/>
                </a:cubicBezTo>
              </a:path>
              <a:path w="12453" h="6624">
                <a:moveTo>
                  <a:pt x="2530" y="16818"/>
                </a:moveTo>
                <a:cubicBezTo>
                  <a:pt x="2461" y="16840"/>
                  <a:pt x="2606" y="16966"/>
                  <a:pt x="2629" y="16991"/>
                </a:cubicBezTo>
                <a:cubicBezTo>
                  <a:pt x="2801" y="17178"/>
                  <a:pt x="3034" y="17137"/>
                  <a:pt x="3249" y="17041"/>
                </a:cubicBezTo>
                <a:cubicBezTo>
                  <a:pt x="3358" y="16992"/>
                  <a:pt x="3411" y="16935"/>
                  <a:pt x="3473" y="16842"/>
                </a:cubicBezTo>
              </a:path>
              <a:path w="12453" h="6624">
                <a:moveTo>
                  <a:pt x="8781" y="12874"/>
                </a:moveTo>
                <a:lnTo>
                  <a:pt x="8781" y="128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55800" y="4857840"/>
            <a:ext cx="1044360" cy="152280"/>
          </a:xfrm>
          <a:custGeom>
            <a:avLst/>
            <a:gdLst/>
            <a:ahLst/>
            <a:rect l="l" t="t" r="r" b="b"/>
            <a:pathLst>
              <a:path w="2903" h="422">
                <a:moveTo>
                  <a:pt x="2654" y="13494"/>
                </a:moveTo>
                <a:cubicBezTo>
                  <a:pt x="2664" y="13654"/>
                  <a:pt x="2682" y="13771"/>
                  <a:pt x="2828" y="13866"/>
                </a:cubicBezTo>
                <a:cubicBezTo>
                  <a:pt x="2991" y="13973"/>
                  <a:pt x="3289" y="13911"/>
                  <a:pt x="3473" y="13891"/>
                </a:cubicBezTo>
                <a:cubicBezTo>
                  <a:pt x="3583" y="13879"/>
                  <a:pt x="3753" y="13835"/>
                  <a:pt x="3845" y="13767"/>
                </a:cubicBezTo>
                <a:cubicBezTo>
                  <a:pt x="3905" y="13722"/>
                  <a:pt x="3982" y="13660"/>
                  <a:pt x="4018" y="13593"/>
                </a:cubicBezTo>
                <a:cubicBezTo>
                  <a:pt x="4018" y="13585"/>
                  <a:pt x="4018" y="13576"/>
                  <a:pt x="4018" y="13568"/>
                </a:cubicBezTo>
              </a:path>
              <a:path w="2903" h="422">
                <a:moveTo>
                  <a:pt x="4366" y="13519"/>
                </a:moveTo>
                <a:cubicBezTo>
                  <a:pt x="4346" y="13597"/>
                  <a:pt x="4465" y="13732"/>
                  <a:pt x="4564" y="13791"/>
                </a:cubicBezTo>
                <a:cubicBezTo>
                  <a:pt x="4731" y="13891"/>
                  <a:pt x="4953" y="13879"/>
                  <a:pt x="5135" y="13841"/>
                </a:cubicBezTo>
                <a:cubicBezTo>
                  <a:pt x="5233" y="13821"/>
                  <a:pt x="5278" y="13760"/>
                  <a:pt x="5358" y="13717"/>
                </a:cubicBezTo>
                <a:cubicBezTo>
                  <a:pt x="5394" y="13698"/>
                  <a:pt x="5453" y="13684"/>
                  <a:pt x="5482" y="13643"/>
                </a:cubicBezTo>
                <a:cubicBezTo>
                  <a:pt x="5518" y="13594"/>
                  <a:pt x="5502" y="13582"/>
                  <a:pt x="5556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6640" y="4875120"/>
            <a:ext cx="519120" cy="152640"/>
          </a:xfrm>
          <a:custGeom>
            <a:avLst/>
            <a:gdLst/>
            <a:ahLst/>
            <a:rect l="l" t="t" r="r" b="b"/>
            <a:pathLst>
              <a:path w="1440" h="423">
                <a:moveTo>
                  <a:pt x="6350" y="13568"/>
                </a:moveTo>
                <a:cubicBezTo>
                  <a:pt x="6284" y="13502"/>
                  <a:pt x="6407" y="13700"/>
                  <a:pt x="6424" y="13717"/>
                </a:cubicBezTo>
                <a:cubicBezTo>
                  <a:pt x="6556" y="13849"/>
                  <a:pt x="6676" y="13862"/>
                  <a:pt x="6846" y="13915"/>
                </a:cubicBezTo>
                <a:cubicBezTo>
                  <a:pt x="6998" y="13962"/>
                  <a:pt x="7109" y="13971"/>
                  <a:pt x="7268" y="13940"/>
                </a:cubicBezTo>
                <a:cubicBezTo>
                  <a:pt x="7373" y="13919"/>
                  <a:pt x="7497" y="13866"/>
                  <a:pt x="7590" y="13816"/>
                </a:cubicBezTo>
                <a:cubicBezTo>
                  <a:pt x="7646" y="13786"/>
                  <a:pt x="7705" y="13726"/>
                  <a:pt x="7739" y="13692"/>
                </a:cubicBezTo>
                <a:cubicBezTo>
                  <a:pt x="7739" y="13667"/>
                  <a:pt x="7739" y="13659"/>
                  <a:pt x="7764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9920" y="6037200"/>
            <a:ext cx="1224000" cy="115920"/>
          </a:xfrm>
          <a:custGeom>
            <a:avLst/>
            <a:gdLst/>
            <a:ahLst/>
            <a:rect l="l" t="t" r="r" b="b"/>
            <a:pathLst>
              <a:path w="3399" h="323">
                <a:moveTo>
                  <a:pt x="3820" y="16768"/>
                </a:moveTo>
                <a:cubicBezTo>
                  <a:pt x="3787" y="16768"/>
                  <a:pt x="3754" y="16768"/>
                  <a:pt x="3721" y="16768"/>
                </a:cubicBezTo>
                <a:cubicBezTo>
                  <a:pt x="3721" y="16845"/>
                  <a:pt x="3830" y="16959"/>
                  <a:pt x="3894" y="16991"/>
                </a:cubicBezTo>
                <a:cubicBezTo>
                  <a:pt x="4025" y="17057"/>
                  <a:pt x="4249" y="17022"/>
                  <a:pt x="4366" y="16942"/>
                </a:cubicBezTo>
                <a:cubicBezTo>
                  <a:pt x="4429" y="16899"/>
                  <a:pt x="4467" y="16826"/>
                  <a:pt x="4514" y="16768"/>
                </a:cubicBezTo>
              </a:path>
              <a:path w="3399" h="323">
                <a:moveTo>
                  <a:pt x="4961" y="16818"/>
                </a:moveTo>
                <a:cubicBezTo>
                  <a:pt x="4961" y="16909"/>
                  <a:pt x="4989" y="16953"/>
                  <a:pt x="5060" y="17016"/>
                </a:cubicBezTo>
                <a:cubicBezTo>
                  <a:pt x="5224" y="17160"/>
                  <a:pt x="5393" y="17060"/>
                  <a:pt x="5556" y="16991"/>
                </a:cubicBezTo>
                <a:cubicBezTo>
                  <a:pt x="5650" y="16951"/>
                  <a:pt x="5704" y="16931"/>
                  <a:pt x="5779" y="16867"/>
                </a:cubicBezTo>
              </a:path>
              <a:path w="3399" h="323">
                <a:moveTo>
                  <a:pt x="6276" y="16842"/>
                </a:moveTo>
                <a:cubicBezTo>
                  <a:pt x="6394" y="16985"/>
                  <a:pt x="6521" y="17071"/>
                  <a:pt x="6722" y="17041"/>
                </a:cubicBezTo>
                <a:cubicBezTo>
                  <a:pt x="6911" y="17013"/>
                  <a:pt x="6969" y="16919"/>
                  <a:pt x="7094" y="16818"/>
                </a:cubicBezTo>
                <a:cubicBezTo>
                  <a:pt x="7102" y="16818"/>
                  <a:pt x="7111" y="16818"/>
                  <a:pt x="7119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209680" y="2819520"/>
          <a:ext cx="4064040" cy="3344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52880" y="4800600"/>
          <a:ext cx="3542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800600"/>
                    <a:ext cx="354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24280" y="4038480"/>
          <a:ext cx="40500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038480"/>
                    <a:ext cx="4050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303800" y="3456000"/>
            <a:ext cx="1162080" cy="465120"/>
          </a:xfrm>
          <a:custGeom>
            <a:avLst/>
            <a:gdLst/>
            <a:ahLst/>
            <a:rect l="l" t="t" r="r" b="b"/>
            <a:pathLst>
              <a:path w="3225" h="1291">
                <a:moveTo>
                  <a:pt x="12675" y="9674"/>
                </a:moveTo>
                <a:cubicBezTo>
                  <a:pt x="12741" y="9674"/>
                  <a:pt x="12612" y="9686"/>
                  <a:pt x="12601" y="9699"/>
                </a:cubicBezTo>
                <a:cubicBezTo>
                  <a:pt x="12577" y="9727"/>
                  <a:pt x="12521" y="9736"/>
                  <a:pt x="12477" y="9773"/>
                </a:cubicBezTo>
                <a:cubicBezTo>
                  <a:pt x="12416" y="9823"/>
                  <a:pt x="12427" y="9901"/>
                  <a:pt x="12427" y="9971"/>
                </a:cubicBezTo>
                <a:cubicBezTo>
                  <a:pt x="12427" y="9979"/>
                  <a:pt x="12427" y="9988"/>
                  <a:pt x="12427" y="9996"/>
                </a:cubicBezTo>
                <a:cubicBezTo>
                  <a:pt x="12476" y="9980"/>
                  <a:pt x="12521" y="9953"/>
                  <a:pt x="12601" y="9947"/>
                </a:cubicBezTo>
                <a:cubicBezTo>
                  <a:pt x="12601" y="10023"/>
                  <a:pt x="12624" y="10123"/>
                  <a:pt x="12526" y="10145"/>
                </a:cubicBezTo>
                <a:cubicBezTo>
                  <a:pt x="12495" y="10152"/>
                  <a:pt x="12438" y="10145"/>
                  <a:pt x="12402" y="10145"/>
                </a:cubicBezTo>
              </a:path>
              <a:path w="3225" h="1291">
                <a:moveTo>
                  <a:pt x="12700" y="9748"/>
                </a:moveTo>
                <a:cubicBezTo>
                  <a:pt x="12750" y="9723"/>
                  <a:pt x="12788" y="9723"/>
                  <a:pt x="12849" y="9723"/>
                </a:cubicBezTo>
                <a:cubicBezTo>
                  <a:pt x="12898" y="9837"/>
                  <a:pt x="12849" y="9897"/>
                  <a:pt x="12774" y="9996"/>
                </a:cubicBezTo>
                <a:cubicBezTo>
                  <a:pt x="12766" y="10004"/>
                  <a:pt x="12758" y="10013"/>
                  <a:pt x="12750" y="10021"/>
                </a:cubicBezTo>
                <a:cubicBezTo>
                  <a:pt x="12833" y="10040"/>
                  <a:pt x="12908" y="10026"/>
                  <a:pt x="12998" y="10046"/>
                </a:cubicBezTo>
                <a:cubicBezTo>
                  <a:pt x="13045" y="10056"/>
                  <a:pt x="13044" y="10048"/>
                  <a:pt x="13097" y="10071"/>
                </a:cubicBezTo>
              </a:path>
              <a:path w="3225" h="1291">
                <a:moveTo>
                  <a:pt x="12229" y="10368"/>
                </a:moveTo>
                <a:cubicBezTo>
                  <a:pt x="12480" y="10313"/>
                  <a:pt x="12721" y="10282"/>
                  <a:pt x="12973" y="10294"/>
                </a:cubicBezTo>
                <a:cubicBezTo>
                  <a:pt x="13030" y="10297"/>
                  <a:pt x="13089" y="10294"/>
                  <a:pt x="13146" y="10294"/>
                </a:cubicBezTo>
              </a:path>
              <a:path w="3225" h="1291">
                <a:moveTo>
                  <a:pt x="12055" y="10443"/>
                </a:moveTo>
                <a:cubicBezTo>
                  <a:pt x="12018" y="10581"/>
                  <a:pt x="11988" y="10727"/>
                  <a:pt x="11956" y="10864"/>
                </a:cubicBezTo>
                <a:cubicBezTo>
                  <a:pt x="11956" y="10872"/>
                  <a:pt x="11956" y="10881"/>
                  <a:pt x="11956" y="10889"/>
                </a:cubicBezTo>
              </a:path>
              <a:path w="3225" h="1291">
                <a:moveTo>
                  <a:pt x="12452" y="10492"/>
                </a:moveTo>
                <a:cubicBezTo>
                  <a:pt x="12360" y="10492"/>
                  <a:pt x="12332" y="10530"/>
                  <a:pt x="12278" y="10616"/>
                </a:cubicBezTo>
                <a:cubicBezTo>
                  <a:pt x="12222" y="10705"/>
                  <a:pt x="12229" y="10742"/>
                  <a:pt x="12229" y="10840"/>
                </a:cubicBezTo>
                <a:cubicBezTo>
                  <a:pt x="12387" y="10852"/>
                  <a:pt x="12449" y="10774"/>
                  <a:pt x="12502" y="10616"/>
                </a:cubicBezTo>
                <a:cubicBezTo>
                  <a:pt x="12526" y="10544"/>
                  <a:pt x="12414" y="10550"/>
                  <a:pt x="12378" y="10542"/>
                </a:cubicBezTo>
              </a:path>
              <a:path w="3225" h="1291">
                <a:moveTo>
                  <a:pt x="12799" y="10418"/>
                </a:moveTo>
                <a:cubicBezTo>
                  <a:pt x="12730" y="10522"/>
                  <a:pt x="12672" y="10638"/>
                  <a:pt x="12650" y="10765"/>
                </a:cubicBezTo>
                <a:cubicBezTo>
                  <a:pt x="12650" y="10790"/>
                  <a:pt x="12650" y="10815"/>
                  <a:pt x="12650" y="10840"/>
                </a:cubicBezTo>
                <a:cubicBezTo>
                  <a:pt x="12773" y="10880"/>
                  <a:pt x="12880" y="10863"/>
                  <a:pt x="12923" y="10716"/>
                </a:cubicBezTo>
                <a:cubicBezTo>
                  <a:pt x="12958" y="10595"/>
                  <a:pt x="12920" y="10564"/>
                  <a:pt x="12824" y="10542"/>
                </a:cubicBezTo>
                <a:cubicBezTo>
                  <a:pt x="12816" y="10542"/>
                  <a:pt x="12807" y="10542"/>
                  <a:pt x="12799" y="10542"/>
                </a:cubicBezTo>
              </a:path>
              <a:path w="3225" h="1291">
                <a:moveTo>
                  <a:pt x="13221" y="9872"/>
                </a:moveTo>
                <a:cubicBezTo>
                  <a:pt x="13265" y="9863"/>
                  <a:pt x="13298" y="9847"/>
                  <a:pt x="13345" y="9847"/>
                </a:cubicBezTo>
              </a:path>
              <a:path w="3225" h="1291">
                <a:moveTo>
                  <a:pt x="13494" y="9872"/>
                </a:moveTo>
                <a:cubicBezTo>
                  <a:pt x="13527" y="9872"/>
                  <a:pt x="13536" y="9880"/>
                  <a:pt x="13519" y="9922"/>
                </a:cubicBezTo>
                <a:cubicBezTo>
                  <a:pt x="13597" y="9922"/>
                  <a:pt x="13602" y="9921"/>
                  <a:pt x="13667" y="9872"/>
                </a:cubicBezTo>
              </a:path>
              <a:path w="3225" h="1291">
                <a:moveTo>
                  <a:pt x="13643" y="9723"/>
                </a:moveTo>
                <a:cubicBezTo>
                  <a:pt x="13628" y="9841"/>
                  <a:pt x="13595" y="9975"/>
                  <a:pt x="13618" y="10096"/>
                </a:cubicBezTo>
                <a:cubicBezTo>
                  <a:pt x="13626" y="10112"/>
                  <a:pt x="13635" y="10129"/>
                  <a:pt x="13643" y="10145"/>
                </a:cubicBezTo>
              </a:path>
              <a:path w="3225" h="1291">
                <a:moveTo>
                  <a:pt x="13146" y="10691"/>
                </a:moveTo>
                <a:cubicBezTo>
                  <a:pt x="13188" y="10691"/>
                  <a:pt x="13229" y="10691"/>
                  <a:pt x="13271" y="10691"/>
                </a:cubicBezTo>
              </a:path>
              <a:path w="3225" h="1291">
                <a:moveTo>
                  <a:pt x="13469" y="10616"/>
                </a:moveTo>
                <a:cubicBezTo>
                  <a:pt x="13469" y="10660"/>
                  <a:pt x="13465" y="10748"/>
                  <a:pt x="13519" y="10765"/>
                </a:cubicBezTo>
                <a:cubicBezTo>
                  <a:pt x="13603" y="10791"/>
                  <a:pt x="13611" y="10747"/>
                  <a:pt x="13643" y="10691"/>
                </a:cubicBezTo>
              </a:path>
              <a:path w="3225" h="1291">
                <a:moveTo>
                  <a:pt x="13891" y="10319"/>
                </a:moveTo>
                <a:cubicBezTo>
                  <a:pt x="13933" y="10351"/>
                  <a:pt x="13930" y="10344"/>
                  <a:pt x="13990" y="10344"/>
                </a:cubicBezTo>
              </a:path>
              <a:path w="3225" h="1291">
                <a:moveTo>
                  <a:pt x="13891" y="10468"/>
                </a:moveTo>
                <a:cubicBezTo>
                  <a:pt x="13941" y="10468"/>
                  <a:pt x="13976" y="10452"/>
                  <a:pt x="13990" y="10492"/>
                </a:cubicBezTo>
                <a:cubicBezTo>
                  <a:pt x="13998" y="10484"/>
                  <a:pt x="14007" y="10476"/>
                  <a:pt x="14015" y="10468"/>
                </a:cubicBezTo>
              </a:path>
              <a:path w="3225" h="1291">
                <a:moveTo>
                  <a:pt x="14536" y="9748"/>
                </a:moveTo>
                <a:cubicBezTo>
                  <a:pt x="14515" y="9852"/>
                  <a:pt x="14477" y="9962"/>
                  <a:pt x="14461" y="10071"/>
                </a:cubicBezTo>
                <a:cubicBezTo>
                  <a:pt x="14461" y="10087"/>
                  <a:pt x="14461" y="10104"/>
                  <a:pt x="14461" y="10120"/>
                </a:cubicBezTo>
              </a:path>
              <a:path w="3225" h="1291">
                <a:moveTo>
                  <a:pt x="14610" y="9674"/>
                </a:moveTo>
                <a:cubicBezTo>
                  <a:pt x="14680" y="9645"/>
                  <a:pt x="14731" y="9615"/>
                  <a:pt x="14784" y="9624"/>
                </a:cubicBezTo>
                <a:cubicBezTo>
                  <a:pt x="14817" y="9703"/>
                  <a:pt x="14814" y="9806"/>
                  <a:pt x="14709" y="9847"/>
                </a:cubicBezTo>
                <a:cubicBezTo>
                  <a:pt x="14709" y="9839"/>
                  <a:pt x="14709" y="9831"/>
                  <a:pt x="14709" y="9823"/>
                </a:cubicBezTo>
                <a:cubicBezTo>
                  <a:pt x="14792" y="9823"/>
                  <a:pt x="14838" y="9795"/>
                  <a:pt x="14833" y="9922"/>
                </a:cubicBezTo>
                <a:cubicBezTo>
                  <a:pt x="14828" y="10054"/>
                  <a:pt x="14722" y="10059"/>
                  <a:pt x="14635" y="10046"/>
                </a:cubicBezTo>
                <a:cubicBezTo>
                  <a:pt x="14627" y="10046"/>
                  <a:pt x="14618" y="10046"/>
                  <a:pt x="14610" y="10046"/>
                </a:cubicBezTo>
              </a:path>
              <a:path w="3225" h="1291">
                <a:moveTo>
                  <a:pt x="14337" y="10294"/>
                </a:moveTo>
                <a:cubicBezTo>
                  <a:pt x="14504" y="10275"/>
                  <a:pt x="14669" y="10232"/>
                  <a:pt x="14833" y="10195"/>
                </a:cubicBezTo>
                <a:cubicBezTo>
                  <a:pt x="14910" y="10175"/>
                  <a:pt x="14928" y="10151"/>
                  <a:pt x="14957" y="10195"/>
                </a:cubicBezTo>
              </a:path>
              <a:path w="3225" h="1291">
                <a:moveTo>
                  <a:pt x="14461" y="10542"/>
                </a:moveTo>
                <a:cubicBezTo>
                  <a:pt x="14475" y="10486"/>
                  <a:pt x="14509" y="10472"/>
                  <a:pt x="14560" y="10443"/>
                </a:cubicBezTo>
                <a:cubicBezTo>
                  <a:pt x="14615" y="10515"/>
                  <a:pt x="14534" y="10660"/>
                  <a:pt x="14461" y="10740"/>
                </a:cubicBezTo>
                <a:cubicBezTo>
                  <a:pt x="14436" y="10757"/>
                  <a:pt x="14412" y="10773"/>
                  <a:pt x="14387" y="10790"/>
                </a:cubicBezTo>
                <a:cubicBezTo>
                  <a:pt x="14471" y="10790"/>
                  <a:pt x="14554" y="10763"/>
                  <a:pt x="14635" y="10740"/>
                </a:cubicBezTo>
                <a:cubicBezTo>
                  <a:pt x="14698" y="10722"/>
                  <a:pt x="14716" y="10724"/>
                  <a:pt x="14759" y="10691"/>
                </a:cubicBezTo>
              </a:path>
              <a:path w="3225" h="1291">
                <a:moveTo>
                  <a:pt x="14982" y="10418"/>
                </a:moveTo>
                <a:cubicBezTo>
                  <a:pt x="14929" y="10444"/>
                  <a:pt x="14915" y="10450"/>
                  <a:pt x="14858" y="10468"/>
                </a:cubicBezTo>
                <a:cubicBezTo>
                  <a:pt x="14829" y="10496"/>
                  <a:pt x="14821" y="10509"/>
                  <a:pt x="14833" y="10542"/>
                </a:cubicBezTo>
                <a:cubicBezTo>
                  <a:pt x="14880" y="10573"/>
                  <a:pt x="14952" y="10494"/>
                  <a:pt x="15032" y="10517"/>
                </a:cubicBezTo>
                <a:cubicBezTo>
                  <a:pt x="15040" y="10525"/>
                  <a:pt x="15048" y="10534"/>
                  <a:pt x="15056" y="10542"/>
                </a:cubicBezTo>
                <a:cubicBezTo>
                  <a:pt x="15071" y="10657"/>
                  <a:pt x="14995" y="10653"/>
                  <a:pt x="14883" y="10691"/>
                </a:cubicBezTo>
              </a:path>
              <a:path w="3225" h="1291">
                <a:moveTo>
                  <a:pt x="14982" y="10418"/>
                </a:moveTo>
                <a:cubicBezTo>
                  <a:pt x="15045" y="10418"/>
                  <a:pt x="15095" y="10399"/>
                  <a:pt x="15156" y="10393"/>
                </a:cubicBezTo>
                <a:cubicBezTo>
                  <a:pt x="15164" y="10393"/>
                  <a:pt x="15172" y="10393"/>
                  <a:pt x="1518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9200" y="3490920"/>
            <a:ext cx="893880" cy="1670040"/>
          </a:xfrm>
          <a:custGeom>
            <a:avLst/>
            <a:gdLst/>
            <a:ahLst/>
            <a:rect l="l" t="t" r="r" b="b"/>
            <a:pathLst>
              <a:path w="2481" h="4639">
                <a:moveTo>
                  <a:pt x="13320" y="9699"/>
                </a:moveTo>
                <a:cubicBezTo>
                  <a:pt x="13312" y="9699"/>
                  <a:pt x="13303" y="9699"/>
                  <a:pt x="13295" y="9699"/>
                </a:cubicBezTo>
              </a:path>
              <a:path w="2481" h="4639">
                <a:moveTo>
                  <a:pt x="13320" y="10046"/>
                </a:moveTo>
                <a:lnTo>
                  <a:pt x="13320" y="10046"/>
                </a:lnTo>
              </a:path>
              <a:path w="2481" h="4639">
                <a:moveTo>
                  <a:pt x="13271" y="10567"/>
                </a:moveTo>
                <a:cubicBezTo>
                  <a:pt x="13271" y="10575"/>
                  <a:pt x="13271" y="10584"/>
                  <a:pt x="13271" y="10592"/>
                </a:cubicBezTo>
              </a:path>
              <a:path w="2481" h="4639">
                <a:moveTo>
                  <a:pt x="13221" y="10840"/>
                </a:moveTo>
                <a:lnTo>
                  <a:pt x="13221" y="10840"/>
                </a:lnTo>
              </a:path>
              <a:path w="2481" h="4639">
                <a:moveTo>
                  <a:pt x="13593" y="10567"/>
                </a:moveTo>
                <a:cubicBezTo>
                  <a:pt x="13587" y="10643"/>
                  <a:pt x="13576" y="10715"/>
                  <a:pt x="13568" y="10790"/>
                </a:cubicBezTo>
              </a:path>
              <a:path w="2481" h="4639">
                <a:moveTo>
                  <a:pt x="15503" y="14337"/>
                </a:moveTo>
                <a:cubicBezTo>
                  <a:pt x="15573" y="14319"/>
                  <a:pt x="15634" y="14310"/>
                  <a:pt x="15701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9000" y="4205160"/>
            <a:ext cx="133200" cy="965160"/>
          </a:xfrm>
          <a:custGeom>
            <a:avLst/>
            <a:gdLst/>
            <a:ahLst/>
            <a:rect l="l" t="t" r="r" b="b"/>
            <a:pathLst>
              <a:path w="373" h="2680">
                <a:moveTo>
                  <a:pt x="16396" y="11683"/>
                </a:moveTo>
                <a:cubicBezTo>
                  <a:pt x="16380" y="11825"/>
                  <a:pt x="16365" y="11965"/>
                  <a:pt x="16346" y="12105"/>
                </a:cubicBezTo>
                <a:cubicBezTo>
                  <a:pt x="16346" y="12113"/>
                  <a:pt x="16346" y="12121"/>
                  <a:pt x="16346" y="12129"/>
                </a:cubicBezTo>
              </a:path>
              <a:path w="373" h="2680">
                <a:moveTo>
                  <a:pt x="16024" y="14337"/>
                </a:moveTo>
                <a:cubicBezTo>
                  <a:pt x="16092" y="14337"/>
                  <a:pt x="16111" y="14334"/>
                  <a:pt x="16148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56200" y="4205160"/>
            <a:ext cx="142920" cy="1796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6619" y="11683"/>
                </a:moveTo>
                <a:cubicBezTo>
                  <a:pt x="16590" y="11836"/>
                  <a:pt x="16547" y="11981"/>
                  <a:pt x="16570" y="12129"/>
                </a:cubicBezTo>
                <a:cubicBezTo>
                  <a:pt x="16729" y="12148"/>
                  <a:pt x="16946" y="12131"/>
                  <a:pt x="16917" y="11931"/>
                </a:cubicBezTo>
                <a:cubicBezTo>
                  <a:pt x="16780" y="11920"/>
                  <a:pt x="16716" y="11980"/>
                  <a:pt x="16669" y="12129"/>
                </a:cubicBezTo>
                <a:cubicBezTo>
                  <a:pt x="16669" y="12146"/>
                  <a:pt x="16669" y="12162"/>
                  <a:pt x="16669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545000"/>
            <a:ext cx="312840" cy="135000"/>
          </a:xfrm>
          <a:custGeom>
            <a:avLst/>
            <a:gdLst/>
            <a:ahLst/>
            <a:rect l="l" t="t" r="r" b="b"/>
            <a:pathLst>
              <a:path w="869" h="373">
                <a:moveTo>
                  <a:pt x="16173" y="12650"/>
                </a:moveTo>
                <a:cubicBezTo>
                  <a:pt x="16173" y="12616"/>
                  <a:pt x="16139" y="12842"/>
                  <a:pt x="16123" y="12898"/>
                </a:cubicBezTo>
                <a:cubicBezTo>
                  <a:pt x="16104" y="12966"/>
                  <a:pt x="16073" y="12981"/>
                  <a:pt x="16123" y="12998"/>
                </a:cubicBezTo>
              </a:path>
              <a:path w="869" h="373">
                <a:moveTo>
                  <a:pt x="16470" y="12675"/>
                </a:moveTo>
                <a:cubicBezTo>
                  <a:pt x="16396" y="12797"/>
                  <a:pt x="16348" y="12861"/>
                  <a:pt x="16371" y="12998"/>
                </a:cubicBezTo>
                <a:cubicBezTo>
                  <a:pt x="16467" y="12998"/>
                  <a:pt x="16567" y="12954"/>
                  <a:pt x="16545" y="12824"/>
                </a:cubicBezTo>
                <a:cubicBezTo>
                  <a:pt x="16533" y="12751"/>
                  <a:pt x="16383" y="12748"/>
                  <a:pt x="16446" y="12700"/>
                </a:cubicBezTo>
                <a:cubicBezTo>
                  <a:pt x="16462" y="12692"/>
                  <a:pt x="16479" y="12683"/>
                  <a:pt x="16495" y="12675"/>
                </a:cubicBezTo>
              </a:path>
              <a:path w="869" h="373">
                <a:moveTo>
                  <a:pt x="16768" y="12626"/>
                </a:moveTo>
                <a:cubicBezTo>
                  <a:pt x="16736" y="12736"/>
                  <a:pt x="16718" y="12805"/>
                  <a:pt x="16718" y="12923"/>
                </a:cubicBezTo>
                <a:cubicBezTo>
                  <a:pt x="16844" y="12923"/>
                  <a:pt x="16920" y="12908"/>
                  <a:pt x="16966" y="12774"/>
                </a:cubicBezTo>
                <a:cubicBezTo>
                  <a:pt x="17020" y="12617"/>
                  <a:pt x="16844" y="12656"/>
                  <a:pt x="1676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32640" y="5027760"/>
            <a:ext cx="393480" cy="339480"/>
          </a:xfrm>
          <a:custGeom>
            <a:avLst/>
            <a:gdLst/>
            <a:ahLst/>
            <a:rect l="l" t="t" r="r" b="b"/>
            <a:pathLst>
              <a:path w="1092" h="944">
                <a:moveTo>
                  <a:pt x="15925" y="14461"/>
                </a:moveTo>
                <a:cubicBezTo>
                  <a:pt x="16007" y="14461"/>
                  <a:pt x="16057" y="14461"/>
                  <a:pt x="16123" y="14461"/>
                </a:cubicBezTo>
              </a:path>
              <a:path w="1092" h="944">
                <a:moveTo>
                  <a:pt x="16421" y="13965"/>
                </a:moveTo>
                <a:cubicBezTo>
                  <a:pt x="16488" y="13965"/>
                  <a:pt x="16687" y="13949"/>
                  <a:pt x="16570" y="14089"/>
                </a:cubicBezTo>
                <a:cubicBezTo>
                  <a:pt x="16509" y="14109"/>
                  <a:pt x="16494" y="14107"/>
                  <a:pt x="16470" y="14139"/>
                </a:cubicBezTo>
                <a:cubicBezTo>
                  <a:pt x="16566" y="14139"/>
                  <a:pt x="16588" y="14156"/>
                  <a:pt x="16619" y="14238"/>
                </a:cubicBezTo>
                <a:cubicBezTo>
                  <a:pt x="16503" y="14309"/>
                  <a:pt x="16420" y="14328"/>
                  <a:pt x="16421" y="14188"/>
                </a:cubicBezTo>
              </a:path>
              <a:path w="1092" h="944">
                <a:moveTo>
                  <a:pt x="16842" y="14015"/>
                </a:moveTo>
                <a:cubicBezTo>
                  <a:pt x="16714" y="14100"/>
                  <a:pt x="16696" y="14141"/>
                  <a:pt x="16718" y="14288"/>
                </a:cubicBezTo>
                <a:cubicBezTo>
                  <a:pt x="16784" y="14288"/>
                  <a:pt x="17093" y="14219"/>
                  <a:pt x="16991" y="14064"/>
                </a:cubicBezTo>
                <a:cubicBezTo>
                  <a:pt x="16907" y="14036"/>
                  <a:pt x="16872" y="14032"/>
                  <a:pt x="16818" y="14089"/>
                </a:cubicBezTo>
              </a:path>
              <a:path w="1092" h="944">
                <a:moveTo>
                  <a:pt x="16396" y="14412"/>
                </a:moveTo>
                <a:cubicBezTo>
                  <a:pt x="16558" y="14412"/>
                  <a:pt x="16707" y="14415"/>
                  <a:pt x="16867" y="14436"/>
                </a:cubicBezTo>
              </a:path>
              <a:path w="1092" h="944">
                <a:moveTo>
                  <a:pt x="16346" y="14660"/>
                </a:moveTo>
                <a:cubicBezTo>
                  <a:pt x="16304" y="14750"/>
                  <a:pt x="16166" y="14892"/>
                  <a:pt x="16247" y="14908"/>
                </a:cubicBezTo>
              </a:path>
              <a:path w="1092" h="944">
                <a:moveTo>
                  <a:pt x="16644" y="14635"/>
                </a:moveTo>
                <a:cubicBezTo>
                  <a:pt x="16546" y="14678"/>
                  <a:pt x="16495" y="14747"/>
                  <a:pt x="16470" y="14858"/>
                </a:cubicBezTo>
                <a:cubicBezTo>
                  <a:pt x="16543" y="14873"/>
                  <a:pt x="16776" y="14859"/>
                  <a:pt x="16718" y="14709"/>
                </a:cubicBezTo>
                <a:cubicBezTo>
                  <a:pt x="16669" y="14684"/>
                  <a:pt x="16652" y="14676"/>
                  <a:pt x="16619" y="14660"/>
                </a:cubicBezTo>
              </a:path>
              <a:path w="1092" h="944">
                <a:moveTo>
                  <a:pt x="16892" y="14684"/>
                </a:moveTo>
                <a:cubicBezTo>
                  <a:pt x="16827" y="14772"/>
                  <a:pt x="16807" y="14790"/>
                  <a:pt x="16793" y="14858"/>
                </a:cubicBezTo>
                <a:cubicBezTo>
                  <a:pt x="16830" y="14858"/>
                  <a:pt x="17094" y="14826"/>
                  <a:pt x="17016" y="14734"/>
                </a:cubicBezTo>
                <a:cubicBezTo>
                  <a:pt x="16975" y="14717"/>
                  <a:pt x="16933" y="14701"/>
                  <a:pt x="16892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0040" y="4249800"/>
            <a:ext cx="241200" cy="322200"/>
          </a:xfrm>
          <a:custGeom>
            <a:avLst/>
            <a:gdLst/>
            <a:ahLst/>
            <a:rect l="l" t="t" r="r" b="b"/>
            <a:pathLst>
              <a:path w="670" h="894">
                <a:moveTo>
                  <a:pt x="14387" y="12204"/>
                </a:moveTo>
                <a:cubicBezTo>
                  <a:pt x="14431" y="12237"/>
                  <a:pt x="14479" y="12336"/>
                  <a:pt x="14536" y="12378"/>
                </a:cubicBezTo>
                <a:cubicBezTo>
                  <a:pt x="14544" y="12378"/>
                  <a:pt x="14552" y="12378"/>
                  <a:pt x="14560" y="12378"/>
                </a:cubicBezTo>
              </a:path>
              <a:path w="670" h="894">
                <a:moveTo>
                  <a:pt x="14560" y="12105"/>
                </a:moveTo>
                <a:cubicBezTo>
                  <a:pt x="14519" y="12212"/>
                  <a:pt x="14465" y="12317"/>
                  <a:pt x="14436" y="12427"/>
                </a:cubicBezTo>
                <a:cubicBezTo>
                  <a:pt x="14436" y="12435"/>
                  <a:pt x="14436" y="12444"/>
                  <a:pt x="14436" y="12452"/>
                </a:cubicBezTo>
              </a:path>
              <a:path w="670" h="894">
                <a:moveTo>
                  <a:pt x="14734" y="12303"/>
                </a:moveTo>
                <a:cubicBezTo>
                  <a:pt x="14734" y="12370"/>
                  <a:pt x="14721" y="12416"/>
                  <a:pt x="14709" y="12477"/>
                </a:cubicBezTo>
                <a:cubicBezTo>
                  <a:pt x="14796" y="12487"/>
                  <a:pt x="14845" y="12492"/>
                  <a:pt x="14932" y="12477"/>
                </a:cubicBezTo>
              </a:path>
              <a:path w="670" h="894">
                <a:moveTo>
                  <a:pt x="14932" y="12254"/>
                </a:moveTo>
                <a:cubicBezTo>
                  <a:pt x="14895" y="12388"/>
                  <a:pt x="14846" y="12538"/>
                  <a:pt x="14833" y="12675"/>
                </a:cubicBezTo>
                <a:cubicBezTo>
                  <a:pt x="14833" y="12683"/>
                  <a:pt x="14833" y="12692"/>
                  <a:pt x="14833" y="12700"/>
                </a:cubicBezTo>
              </a:path>
              <a:path w="670" h="894">
                <a:moveTo>
                  <a:pt x="14734" y="12204"/>
                </a:moveTo>
                <a:cubicBezTo>
                  <a:pt x="14829" y="12252"/>
                  <a:pt x="14927" y="12221"/>
                  <a:pt x="15032" y="12204"/>
                </a:cubicBezTo>
                <a:cubicBezTo>
                  <a:pt x="15040" y="12204"/>
                  <a:pt x="15048" y="12204"/>
                  <a:pt x="15056" y="12204"/>
                </a:cubicBezTo>
              </a:path>
              <a:path w="670" h="894">
                <a:moveTo>
                  <a:pt x="14709" y="11857"/>
                </a:moveTo>
                <a:cubicBezTo>
                  <a:pt x="14697" y="11902"/>
                  <a:pt x="14684" y="11927"/>
                  <a:pt x="14684" y="11981"/>
                </a:cubicBezTo>
                <a:cubicBezTo>
                  <a:pt x="14750" y="11974"/>
                  <a:pt x="14797" y="11958"/>
                  <a:pt x="14858" y="11931"/>
                </a:cubicBezTo>
              </a:path>
              <a:path w="670" h="894">
                <a:moveTo>
                  <a:pt x="14883" y="11807"/>
                </a:moveTo>
                <a:cubicBezTo>
                  <a:pt x="14872" y="11887"/>
                  <a:pt x="14833" y="11997"/>
                  <a:pt x="14858" y="12080"/>
                </a:cubicBezTo>
                <a:cubicBezTo>
                  <a:pt x="14904" y="12126"/>
                  <a:pt x="14942" y="12134"/>
                  <a:pt x="15007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7000" y="4419720"/>
            <a:ext cx="492120" cy="63360"/>
          </a:xfrm>
          <a:custGeom>
            <a:avLst/>
            <a:gdLst/>
            <a:ahLst/>
            <a:rect l="l" t="t" r="r" b="b"/>
            <a:pathLst>
              <a:path w="1366" h="175">
                <a:moveTo>
                  <a:pt x="15577" y="12278"/>
                </a:moveTo>
                <a:cubicBezTo>
                  <a:pt x="15651" y="12290"/>
                  <a:pt x="15700" y="12303"/>
                  <a:pt x="15776" y="12303"/>
                </a:cubicBezTo>
                <a:cubicBezTo>
                  <a:pt x="15834" y="12303"/>
                  <a:pt x="15891" y="12303"/>
                  <a:pt x="15949" y="12303"/>
                </a:cubicBezTo>
              </a:path>
              <a:path w="1366" h="175">
                <a:moveTo>
                  <a:pt x="15627" y="12427"/>
                </a:moveTo>
                <a:cubicBezTo>
                  <a:pt x="15710" y="12444"/>
                  <a:pt x="15785" y="12452"/>
                  <a:pt x="15875" y="12452"/>
                </a:cubicBezTo>
              </a:path>
              <a:path w="1366" h="175">
                <a:moveTo>
                  <a:pt x="16247" y="12378"/>
                </a:moveTo>
                <a:cubicBezTo>
                  <a:pt x="16438" y="12365"/>
                  <a:pt x="16628" y="12342"/>
                  <a:pt x="16818" y="12328"/>
                </a:cubicBezTo>
                <a:cubicBezTo>
                  <a:pt x="16872" y="12324"/>
                  <a:pt x="16928" y="12312"/>
                  <a:pt x="1694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27800" y="5037120"/>
            <a:ext cx="1332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5453" y="13990"/>
                </a:moveTo>
                <a:cubicBezTo>
                  <a:pt x="15431" y="14061"/>
                  <a:pt x="15353" y="14212"/>
                  <a:pt x="15379" y="14238"/>
                </a:cubicBezTo>
              </a:path>
              <a:path w="373" h="249">
                <a:moveTo>
                  <a:pt x="15602" y="14039"/>
                </a:moveTo>
                <a:cubicBezTo>
                  <a:pt x="15541" y="14101"/>
                  <a:pt x="15517" y="14107"/>
                  <a:pt x="15528" y="14163"/>
                </a:cubicBezTo>
                <a:cubicBezTo>
                  <a:pt x="15588" y="14213"/>
                  <a:pt x="15717" y="14192"/>
                  <a:pt x="15726" y="14064"/>
                </a:cubicBezTo>
                <a:cubicBezTo>
                  <a:pt x="15704" y="14042"/>
                  <a:pt x="15699" y="14033"/>
                  <a:pt x="15677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2800" y="5126040"/>
            <a:ext cx="5544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15007" y="14263"/>
                </a:moveTo>
                <a:cubicBezTo>
                  <a:pt x="15016" y="14323"/>
                  <a:pt x="15025" y="14331"/>
                  <a:pt x="15056" y="14387"/>
                </a:cubicBezTo>
              </a:path>
              <a:path w="150" h="175">
                <a:moveTo>
                  <a:pt x="15131" y="14238"/>
                </a:moveTo>
                <a:cubicBezTo>
                  <a:pt x="15088" y="14294"/>
                  <a:pt x="15033" y="14395"/>
                  <a:pt x="14982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10160" y="5214960"/>
            <a:ext cx="11592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5404" y="14486"/>
                </a:moveTo>
                <a:cubicBezTo>
                  <a:pt x="15381" y="14556"/>
                  <a:pt x="15320" y="14649"/>
                  <a:pt x="15329" y="14684"/>
                </a:cubicBezTo>
              </a:path>
              <a:path w="324" h="224">
                <a:moveTo>
                  <a:pt x="15528" y="14511"/>
                </a:moveTo>
                <a:cubicBezTo>
                  <a:pt x="15478" y="14623"/>
                  <a:pt x="15432" y="14653"/>
                  <a:pt x="15503" y="14709"/>
                </a:cubicBezTo>
                <a:cubicBezTo>
                  <a:pt x="15558" y="14693"/>
                  <a:pt x="15683" y="14625"/>
                  <a:pt x="15602" y="14536"/>
                </a:cubicBezTo>
                <a:cubicBezTo>
                  <a:pt x="15586" y="14528"/>
                  <a:pt x="15569" y="14519"/>
                  <a:pt x="15553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30680" y="4330800"/>
            <a:ext cx="634680" cy="23328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8235" y="12129"/>
                </a:moveTo>
                <a:cubicBezTo>
                  <a:pt x="8198" y="12022"/>
                  <a:pt x="7990" y="12324"/>
                  <a:pt x="7987" y="12328"/>
                </a:cubicBezTo>
                <a:cubicBezTo>
                  <a:pt x="7866" y="12471"/>
                  <a:pt x="7857" y="12495"/>
                  <a:pt x="7913" y="12650"/>
                </a:cubicBezTo>
                <a:cubicBezTo>
                  <a:pt x="8127" y="12674"/>
                  <a:pt x="8246" y="12654"/>
                  <a:pt x="8359" y="12452"/>
                </a:cubicBezTo>
                <a:cubicBezTo>
                  <a:pt x="8435" y="12316"/>
                  <a:pt x="8431" y="12205"/>
                  <a:pt x="8310" y="12105"/>
                </a:cubicBezTo>
                <a:cubicBezTo>
                  <a:pt x="8220" y="12031"/>
                  <a:pt x="8200" y="12041"/>
                  <a:pt x="8136" y="12105"/>
                </a:cubicBezTo>
              </a:path>
              <a:path w="1762" h="646">
                <a:moveTo>
                  <a:pt x="8632" y="12551"/>
                </a:moveTo>
                <a:cubicBezTo>
                  <a:pt x="8543" y="12566"/>
                  <a:pt x="8526" y="12577"/>
                  <a:pt x="8483" y="12650"/>
                </a:cubicBezTo>
                <a:cubicBezTo>
                  <a:pt x="8570" y="12642"/>
                  <a:pt x="8553" y="12655"/>
                  <a:pt x="8607" y="12601"/>
                </a:cubicBezTo>
                <a:cubicBezTo>
                  <a:pt x="8590" y="12591"/>
                  <a:pt x="8466" y="12559"/>
                  <a:pt x="8483" y="12626"/>
                </a:cubicBezTo>
                <a:cubicBezTo>
                  <a:pt x="8508" y="12626"/>
                  <a:pt x="8516" y="12626"/>
                  <a:pt x="8533" y="12626"/>
                </a:cubicBezTo>
              </a:path>
              <a:path w="1762" h="646">
                <a:moveTo>
                  <a:pt x="8979" y="12105"/>
                </a:moveTo>
                <a:cubicBezTo>
                  <a:pt x="8979" y="12023"/>
                  <a:pt x="8906" y="12373"/>
                  <a:pt x="8905" y="12378"/>
                </a:cubicBezTo>
                <a:cubicBezTo>
                  <a:pt x="8884" y="12460"/>
                  <a:pt x="8876" y="12475"/>
                  <a:pt x="8880" y="12526"/>
                </a:cubicBezTo>
              </a:path>
              <a:path w="1762" h="646">
                <a:moveTo>
                  <a:pt x="9327" y="12030"/>
                </a:moveTo>
                <a:cubicBezTo>
                  <a:pt x="9327" y="12125"/>
                  <a:pt x="9306" y="12169"/>
                  <a:pt x="9277" y="12254"/>
                </a:cubicBezTo>
                <a:cubicBezTo>
                  <a:pt x="9246" y="12346"/>
                  <a:pt x="9227" y="12430"/>
                  <a:pt x="9227" y="12526"/>
                </a:cubicBezTo>
                <a:cubicBezTo>
                  <a:pt x="9227" y="12604"/>
                  <a:pt x="9323" y="12613"/>
                  <a:pt x="9401" y="12601"/>
                </a:cubicBezTo>
                <a:cubicBezTo>
                  <a:pt x="9476" y="12590"/>
                  <a:pt x="9555" y="12539"/>
                  <a:pt x="9599" y="12477"/>
                </a:cubicBezTo>
                <a:cubicBezTo>
                  <a:pt x="9614" y="12456"/>
                  <a:pt x="9641" y="12384"/>
                  <a:pt x="9624" y="12353"/>
                </a:cubicBezTo>
                <a:cubicBezTo>
                  <a:pt x="9595" y="12301"/>
                  <a:pt x="9513" y="12329"/>
                  <a:pt x="9475" y="12353"/>
                </a:cubicBezTo>
                <a:cubicBezTo>
                  <a:pt x="9415" y="12390"/>
                  <a:pt x="9387" y="12461"/>
                  <a:pt x="9376" y="12526"/>
                </a:cubicBezTo>
                <a:cubicBezTo>
                  <a:pt x="9376" y="12568"/>
                  <a:pt x="9376" y="12576"/>
                  <a:pt x="9376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7960" y="5054760"/>
            <a:ext cx="760320" cy="231480"/>
          </a:xfrm>
          <a:custGeom>
            <a:avLst/>
            <a:gdLst/>
            <a:ahLst/>
            <a:rect l="l" t="t" r="r" b="b"/>
            <a:pathLst>
              <a:path w="2109" h="646">
                <a:moveTo>
                  <a:pt x="8260" y="14139"/>
                </a:moveTo>
                <a:cubicBezTo>
                  <a:pt x="8260" y="14031"/>
                  <a:pt x="8175" y="14150"/>
                  <a:pt x="8136" y="14188"/>
                </a:cubicBezTo>
                <a:cubicBezTo>
                  <a:pt x="8007" y="14314"/>
                  <a:pt x="7927" y="14378"/>
                  <a:pt x="7913" y="14560"/>
                </a:cubicBezTo>
                <a:cubicBezTo>
                  <a:pt x="7913" y="14577"/>
                  <a:pt x="7913" y="14593"/>
                  <a:pt x="7913" y="14610"/>
                </a:cubicBezTo>
                <a:cubicBezTo>
                  <a:pt x="8093" y="14649"/>
                  <a:pt x="8251" y="14622"/>
                  <a:pt x="8409" y="14511"/>
                </a:cubicBezTo>
                <a:cubicBezTo>
                  <a:pt x="8534" y="14423"/>
                  <a:pt x="8619" y="14271"/>
                  <a:pt x="8533" y="14139"/>
                </a:cubicBezTo>
                <a:cubicBezTo>
                  <a:pt x="8483" y="14063"/>
                  <a:pt x="8349" y="14002"/>
                  <a:pt x="8260" y="14039"/>
                </a:cubicBezTo>
                <a:cubicBezTo>
                  <a:pt x="8189" y="14069"/>
                  <a:pt x="8167" y="14166"/>
                  <a:pt x="8186" y="14213"/>
                </a:cubicBezTo>
              </a:path>
              <a:path w="2109" h="646">
                <a:moveTo>
                  <a:pt x="8706" y="14560"/>
                </a:moveTo>
                <a:cubicBezTo>
                  <a:pt x="8661" y="14572"/>
                  <a:pt x="8643" y="14590"/>
                  <a:pt x="8632" y="14635"/>
                </a:cubicBezTo>
                <a:cubicBezTo>
                  <a:pt x="8753" y="14579"/>
                  <a:pt x="8747" y="14481"/>
                  <a:pt x="8657" y="14560"/>
                </a:cubicBezTo>
                <a:cubicBezTo>
                  <a:pt x="8657" y="14593"/>
                  <a:pt x="8665" y="14601"/>
                  <a:pt x="8706" y="14585"/>
                </a:cubicBezTo>
              </a:path>
              <a:path w="2109" h="646">
                <a:moveTo>
                  <a:pt x="9128" y="14139"/>
                </a:moveTo>
                <a:cubicBezTo>
                  <a:pt x="9229" y="14116"/>
                  <a:pt x="9275" y="14115"/>
                  <a:pt x="9376" y="14139"/>
                </a:cubicBezTo>
                <a:cubicBezTo>
                  <a:pt x="9390" y="14278"/>
                  <a:pt x="9320" y="14340"/>
                  <a:pt x="9178" y="14387"/>
                </a:cubicBezTo>
                <a:cubicBezTo>
                  <a:pt x="9170" y="14387"/>
                  <a:pt x="9161" y="14387"/>
                  <a:pt x="9153" y="14387"/>
                </a:cubicBezTo>
                <a:cubicBezTo>
                  <a:pt x="9235" y="14346"/>
                  <a:pt x="9388" y="14380"/>
                  <a:pt x="9376" y="14511"/>
                </a:cubicBezTo>
                <a:cubicBezTo>
                  <a:pt x="9356" y="14730"/>
                  <a:pt x="9124" y="14648"/>
                  <a:pt x="9004" y="14610"/>
                </a:cubicBezTo>
                <a:cubicBezTo>
                  <a:pt x="8979" y="14602"/>
                  <a:pt x="8955" y="14593"/>
                  <a:pt x="8930" y="14585"/>
                </a:cubicBezTo>
              </a:path>
              <a:path w="2109" h="646">
                <a:moveTo>
                  <a:pt x="9823" y="14139"/>
                </a:moveTo>
                <a:cubicBezTo>
                  <a:pt x="9712" y="14193"/>
                  <a:pt x="9641" y="14264"/>
                  <a:pt x="9599" y="14387"/>
                </a:cubicBezTo>
                <a:cubicBezTo>
                  <a:pt x="9564" y="14490"/>
                  <a:pt x="9571" y="14564"/>
                  <a:pt x="9599" y="14660"/>
                </a:cubicBezTo>
                <a:cubicBezTo>
                  <a:pt x="9730" y="14678"/>
                  <a:pt x="9945" y="14655"/>
                  <a:pt x="10021" y="14511"/>
                </a:cubicBezTo>
                <a:cubicBezTo>
                  <a:pt x="10090" y="14380"/>
                  <a:pt x="9937" y="14224"/>
                  <a:pt x="9847" y="14163"/>
                </a:cubicBezTo>
                <a:cubicBezTo>
                  <a:pt x="9798" y="14139"/>
                  <a:pt x="9781" y="14131"/>
                  <a:pt x="9748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67160" y="5572080"/>
            <a:ext cx="347760" cy="420840"/>
          </a:xfrm>
          <a:custGeom>
            <a:avLst/>
            <a:gdLst/>
            <a:ahLst/>
            <a:rect l="l" t="t" r="r" b="b"/>
            <a:pathLst>
              <a:path w="969" h="1167">
                <a:moveTo>
                  <a:pt x="12824" y="15528"/>
                </a:moveTo>
                <a:cubicBezTo>
                  <a:pt x="12824" y="15503"/>
                  <a:pt x="12824" y="15495"/>
                  <a:pt x="12824" y="15478"/>
                </a:cubicBezTo>
                <a:cubicBezTo>
                  <a:pt x="12805" y="15593"/>
                  <a:pt x="12771" y="15710"/>
                  <a:pt x="12750" y="15825"/>
                </a:cubicBezTo>
                <a:cubicBezTo>
                  <a:pt x="12750" y="15833"/>
                  <a:pt x="12750" y="15842"/>
                  <a:pt x="12750" y="15850"/>
                </a:cubicBezTo>
              </a:path>
              <a:path w="969" h="1167">
                <a:moveTo>
                  <a:pt x="12328" y="16024"/>
                </a:moveTo>
                <a:cubicBezTo>
                  <a:pt x="12478" y="16024"/>
                  <a:pt x="13031" y="15950"/>
                  <a:pt x="13097" y="16049"/>
                </a:cubicBezTo>
              </a:path>
              <a:path w="969" h="1167">
                <a:moveTo>
                  <a:pt x="12378" y="16222"/>
                </a:moveTo>
                <a:cubicBezTo>
                  <a:pt x="12304" y="16345"/>
                  <a:pt x="12168" y="16508"/>
                  <a:pt x="12129" y="16644"/>
                </a:cubicBezTo>
                <a:cubicBezTo>
                  <a:pt x="12154" y="16644"/>
                  <a:pt x="12162" y="16644"/>
                  <a:pt x="12154" y="16619"/>
                </a:cubicBezTo>
              </a:path>
              <a:path w="969" h="1167">
                <a:moveTo>
                  <a:pt x="12601" y="16297"/>
                </a:moveTo>
                <a:cubicBezTo>
                  <a:pt x="12514" y="16349"/>
                  <a:pt x="12444" y="16491"/>
                  <a:pt x="12402" y="16594"/>
                </a:cubicBezTo>
                <a:cubicBezTo>
                  <a:pt x="12402" y="16602"/>
                  <a:pt x="12402" y="16611"/>
                  <a:pt x="12402" y="16619"/>
                </a:cubicBezTo>
                <a:cubicBezTo>
                  <a:pt x="12547" y="16588"/>
                  <a:pt x="12692" y="16526"/>
                  <a:pt x="12700" y="16346"/>
                </a:cubicBezTo>
                <a:cubicBezTo>
                  <a:pt x="12670" y="16316"/>
                  <a:pt x="12656" y="16305"/>
                  <a:pt x="12626" y="16297"/>
                </a:cubicBezTo>
              </a:path>
              <a:path w="969" h="1167">
                <a:moveTo>
                  <a:pt x="12923" y="16222"/>
                </a:moveTo>
                <a:cubicBezTo>
                  <a:pt x="12907" y="16301"/>
                  <a:pt x="12853" y="16368"/>
                  <a:pt x="12824" y="16446"/>
                </a:cubicBezTo>
                <a:cubicBezTo>
                  <a:pt x="12791" y="16535"/>
                  <a:pt x="12763" y="16641"/>
                  <a:pt x="12898" y="16619"/>
                </a:cubicBezTo>
                <a:cubicBezTo>
                  <a:pt x="13017" y="16600"/>
                  <a:pt x="13068" y="16473"/>
                  <a:pt x="13022" y="16371"/>
                </a:cubicBezTo>
                <a:cubicBezTo>
                  <a:pt x="13007" y="16337"/>
                  <a:pt x="12951" y="16319"/>
                  <a:pt x="12923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A: Write      as a decimal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B: Explain how you determined your answer.  Use what you know about decimals in your explanation.  Use words, numbers, and/or symbols in your explan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00400" y="2057400"/>
          <a:ext cx="4428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57400"/>
                    <a:ext cx="442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251000" y="5759280"/>
            <a:ext cx="792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3497" y="15999"/>
                </a:moveTo>
                <a:cubicBezTo>
                  <a:pt x="3489" y="15999"/>
                  <a:pt x="3481" y="15999"/>
                  <a:pt x="3473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4280" y="4653000"/>
            <a:ext cx="1625760" cy="98280"/>
          </a:xfrm>
          <a:custGeom>
            <a:avLst/>
            <a:gdLst/>
            <a:ahLst/>
            <a:rect l="l" t="t" r="r" b="b"/>
            <a:pathLst>
              <a:path w="4516" h="274">
                <a:moveTo>
                  <a:pt x="3373" y="13122"/>
                </a:moveTo>
                <a:cubicBezTo>
                  <a:pt x="3447" y="13132"/>
                  <a:pt x="3496" y="13150"/>
                  <a:pt x="3572" y="13171"/>
                </a:cubicBezTo>
                <a:cubicBezTo>
                  <a:pt x="3639" y="13190"/>
                  <a:pt x="3698" y="13193"/>
                  <a:pt x="3770" y="13196"/>
                </a:cubicBezTo>
                <a:cubicBezTo>
                  <a:pt x="4000" y="13205"/>
                  <a:pt x="4215" y="13168"/>
                  <a:pt x="4440" y="13146"/>
                </a:cubicBezTo>
                <a:cubicBezTo>
                  <a:pt x="4529" y="13137"/>
                  <a:pt x="4603" y="13116"/>
                  <a:pt x="4688" y="13097"/>
                </a:cubicBezTo>
                <a:cubicBezTo>
                  <a:pt x="4847" y="13061"/>
                  <a:pt x="4997" y="13011"/>
                  <a:pt x="5159" y="12998"/>
                </a:cubicBezTo>
                <a:cubicBezTo>
                  <a:pt x="5470" y="12973"/>
                  <a:pt x="5791" y="12993"/>
                  <a:pt x="6102" y="12973"/>
                </a:cubicBezTo>
                <a:cubicBezTo>
                  <a:pt x="6326" y="12959"/>
                  <a:pt x="6546" y="12948"/>
                  <a:pt x="6772" y="12948"/>
                </a:cubicBezTo>
                <a:cubicBezTo>
                  <a:pt x="7079" y="12948"/>
                  <a:pt x="7386" y="12947"/>
                  <a:pt x="7689" y="12923"/>
                </a:cubicBezTo>
                <a:cubicBezTo>
                  <a:pt x="7753" y="12918"/>
                  <a:pt x="7823" y="12923"/>
                  <a:pt x="788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10-05T20:13:42Z</dcterms:modified>
  <cp:revision>51</cp:revision>
  <dc:subject/>
  <dc:title>Unit 1 – Variables and Equations </dc:title>
</cp:coreProperties>
</file>